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2.wmf" ContentType="image/x-wmf"/>
  <Override PartName="/ppt/media/image3.png" ContentType="image/png"/>
  <Override PartName="/ppt/media/image7.jpeg" ContentType="image/jpeg"/>
  <Override PartName="/ppt/media/image20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1E3-4CBC-49B3-94DF-D4EA9825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924-EBEA-4721-8D18-9283FBF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ED6-763A-4FA2-8C02-348F96E4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8C1-C942-4BE9-B0EE-BE1D1BD1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2AB-DC0B-4160-A539-43EDCA1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C8C-5E60-42EA-BFB7-3827B179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32F-CC34-4AE0-AC63-9A11E9C7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30D-280A-4A61-BD27-03A4292C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759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238-47CA-488F-BC55-FD8948C8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01F-2103-4D7C-ADBC-BE699D9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EBF-B0B4-448D-8AE1-E70C3C20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4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25C-C652-4278-9876-A5750A5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F2B-8610-42E9-B1F8-2C94F4A70E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675240" y="2538360"/>
            <a:ext cx="9144000" cy="360"/>
            <a:chOff x="3675240" y="2538360"/>
            <a:chExt cx="9144000" cy="360"/>
          </a:xfrm>
        </p:grpSpPr>
        <p:sp>
          <p:nvSpPr>
            <p:cNvPr id="7" name="Rectangle 8"/>
            <p:cNvSpPr/>
            <p:nvPr/>
          </p:nvSpPr>
          <p:spPr>
            <a:xfrm>
              <a:off x="3675240" y="2538360"/>
              <a:ext cx="9144000" cy="360"/>
            </a:xfrm>
            <a:prstGeom prst="rect">
              <a:avLst/>
            </a:prstGeom>
            <a:solidFill>
              <a:srgbClr val="d4d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3675240" y="2538360"/>
              <a:ext cx="9144000" cy="360"/>
            </a:xfrm>
            <a:prstGeom prst="rect">
              <a:avLst/>
            </a:prstGeom>
            <a:solidFill>
              <a:srgbClr val="d4d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0" y="6781680"/>
            <a:ext cx="9144000" cy="8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5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88A-E389-4BFB-A3D1-BA8BEFE5E7A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0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"/>
          <p:cNvPicPr/>
          <p:nvPr/>
        </p:nvPicPr>
        <p:blipFill>
          <a:blip r:embed="rId2"/>
          <a:stretch/>
        </p:blipFill>
        <p:spPr>
          <a:xfrm>
            <a:off x="0" y="6781680"/>
            <a:ext cx="9144000" cy="82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22222222222"/>
          <p:cNvPicPr/>
          <p:nvPr/>
        </p:nvPicPr>
        <p:blipFill>
          <a:blip r:embed="rId3"/>
          <a:stretch/>
        </p:blipFill>
        <p:spPr>
          <a:xfrm>
            <a:off x="8299440" y="533520"/>
            <a:ext cx="623880" cy="14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6"/>
          <p:cNvSpPr/>
          <p:nvPr/>
        </p:nvSpPr>
        <p:spPr>
          <a:xfrm>
            <a:off x="7740720" y="652464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fld id="{981F053A-3FF7-4C7C-8DC6-77EACD38FC3C}" type="slidenum"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7" descr="에트리 30주년 엠블렘"/>
          <p:cNvPicPr/>
          <p:nvPr/>
        </p:nvPicPr>
        <p:blipFill>
          <a:blip r:embed="rId4"/>
          <a:stretch/>
        </p:blipFill>
        <p:spPr>
          <a:xfrm>
            <a:off x="8575560" y="0"/>
            <a:ext cx="530280" cy="54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8"/>
          <p:cNvSpPr/>
          <p:nvPr/>
        </p:nvSpPr>
        <p:spPr>
          <a:xfrm>
            <a:off x="0" y="3716280"/>
            <a:ext cx="9144000" cy="3067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0" y="0"/>
            <a:ext cx="9144000" cy="1933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5"/>
          <a:stretch/>
        </p:blipFill>
        <p:spPr>
          <a:xfrm>
            <a:off x="0" y="1628640"/>
            <a:ext cx="9172440" cy="381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5"/>
          <p:cNvSpPr/>
          <p:nvPr/>
        </p:nvSpPr>
        <p:spPr>
          <a:xfrm>
            <a:off x="468360" y="2421000"/>
            <a:ext cx="849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가는각진제목체"/>
              </a:rPr>
              <a:t>Mobile Research Activites of E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2" descr=""/>
          <p:cNvPicPr/>
          <p:nvPr/>
        </p:nvPicPr>
        <p:blipFill>
          <a:blip r:embed="rId6"/>
          <a:stretch/>
        </p:blipFill>
        <p:spPr>
          <a:xfrm>
            <a:off x="0" y="1989000"/>
            <a:ext cx="914400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3"/>
          <p:cNvGrpSpPr/>
          <p:nvPr/>
        </p:nvGrpSpPr>
        <p:grpSpPr>
          <a:xfrm>
            <a:off x="162000" y="981000"/>
            <a:ext cx="8982000" cy="669960"/>
            <a:chOff x="162000" y="981000"/>
            <a:chExt cx="8982000" cy="669960"/>
          </a:xfrm>
        </p:grpSpPr>
        <p:pic>
          <p:nvPicPr>
            <p:cNvPr id="59" name="Picture 84" descr="j0302963"/>
            <p:cNvPicPr/>
            <p:nvPr/>
          </p:nvPicPr>
          <p:blipFill>
            <a:blip r:embed="rId7"/>
            <a:stretch/>
          </p:blipFill>
          <p:spPr>
            <a:xfrm>
              <a:off x="162000" y="981000"/>
              <a:ext cx="8856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85" descr="j0149062"/>
            <p:cNvPicPr/>
            <p:nvPr/>
          </p:nvPicPr>
          <p:blipFill>
            <a:blip r:embed="rId8"/>
            <a:stretch/>
          </p:blipFill>
          <p:spPr>
            <a:xfrm>
              <a:off x="1063800" y="981000"/>
              <a:ext cx="4348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86" descr="j0216001"/>
            <p:cNvPicPr/>
            <p:nvPr/>
          </p:nvPicPr>
          <p:blipFill>
            <a:blip r:embed="rId9"/>
            <a:stretch/>
          </p:blipFill>
          <p:spPr>
            <a:xfrm>
              <a:off x="2178000" y="981000"/>
              <a:ext cx="99396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7" descr="j0386406"/>
            <p:cNvPicPr/>
            <p:nvPr/>
          </p:nvPicPr>
          <p:blipFill>
            <a:blip r:embed="rId10"/>
            <a:stretch/>
          </p:blipFill>
          <p:spPr>
            <a:xfrm>
              <a:off x="1514520" y="981000"/>
              <a:ext cx="6462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8" descr="j0149053"/>
            <p:cNvPicPr/>
            <p:nvPr/>
          </p:nvPicPr>
          <p:blipFill>
            <a:blip r:embed="rId11"/>
            <a:stretch/>
          </p:blipFill>
          <p:spPr>
            <a:xfrm>
              <a:off x="3187800" y="981000"/>
              <a:ext cx="99360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89" descr="j0149054"/>
            <p:cNvPicPr/>
            <p:nvPr/>
          </p:nvPicPr>
          <p:blipFill>
            <a:blip r:embed="rId12"/>
            <a:stretch/>
          </p:blipFill>
          <p:spPr>
            <a:xfrm>
              <a:off x="4199040" y="981000"/>
              <a:ext cx="99540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0" descr="j0316505"/>
            <p:cNvPicPr/>
            <p:nvPr/>
          </p:nvPicPr>
          <p:blipFill>
            <a:blip r:embed="rId13"/>
            <a:stretch/>
          </p:blipFill>
          <p:spPr>
            <a:xfrm>
              <a:off x="5210280" y="981000"/>
              <a:ext cx="99360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91" descr="j0386250"/>
            <p:cNvPicPr/>
            <p:nvPr/>
          </p:nvPicPr>
          <p:blipFill>
            <a:blip r:embed="rId14"/>
            <a:stretch/>
          </p:blipFill>
          <p:spPr>
            <a:xfrm>
              <a:off x="6221520" y="981000"/>
              <a:ext cx="99540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2" descr="j0386260"/>
            <p:cNvPicPr/>
            <p:nvPr/>
          </p:nvPicPr>
          <p:blipFill>
            <a:blip r:embed="rId15"/>
            <a:stretch/>
          </p:blipFill>
          <p:spPr>
            <a:xfrm>
              <a:off x="7232760" y="981000"/>
              <a:ext cx="99360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3" descr="j0227721"/>
            <p:cNvPicPr/>
            <p:nvPr/>
          </p:nvPicPr>
          <p:blipFill>
            <a:blip r:embed="rId16"/>
            <a:stretch/>
          </p:blipFill>
          <p:spPr>
            <a:xfrm>
              <a:off x="8244000" y="981000"/>
              <a:ext cx="90000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760" y="19886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Times New Roman"/>
              </a:rPr>
              <a:t>Proposal to Video Parameter Set and its Exten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cc"/>
                </a:solidFill>
                <a:latin typeface="Times New Roman"/>
              </a:rPr>
              <a:t>K0228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ruong, Cong Thang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굴림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layer_id as priority_id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cc"/>
                </a:solidFill>
                <a:latin typeface="Times New Roman"/>
              </a:rPr>
              <a:t>Default &amp; specific dependenci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cc"/>
                </a:solidFill>
                <a:latin typeface="Times New Roman"/>
              </a:rPr>
              <a:t>Use of dimension_typ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cc"/>
                </a:solidFill>
                <a:latin typeface="Times New Roman"/>
              </a:rPr>
              <a:t>Additional dimension typ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riority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egion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433-85EA-443C-84A2-4BA2C1D9B05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iority_flag in V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DC2-0C83-40C9-9E62-81AFE08C58D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40480" cy="2347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371600" y="3809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ority_flag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equal to 1 indicates that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_zero_6bits element (or some bits of this element) of the NAL unit header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 be used as priority_id element of SVC specif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ault &amp; specific depend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8075-4860-4EE6-9211-8CAEBD08197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566640" y="758880"/>
            <a:ext cx="7925040" cy="3203640"/>
          </a:xfrm>
          <a:prstGeom prst="rect">
            <a:avLst/>
          </a:prstGeom>
          <a:ln w="0">
            <a:noFill/>
          </a:ln>
        </p:spPr>
      </p:pic>
      <p:sp>
        <p:nvSpPr>
          <p:cNvPr id="81" name="Line Callout 2 3"/>
          <p:cNvSpPr/>
          <p:nvPr/>
        </p:nvSpPr>
        <p:spPr>
          <a:xfrm flipH="1">
            <a:off x="227880" y="3962520"/>
            <a:ext cx="2438280" cy="1447560"/>
          </a:xfrm>
          <a:prstGeom prst="borderCallout2">
            <a:avLst>
              <a:gd name="adj1" fmla="val 18750"/>
              <a:gd name="adj2" fmla="val -8333"/>
              <a:gd name="adj3" fmla="val 14898"/>
              <a:gd name="adj4" fmla="val -8893"/>
              <a:gd name="adj5" fmla="val -32106"/>
              <a:gd name="adj6" fmla="val -14861"/>
            </a:avLst>
          </a:pr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wo dimensions with default 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No specific dependencies are need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Callout 2 71"/>
          <p:cNvSpPr/>
          <p:nvPr/>
        </p:nvSpPr>
        <p:spPr>
          <a:xfrm>
            <a:off x="6248520" y="3809880"/>
            <a:ext cx="2666880" cy="1600200"/>
          </a:xfrm>
          <a:prstGeom prst="borderCallout2">
            <a:avLst>
              <a:gd name="adj1" fmla="val 18750"/>
              <a:gd name="adj2" fmla="val -8333"/>
              <a:gd name="adj3" fmla="val 14569"/>
              <a:gd name="adj4" fmla="val -9805"/>
              <a:gd name="adj5" fmla="val -24550"/>
              <a:gd name="adj6" fmla="val -24462"/>
            </a:avLst>
          </a:pr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One dimension with default 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wo specific dependencies are describ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457200" y="1095480"/>
            <a:ext cx="6107040" cy="5553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fault &amp; specific dependenc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C60-159C-46C6-9EED-02EC5CE741D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Callout 2 7"/>
          <p:cNvSpPr/>
          <p:nvPr/>
        </p:nvSpPr>
        <p:spPr>
          <a:xfrm>
            <a:off x="4849920" y="1981080"/>
            <a:ext cx="3809880" cy="800280"/>
          </a:xfrm>
          <a:prstGeom prst="borderCallout2">
            <a:avLst>
              <a:gd name="adj1" fmla="val 18750"/>
              <a:gd name="adj2" fmla="val -8333"/>
              <a:gd name="adj3" fmla="val -8462"/>
              <a:gd name="adj4" fmla="val -16097"/>
              <a:gd name="adj5" fmla="val -9134"/>
              <a:gd name="adj6" fmla="val -62759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_dimensions_minus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us 1 specifies the number of scalability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Callout 2 8"/>
          <p:cNvSpPr/>
          <p:nvPr/>
        </p:nvSpPr>
        <p:spPr>
          <a:xfrm>
            <a:off x="4849920" y="3124080"/>
            <a:ext cx="4294080" cy="1371600"/>
          </a:xfrm>
          <a:prstGeom prst="borderCallout2">
            <a:avLst>
              <a:gd name="adj1" fmla="val 18750"/>
              <a:gd name="adj2" fmla="val -8333"/>
              <a:gd name="adj3" fmla="val -8462"/>
              <a:gd name="adj4" fmla="val -16097"/>
              <a:gd name="adj5" fmla="val -38384"/>
              <a:gd name="adj6" fmla="val -48467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ault_dependency_flag[i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fies that the scalability dimension has default dependency. In this dimension, a higher layer (e.g. with dimension_id = n) will directly depend on the next lower layer (e.g. with dimension_id = n – 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Callout 2 9"/>
          <p:cNvSpPr/>
          <p:nvPr/>
        </p:nvSpPr>
        <p:spPr>
          <a:xfrm>
            <a:off x="4670280" y="4648320"/>
            <a:ext cx="4168800" cy="914400"/>
          </a:xfrm>
          <a:prstGeom prst="borderCallout2">
            <a:avLst>
              <a:gd name="adj1" fmla="val 18750"/>
              <a:gd name="adj2" fmla="val -8333"/>
              <a:gd name="adj3" fmla="val 17388"/>
              <a:gd name="adj4" fmla="val -14384"/>
              <a:gd name="adj5" fmla="val 30490"/>
              <a:gd name="adj6" fmla="val -43199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fic_dependency_fl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qual to 1 indicates that there are direct dependences/references which are specifically described for this lay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 of </a:t>
            </a: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dimension_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E67-FBF6-4F9D-AA78-CB37FC21660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582480" y="1100160"/>
            <a:ext cx="6172200" cy="5381640"/>
          </a:xfrm>
          <a:prstGeom prst="rect">
            <a:avLst/>
          </a:prstGeom>
          <a:ln w="0">
            <a:noFill/>
          </a:ln>
        </p:spPr>
      </p:pic>
      <p:sp>
        <p:nvSpPr>
          <p:cNvPr id="92" name="Line Callout 2 5"/>
          <p:cNvSpPr/>
          <p:nvPr/>
        </p:nvSpPr>
        <p:spPr>
          <a:xfrm>
            <a:off x="4849920" y="3124080"/>
            <a:ext cx="4294080" cy="1371600"/>
          </a:xfrm>
          <a:prstGeom prst="borderCallout2">
            <a:avLst>
              <a:gd name="adj1" fmla="val 18750"/>
              <a:gd name="adj2" fmla="val -8333"/>
              <a:gd name="adj3" fmla="val 20902"/>
              <a:gd name="adj4" fmla="val -16347"/>
              <a:gd name="adj5" fmla="val 27486"/>
              <a:gd name="adj6" fmla="val -43143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ault_dependency_flag[i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fies that the scalability dimension has default dependency. In this dimension, a higher layer (e.g. with dimension_id = n) will directly depend on the next lower layer (e.g. with dimension_id = n – 1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Callout 2 6"/>
          <p:cNvSpPr/>
          <p:nvPr/>
        </p:nvSpPr>
        <p:spPr>
          <a:xfrm>
            <a:off x="4670280" y="4648320"/>
            <a:ext cx="4168800" cy="914400"/>
          </a:xfrm>
          <a:prstGeom prst="borderCallout2">
            <a:avLst>
              <a:gd name="adj1" fmla="val 18750"/>
              <a:gd name="adj2" fmla="val -8333"/>
              <a:gd name="adj3" fmla="val 17388"/>
              <a:gd name="adj4" fmla="val -14384"/>
              <a:gd name="adj5" fmla="val 9064"/>
              <a:gd name="adj6" fmla="val -39023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fic_dependency_fla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qual to 1 indicates that there are direct dependences/references which are specifically described for this lay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New dimension typ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8342-8789-47E2-A63F-508CBC2F733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90520" y="914400"/>
            <a:ext cx="82328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819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d0d0d"/>
                </a:solidFill>
                <a:latin typeface="Times New Roman"/>
              </a:rPr>
              <a:t>Q &amp; 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0866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1A59-F806-4319-B816-442B1F28AFB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8:41:44Z</dcterms:created>
  <dc:creator>Truong Cong Thang</dc:creator>
  <dc:description/>
  <dc:language>en-US</dc:language>
  <cp:lastModifiedBy>Admin</cp:lastModifiedBy>
  <dcterms:modified xsi:type="dcterms:W3CDTF">2012-10-10T22:43:06Z</dcterms:modified>
  <cp:revision>2428</cp:revision>
  <dc:subject/>
  <dc:title>Spatial Scalability of Multiple ROIs in Surveillance Video</dc:title>
</cp:coreProperties>
</file>