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7FCD14-CF24-4D29-9CEB-B001E407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4E86F7-CA43-4988-95B5-A0E176765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4293D5-E15D-4091-B422-7C09067F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0EC974-371A-4727-A91D-31C63E59D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181D83-4060-43B7-A3C8-8F7A6830D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0ED56E-9A88-4315-B2BA-71235072D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412022-401A-49D6-9782-8D894E578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66375D-9D83-4997-A1FD-51BA11C21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20D-C2E1-4ADB-9F73-A9C59B6F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D86-737C-458B-A73D-D71B71D0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FFD-2159-4793-8976-6D1EFE74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28F-9CCE-4F21-B3E3-E0677E2B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0AD-A349-40C6-8C7A-A185B0A6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11E-E3A6-40C9-9306-9148D7BD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46D-F226-4A71-8130-09E77323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548-53D7-4C7E-A534-107A8856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7DD-56F3-4110-9EBC-972F4517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294-A093-41B8-AEEB-1FE5A0F7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981-F877-4FD4-AAA3-D850CD84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6A8-9F0D-41BA-88E0-BFE5C34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C692-0651-4D0B-8916-A99EE10604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0225: On DPB Exte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is Kerofsky, Sachin Deshp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F77F-FD06-45CA-B3B1-6F74E89935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HEVC design includes a decoded picture buffer (DPB) for holding pictures for reference and reorder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value of MaxDpbSize influences memory needs of a decoder and is defined through level parame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iven a maximum DPB size parameter (MaxDpbPicBuf), maximum luma picture size (MaxLumaPS), and size of a picture in the current sequence (PicSizeInSamplesY), the maximum number of reference pictures supported (MaxDpbSize) is determ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urrent calculation in HEVC Draft 8 for MaxDpbSize does not account for different bit-depth or chroma subsampling other than 8-bit 4:2: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s proposal describes extending the current design to support higher bit-depths, and alternate chroma subsampling form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proposed MaxDpbSize calculation accounts for memory use due to bit-depth and/or chroma compon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B694-11B7-49D3-9B3D-0E4D80CF61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MaxDpbSize Calculation – Annex 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ps_max_dec_pic_buffering[ HighestTid ] &lt;= MaxDpbSize, where MaxDpbSize is derived as specified by the following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f ( PicSizeInSamplesY &lt;= ( MaxLumaPS &gt;&gt; 2 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axDpbSize = Min( 4 * MaxDpbPicBuf, 16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se if ( PicSizeInSamplesY &lt;= ( MaxLumaPS &gt;&gt; 1 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axDpbSize = Min( 2 * MaxDpbPicBuf, 16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se if ( PicSizeInSamplesY &lt;= ( MaxLumaPS &lt;&lt; 1) / 3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axDpbSize = Min( (3 * MaxDpbPicBuf) &gt;&gt; 1, 16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se if ( PicSizeInSamplesY &lt;= ( ( 3 * MaxLumaPS ) &gt;&gt; 2 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axDpbSize = Min( (4 * MaxDpbPicBuf) / 3,  16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axDpbSize = MaxDpbPicB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ere MaxLumaPS is specified in Table A 1 and MaxDpbPicBuf is equal to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69C4-41A9-474A-B26D-62E9BB04C3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228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existing process for computing MaxDpbSize is extended by introducing scaling factors which account for bit-depth and chroma subsampling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se factors are designed to equal 1 for 8-bit samples and 4:2:0 chroma subsampling and hence agree with the existing calculation of MaxDpbSize for 4:2:0, 8 bits per chann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Approach1 (For the byte aligned case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bdY = 8*ceil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itDepth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¸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8), bdCb = 8*ceil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itDepth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¸8), 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bdCr = 8*ceil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itDepth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¸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8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Approach 2 (For the packed cas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bdY=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itDepth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, bdCb=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itDepth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, bdCr=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BitDepth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ff"/>
                </a:solidFill>
                <a:latin typeface="Arial"/>
              </a:rPr>
              <a:t>The scale factors for Y, Cb, Cr components factor with respect to 4:2:0 subsampling are sY, sCB, sC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4EB7-8900-4BEA-9E7E-F72077C25D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rcRect l="34574" t="0" r="34574" b="0"/>
          <a:stretch/>
        </p:blipFill>
        <p:spPr>
          <a:xfrm>
            <a:off x="3048120" y="4343400"/>
            <a:ext cx="18763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228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An overall scale factor is computed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sF=((4*sY*bdY+sCb*bdCb+sCr*bdCy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÷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 (6*8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ps_max_dec_pic_buffering[ HighestTid ] &lt;= MaxDpbSize, where MaxDpbSize is derived as specified by the following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f ( PicSizeInSamplesY &lt;= ( MaxLumaPS &gt;&gt; 2 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axDpbSize = Min( 4 * MaxDpbPicBuf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/sF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, 16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se if ( PicSizeInSamplesY &lt;= ( MaxLumaPS &gt;&gt; 1 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axDpbSize = Min( 2 * MaxDpbPicBuf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/sF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, 16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se if ( PicSizeInSamplesY &lt;= ( MaxLumaPS &lt;&lt; 1) / 3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axDpbSize = Min( (3 * MaxDpbPicBuf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/sF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) &gt;&gt; 1, 16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se if ( PicSizeInSamplesY &lt;= ( ( 3 * MaxLumaPS ) &gt;&gt; 2 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axDpbSize = Min( (4 * MaxDpbPicBuf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/sF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) / 3,  16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axDpbSize = MaxDpbPicBuf</a:t>
            </a:r>
            <a:r>
              <a:rPr b="0" lang="en-CA" sz="1600" spc="-1" strike="noStrike">
                <a:solidFill>
                  <a:srgbClr val="0000ff"/>
                </a:solidFill>
                <a:latin typeface="Arial"/>
              </a:rPr>
              <a:t>/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ere MaxLumaPS is specified in Table A 1 and MaxDpbPicBuf is equal to 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B5A0-7389-4411-A00B-4EA7E7D8EC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28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FEE2-F106-4324-88CC-28BF06F3F1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4600" y="1371600"/>
            <a:ext cx="8242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228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85EC-0DA8-4D10-B383-F5AA68B4A8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30360" y="984240"/>
            <a:ext cx="60832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urrent calculation in HEVC Draft 8 for MaxDpbSize assumes 8-bit 4:2:0 chroma subsamp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is proposal describes extending the current design to support higher bit-depths, and alternate chroma subsampling forma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the proposed approach in HEV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8522-57CB-4A43-B6C6-8233A947FB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22:50:54Z</dcterms:created>
  <dc:creator>lkerofsky</dc:creator>
  <dc:description/>
  <dc:language>en-US</dc:language>
  <cp:lastModifiedBy>Sachin Deshpande   </cp:lastModifiedBy>
  <dcterms:modified xsi:type="dcterms:W3CDTF">2012-10-04T23:37:42Z</dcterms:modified>
  <cp:revision>1127</cp:revision>
  <dc:subject/>
  <dc:title>Slide 1</dc:title>
</cp:coreProperties>
</file>