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AC9BCC-9368-40BC-95BE-7382721838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7E550B-F9AF-469D-ACA5-982DABEE8E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9EF01B-95FD-4B36-8A12-4DAFE2ADEA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E4869B-FFC9-4FD0-AE30-66F75880A0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3BC150-0D11-4099-964B-CD273B4F2C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DEF1E-7688-4E15-90C3-2EA81AA839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51630-4245-44A3-9E4A-0E73E09FB3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B07402-EDEC-440E-846C-9EC23DA6F7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61898C-D25A-4C65-9C32-243BFE00A7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7BE88D-DE5D-4129-83D6-28A72135F7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BF94D-9EF6-49B0-98ED-7ECB30AED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53574-E943-4C68-9124-126D98CD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B28C3-F3BC-48F4-AD67-FD07CA6D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658B3-D293-4EE2-8408-F739ED909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BF08-A0FD-4D17-9166-3B81A1623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FEBB-E692-4555-BE9C-22C540E40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5E81-C864-4C1E-BCBA-8AD94A4F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52B32-0EA7-42E7-BB54-D1E8E3458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44500-12E6-40E0-8EDA-ED0C66C24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A1D2-AD79-4B05-857E-EB22D93B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8343-07AD-4CFB-9CED-2E422BF9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9CCA-585E-4EB5-B46A-04AEC56F9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2865-0578-4F43-83F0-DB5F800EA5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0223: On Video Parameter Set</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5BF7-B59A-468B-9E93-7F33A2D81B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95"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proposes approaches for signaling scalability information in video parameter set about the nuh_reserved_zero_6bits/ layer_id_plus1 syntax element in the NAL unit header. We propose to adopt one of the proposed approaches.</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a:t>
            </a:r>
            <a:r>
              <a:rPr b="0" lang="en-CA" sz="2000" spc="-1" strike="noStrike">
                <a:solidFill>
                  <a:srgbClr val="000000"/>
                </a:solidFill>
                <a:latin typeface="Arial"/>
              </a:rPr>
              <a:t>the document proposes signalling a different syntax element in place of nuh_temporal_id_plus1 syntax element for VPS NAL unit type. We propose to adopt this in the base specification of HEVC.</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8C40-FAC6-4D8E-A8D1-699F67181D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uture extensions of HEVC, the nuh_reserved_zero_6bits in the NAL unit header are anticipated to be used as a layer ID with VPS signaling information that identifies the meaning of those bits.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evious meeting various proposals for signaling information about these bits were proposed and were categorized into so called Approach1 and Approach 2 categori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proposes method for signaling scalability information in video parameter set about the nuh_reserved_zero_6bits in the NAL unit header.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 and semantics are proposed which are applicable to both Approach1 and Approach2 categories. It is asserted that the proposed approach overcomes drawbacks of the existing approaches and enhances the merits of them.</a:t>
            </a:r>
            <a:r>
              <a:rPr b="0" lang="en-C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 additional separate aspect of this document proposes signalling a different syntax element in place of nuh_temporal_id_plus1 syntax element for VPS NAL unit type.</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AFB1-70B9-4C39-8753-7E4BEBCFEB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A</a:t>
            </a:r>
            <a:endParaRPr b="1" lang="en-US" sz="2400" spc="-1" strike="noStrike">
              <a:solidFill>
                <a:srgbClr val="ffffff"/>
              </a:solidFill>
              <a:latin typeface="Arial"/>
            </a:endParaRPr>
          </a:p>
        </p:txBody>
      </p:sp>
      <p:sp>
        <p:nvSpPr>
          <p:cNvPr id="64"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comes the limitations of current approach 2 method which is only able to signal certain combinations of scalability.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 particular </a:t>
            </a:r>
            <a:r>
              <a:rPr b="0" lang="en-US" sz="1400" spc="-1" strike="noStrike">
                <a:solidFill>
                  <a:srgbClr val="000000"/>
                </a:solidFill>
                <a:latin typeface="Arial"/>
              </a:rPr>
              <a:t>Approach2 can only signal one of fixed scalability dimensions shown in the table (scalability_type, MaxDim(scalablity_type), Scalability Dimensions) of Approach2. </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pose signaling a scalability_map value for each of the bits in the layer_id_plus1/ nuh_reserved_zero_6bits syntax elemen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alability_map allows signaling any combination of scalability dimensions. Thus our approach is fully configurable.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variant syntax approaches (A1 and A2) are shown below using the scalability_map.</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06E8-B525-4868-8364-3F241C128F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Variant A1</a:t>
            </a:r>
            <a:endParaRPr b="1" lang="en-US" sz="2400" spc="-1" strike="noStrike">
              <a:solidFill>
                <a:srgbClr val="ffffff"/>
              </a:solidFill>
              <a:latin typeface="Arial"/>
            </a:endParaRPr>
          </a:p>
        </p:txBody>
      </p:sp>
      <p:sp>
        <p:nvSpPr>
          <p:cNvPr id="67" name=""/>
          <p:cNvSpPr txBox="1"/>
          <p:nvPr/>
        </p:nvSpPr>
        <p:spPr>
          <a:xfrm>
            <a:off x="228240" y="1219320"/>
            <a:ext cx="8458200" cy="4906800"/>
          </a:xfrm>
          <a:prstGeom prst="rect">
            <a:avLst/>
          </a:prstGeom>
          <a:noFill/>
          <a:ln w="0">
            <a:noFill/>
          </a:ln>
        </p:spPr>
        <p:txBody>
          <a:bodyPr anchor="t">
            <a:normAutofit fontScale="92000"/>
          </a:bodyPr>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_map[i]</a:t>
            </a:r>
            <a:r>
              <a:rPr b="0" lang="en-US" sz="1800" spc="-1" strike="noStrike">
                <a:solidFill>
                  <a:srgbClr val="000000"/>
                </a:solidFill>
                <a:latin typeface="Arial"/>
              </a:rPr>
              <a:t> specifies the scalability type for each bit in the layer_id_plus1/ nuh_reserved_zero_6bits. max_num_layers_minus1_bits</a:t>
            </a:r>
            <a:r>
              <a:rPr b="1" lang="en-US" sz="1800" spc="-1" strike="noStrike">
                <a:solidFill>
                  <a:srgbClr val="000000"/>
                </a:solidFill>
                <a:latin typeface="Arial"/>
              </a:rPr>
              <a:t> </a:t>
            </a:r>
            <a:r>
              <a:rPr b="0" lang="en-US" sz="1800" spc="-1" strike="noStrike">
                <a:solidFill>
                  <a:srgbClr val="000000"/>
                </a:solidFill>
                <a:latin typeface="Arial"/>
              </a:rPr>
              <a:t>is the number of bits used for layer_id_plus1/ nuh_reserved_zero_6bits syntax element. The scalability map for all the bits together specifies the scalability in use in the coded video sequence. The actual value of the identifier for each of the scalability types is signaled through those corresponding bits in the layer_id_plus1 (nuh_reserved_zero_6bits) field in the NAL unit header. </a:t>
            </a: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8449-259C-4448-B417-7C59BF3493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 descr=""/>
          <p:cNvPicPr/>
          <p:nvPr/>
        </p:nvPicPr>
        <p:blipFill>
          <a:blip r:embed="rId1"/>
          <a:stretch/>
        </p:blipFill>
        <p:spPr>
          <a:xfrm>
            <a:off x="304920" y="990720"/>
            <a:ext cx="6083280" cy="3301920"/>
          </a:xfrm>
          <a:prstGeom prst="rect">
            <a:avLst/>
          </a:prstGeom>
          <a:ln w="0">
            <a:noFill/>
          </a:ln>
        </p:spPr>
      </p:pic>
      <p:pic>
        <p:nvPicPr>
          <p:cNvPr id="70" name="Picture 7" descr=""/>
          <p:cNvPicPr/>
          <p:nvPr/>
        </p:nvPicPr>
        <p:blipFill>
          <a:blip r:embed="rId2"/>
          <a:srcRect l="25555" t="0" r="25555" b="0"/>
          <a:stretch/>
        </p:blipFill>
        <p:spPr>
          <a:xfrm>
            <a:off x="5867280" y="1523880"/>
            <a:ext cx="2975040" cy="224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Variant A2</a:t>
            </a:r>
            <a:endParaRPr b="1" lang="en-US" sz="2400" spc="-1" strike="noStrike">
              <a:solidFill>
                <a:srgbClr val="ffffff"/>
              </a:solidFill>
              <a:latin typeface="Arial"/>
            </a:endParaRPr>
          </a:p>
        </p:txBody>
      </p:sp>
      <p:sp>
        <p:nvSpPr>
          <p:cNvPr id="72" name=""/>
          <p:cNvSpPr txBox="1"/>
          <p:nvPr/>
        </p:nvSpPr>
        <p:spPr>
          <a:xfrm>
            <a:off x="228240" y="1219320"/>
            <a:ext cx="8458200" cy="4906800"/>
          </a:xfrm>
          <a:prstGeom prst="rect">
            <a:avLst/>
          </a:prstGeom>
          <a:noFill/>
          <a:ln w="0">
            <a:noFill/>
          </a:ln>
        </p:spPr>
        <p:txBody>
          <a:bodyPr anchor="t">
            <a:normAutofit fontScale="98000"/>
          </a:bodyPr>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_scalability_dimensions_minus1</a:t>
            </a:r>
            <a:r>
              <a:rPr b="0" lang="en-US" sz="1600" spc="-1" strike="noStrike">
                <a:solidFill>
                  <a:srgbClr val="000000"/>
                </a:solidFill>
                <a:latin typeface="Arial"/>
              </a:rPr>
              <a:t> plus1 indicates number of scalability dimensions signaled through the layer_id_plus1/ nuh_reserved_zero_6bits syntax element.</a:t>
            </a:r>
            <a:endParaRPr b="0" lang="en-US" sz="1600" spc="-1" strike="noStrike">
              <a:solidFill>
                <a:srgbClr val="000000"/>
              </a:solidFill>
              <a:latin typeface="Arial"/>
            </a:endParaRPr>
          </a:p>
          <a:p>
            <a:pPr marL="335880" indent="-3358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ability_map[i] </a:t>
            </a:r>
            <a:r>
              <a:rPr b="0" lang="en-US" sz="1600" spc="-1" strike="noStrike">
                <a:solidFill>
                  <a:srgbClr val="000000"/>
                </a:solidFill>
                <a:latin typeface="Arial"/>
              </a:rPr>
              <a:t>has the same semantics as variant A1.</a:t>
            </a:r>
            <a:endParaRPr b="0" lang="en-US" sz="1600" spc="-1" strike="noStrike">
              <a:solidFill>
                <a:srgbClr val="000000"/>
              </a:solidFill>
              <a:latin typeface="Arial"/>
            </a:endParaRPr>
          </a:p>
          <a:p>
            <a:pPr marL="335880" indent="-3358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_bits_for_scalability_map[i] </a:t>
            </a:r>
            <a:r>
              <a:rPr b="0" lang="en-US" sz="1600" spc="-1" strike="noStrike">
                <a:solidFill>
                  <a:srgbClr val="000000"/>
                </a:solidFill>
                <a:latin typeface="Arial"/>
              </a:rPr>
              <a:t>specifies the length in bits for the i’th scalability dimension. Sum of all num_bits_for_scalability_map[i] for i=0,… num_scalability_dimensions_minus1 is equal to six.</a:t>
            </a:r>
            <a:endParaRPr b="0" lang="en-US" sz="16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EF50-C8CD-40F7-9307-3395E200280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4" name="" descr=""/>
          <p:cNvPicPr/>
          <p:nvPr/>
        </p:nvPicPr>
        <p:blipFill>
          <a:blip r:embed="rId1"/>
          <a:stretch/>
        </p:blipFill>
        <p:spPr>
          <a:xfrm>
            <a:off x="228600" y="914400"/>
            <a:ext cx="6083280" cy="3683160"/>
          </a:xfrm>
          <a:prstGeom prst="rect">
            <a:avLst/>
          </a:prstGeom>
          <a:ln w="0">
            <a:noFill/>
          </a:ln>
        </p:spPr>
      </p:pic>
      <p:pic>
        <p:nvPicPr>
          <p:cNvPr id="75" name="Picture 7" descr=""/>
          <p:cNvPicPr/>
          <p:nvPr/>
        </p:nvPicPr>
        <p:blipFill>
          <a:blip r:embed="rId2"/>
          <a:srcRect l="25555" t="0" r="25555" b="0"/>
          <a:stretch/>
        </p:blipFill>
        <p:spPr>
          <a:xfrm>
            <a:off x="5867280" y="1523880"/>
            <a:ext cx="2975040" cy="22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B</a:t>
            </a:r>
            <a:endParaRPr b="1" lang="en-US" sz="2400" spc="-1" strike="noStrike">
              <a:solidFill>
                <a:srgbClr val="ffffff"/>
              </a:solidFill>
              <a:latin typeface="Arial"/>
            </a:endParaRPr>
          </a:p>
        </p:txBody>
      </p:sp>
      <p:sp>
        <p:nvSpPr>
          <p:cNvPr id="77"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B belongs to the category of “Approach 1”. It enhances and simplifies the existing Approach 1 signaling.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ification is achieved by requiring fewer syntax elements to be signaled.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hancement is achieved by signaling a scalability_mask. It is claimed that the proposed scalability_mask in our approach can be used for quick parsing and easy matching by middle boxes and other entities to quickly identify the layers (layer_id s) that belong to scalability combinations of interest to them.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alability_mask signals types of scalabilities supported for each layer_id value.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calability identifier for the type of scalabilities supported for each layer are signal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CC90-E42A-4B8A-9E6D-EED3B417D4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Variant B</a:t>
            </a:r>
            <a:endParaRPr b="1" lang="en-US" sz="2400" spc="-1" strike="noStrike">
              <a:solidFill>
                <a:srgbClr val="ffffff"/>
              </a:solidFill>
              <a:latin typeface="Arial"/>
            </a:endParaRPr>
          </a:p>
        </p:txBody>
      </p:sp>
      <p:sp>
        <p:nvSpPr>
          <p:cNvPr id="80" name=""/>
          <p:cNvSpPr txBox="1"/>
          <p:nvPr/>
        </p:nvSpPr>
        <p:spPr>
          <a:xfrm>
            <a:off x="228600" y="1066320"/>
            <a:ext cx="8686800" cy="5410440"/>
          </a:xfrm>
          <a:prstGeom prst="rect">
            <a:avLst/>
          </a:prstGeom>
          <a:noFill/>
          <a:ln w="0">
            <a:noFill/>
          </a:ln>
        </p:spPr>
        <p:txBody>
          <a:bodyPr anchor="t">
            <a:normAutofit fontScale="96000"/>
          </a:bodyPr>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_mask</a:t>
            </a:r>
            <a:r>
              <a:rPr b="0" lang="en-US" sz="1400" spc="-1" strike="noStrike">
                <a:solidFill>
                  <a:srgbClr val="000000"/>
                </a:solidFill>
                <a:latin typeface="Arial"/>
              </a:rPr>
              <a:t> signals a pattern of 0 and 1 bits with each bit corresponding to one scalability dimension as indicated by the table below. A value of 1 for a particular scalability dimension indicates that this scalability dimension is present in this layer. A value of 0 for a particular scalability dimension indicates that this scalability dimension is not present in this layer. The actual value of the particular scalability dimension that is present is indicated by the scalable_id[j] value signaled. The values of num_scalability_types[i] is equal to the sum of number of bits in the scalable_mask having value of 1. </a:t>
            </a: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_id</a:t>
            </a:r>
            <a:r>
              <a:rPr b="0" lang="en-US" sz="1400" spc="-1" strike="noStrike">
                <a:solidFill>
                  <a:srgbClr val="000000"/>
                </a:solidFill>
                <a:latin typeface="Arial"/>
              </a:rPr>
              <a:t>[i][j] indicates the j-th scalability dimension’s identifier value for the i’th layer for the type of scalability values that are present as signaled by the scalability_mask value.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me role as dimension_id[i][j] in approach 1)</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nother variant of the above the scalability_mask could be signaled outside the for loop. </a:t>
            </a: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E8D0-6563-43BC-9512-033FC60B99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2" name="Picture 8" descr=""/>
          <p:cNvPicPr/>
          <p:nvPr/>
        </p:nvPicPr>
        <p:blipFill>
          <a:blip r:embed="rId1"/>
          <a:srcRect l="27058" t="0" r="27058" b="0"/>
          <a:stretch/>
        </p:blipFill>
        <p:spPr>
          <a:xfrm>
            <a:off x="6095880" y="1447920"/>
            <a:ext cx="2791080" cy="2476440"/>
          </a:xfrm>
          <a:prstGeom prst="rect">
            <a:avLst/>
          </a:prstGeom>
          <a:ln w="0">
            <a:noFill/>
          </a:ln>
        </p:spPr>
      </p:pic>
      <p:pic>
        <p:nvPicPr>
          <p:cNvPr id="83" name="" descr=""/>
          <p:cNvPicPr/>
          <p:nvPr/>
        </p:nvPicPr>
        <p:blipFill>
          <a:blip r:embed="rId2"/>
          <a:stretch/>
        </p:blipFill>
        <p:spPr>
          <a:xfrm>
            <a:off x="457200" y="838080"/>
            <a:ext cx="5181480" cy="32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sal to use nuh_temporal_id_plus1 bits for VPS NUT</a:t>
            </a:r>
            <a:endParaRPr b="1" lang="en-US" sz="1600" spc="-1" strike="noStrike">
              <a:solidFill>
                <a:srgbClr val="ffffff"/>
              </a:solidFill>
              <a:latin typeface="Arial"/>
            </a:endParaRPr>
          </a:p>
        </p:txBody>
      </p:sp>
      <p:sp>
        <p:nvSpPr>
          <p:cNvPr id="85"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HEVC Draft 8 </a:t>
            </a:r>
            <a:r>
              <a:rPr b="0" lang="en-US" sz="1800" spc="-1" strike="noStrike">
                <a:solidFill>
                  <a:srgbClr val="000000"/>
                </a:solidFill>
                <a:latin typeface="Arial"/>
              </a:rPr>
              <a:t>if nal_unit_type is equal to VPS_NUT then TemporalId shall be equal to 0.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when the NAL Unit Type is VPS_NUT, the syntax element nuh_temporal_id_plus1 has a known value of 001.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instead these three bits in the NAL unit header could be used for signaling other important information which could be useful for middle boxes and other entities parsing NAL unit header.</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variant approaches with proposed syntax and semantics with respect to HEVC Draft 8 are proposed for thi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6C90-FBF6-4F63-9260-99532F306F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sal to use nuh_temporal_id_plus1 bits for VPS NUT</a:t>
            </a:r>
            <a:endParaRPr b="1" lang="en-US" sz="1600" spc="-1" strike="noStrike">
              <a:solidFill>
                <a:srgbClr val="ffffff"/>
              </a:solidFill>
              <a:latin typeface="Arial"/>
            </a:endParaRPr>
          </a:p>
        </p:txBody>
      </p:sp>
      <p:sp>
        <p:nvSpPr>
          <p:cNvPr id="88" name=""/>
          <p:cNvSpPr txBox="1"/>
          <p:nvPr/>
        </p:nvSpPr>
        <p:spPr>
          <a:xfrm>
            <a:off x="6095880" y="914040"/>
            <a:ext cx="2895840" cy="5211720"/>
          </a:xfrm>
          <a:prstGeom prst="rect">
            <a:avLst/>
          </a:prstGeom>
          <a:noFill/>
          <a:ln w="0">
            <a:noFill/>
          </a:ln>
        </p:spPr>
        <p:txBody>
          <a:bodyPr anchor="t">
            <a:normAutofit fontScale="95000"/>
          </a:bodyPr>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s_max_sub_layers_minus1</a:t>
            </a:r>
            <a:r>
              <a:rPr b="0" lang="en-US" sz="1400" spc="-1" strike="noStrike">
                <a:solidFill>
                  <a:srgbClr val="000000"/>
                </a:solidFill>
                <a:latin typeface="Arial"/>
              </a:rPr>
              <a:t>  plus 1 specifies the maximum number of temporal sub-layers that may be present in the bitstream. The value of vps_max_sub_layers_minus1 shall be in the range of 0 to 6, inclusive.</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h_reserved_one_3bits</a:t>
            </a:r>
            <a:r>
              <a:rPr b="0" lang="en-US" sz="1400" spc="-1" strike="noStrike">
                <a:solidFill>
                  <a:srgbClr val="000000"/>
                </a:solidFill>
                <a:latin typeface="Arial"/>
              </a:rPr>
              <a:t> shall be equal to 8 (i.e. each bit shall be equal to 1). Other values of nuh_reserved_one_3bits may be specified in the future by ITU-T | ISO/IEC. Decoders shall ignore (i.e. remove from the bitstream and discard) all NAL units with values of nuh_reserved_one_3bits not equal to 8.</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make reserved value equal to 001 for base spec.</a:t>
            </a:r>
            <a:endParaRPr b="0" lang="en-US" sz="14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24A9-3206-403D-9C78-288A19AB93B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0" name="" descr=""/>
          <p:cNvPicPr/>
          <p:nvPr/>
        </p:nvPicPr>
        <p:blipFill>
          <a:blip r:embed="rId1"/>
          <a:stretch/>
        </p:blipFill>
        <p:spPr>
          <a:xfrm>
            <a:off x="0" y="1143000"/>
            <a:ext cx="6083280" cy="1968480"/>
          </a:xfrm>
          <a:prstGeom prst="rect">
            <a:avLst/>
          </a:prstGeom>
          <a:ln w="0">
            <a:noFill/>
          </a:ln>
        </p:spPr>
      </p:pic>
      <p:pic>
        <p:nvPicPr>
          <p:cNvPr id="91" name="" descr=""/>
          <p:cNvPicPr/>
          <p:nvPr/>
        </p:nvPicPr>
        <p:blipFill>
          <a:blip r:embed="rId2"/>
          <a:stretch/>
        </p:blipFill>
        <p:spPr>
          <a:xfrm>
            <a:off x="88920" y="4038480"/>
            <a:ext cx="6083280" cy="1968480"/>
          </a:xfrm>
          <a:prstGeom prst="rect">
            <a:avLst/>
          </a:prstGeom>
          <a:ln w="0">
            <a:noFill/>
          </a:ln>
        </p:spPr>
      </p:pic>
      <p:sp>
        <p:nvSpPr>
          <p:cNvPr id="92" name="TextBox 6"/>
          <p:cNvSpPr/>
          <p:nvPr/>
        </p:nvSpPr>
        <p:spPr>
          <a:xfrm>
            <a:off x="2097720" y="297180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osal V1</a:t>
            </a:r>
            <a:endParaRPr b="0" lang="en-US" sz="1800" spc="-1" strike="noStrike">
              <a:solidFill>
                <a:srgbClr val="000000"/>
              </a:solidFill>
              <a:latin typeface="Tahoma"/>
            </a:endParaRPr>
          </a:p>
        </p:txBody>
      </p:sp>
      <p:sp>
        <p:nvSpPr>
          <p:cNvPr id="93" name="TextBox 7"/>
          <p:cNvSpPr/>
          <p:nvPr/>
        </p:nvSpPr>
        <p:spPr>
          <a:xfrm>
            <a:off x="2100960" y="579132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osal V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00:53:44Z</dcterms:created>
  <dc:creator>lkerofsky</dc:creator>
  <dc:description/>
  <dc:language>en-US</dc:language>
  <cp:lastModifiedBy>Sachin Deshpande   </cp:lastModifiedBy>
  <dcterms:modified xsi:type="dcterms:W3CDTF">2012-10-16T06:01:04Z</dcterms:modified>
  <cp:revision>1120</cp:revision>
  <dc:subject/>
  <dc:title>Slide 1</dc:title>
</cp:coreProperties>
</file>