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ng" ContentType="image/png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5C434A-DD23-4956-B2AD-B3E1A60E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BE6E23-BEF6-4C58-99C6-DA6B8A751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221F35-3A6B-4DAF-930D-95B48C4E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FD0628-E802-4F28-A9D8-A41B74ED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69BE87-7504-465C-9708-63F4CD2B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4700E6-3C99-4F5C-BAE5-17404C22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8CD49E-F3ED-4DC8-AC8E-28D75B02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6BE-A87B-4B23-A297-AC3C5F1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59F-4E08-4E56-8F95-55A2FCA3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FE4-946C-4142-8093-6A1FF004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EF4-2B5C-43A0-9FA1-57D97A40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4A9-3A1E-4ED0-A353-EB11250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2EB-DE94-4A2B-850E-9B19CCB2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03A-0303-4B76-A5D9-3DF8D065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80F-C12B-403E-A804-40EDB172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4B6-ADE0-4AF1-BD74-BE8A843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55C-A121-457A-AADB-920C3B6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776-6A4B-4C43-8796-C3873CA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76B-E5ED-484E-8026-C6DF1AA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66FA-636D-4BF3-959B-091915AF01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0222: On Reference Picture Set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3AF3-30AA-4301-A34A-837BD34233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C Draft 8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cludes the syntax and semantics for signalling short-term reference picture set (ST-R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nticipated that the future extensions of HEVC such as the scalable extension of HEVC will need to signal additional syntax elements related to the short-term reference picture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n example, information regarding layer_id may need to be signaled in short-term R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proposes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 extension field in the short-term reference picture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field enables extension of the short-term reference picture sets in future extensions of HEV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9DEA-2010-470A-8354-21B86C79C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80820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sserted that the proposed extension mechanism is simpler and cleaner approach when signaling additional syntax elements related to short-term reference picture sets in future extensions of HEV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ST-RPS can be signaled in SPS and/or in slice header. If the additional syntax elements need to be signaled for short-term RPS in future extension of HEVC then using the currently available mechanism in HEVC draft 8, additional syntax needs to be defined in two places: one in sps_extension and another in slice header extension. These two extensions syntax will be different because the slice header extension syntax is defined differently than SPS extension synta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this the technique in this document proposes to define extension field directly inside the short-term reference picture set to provide the future extensibili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the proposed short-term RPS extension mechanism can convey all the syntax elements and extensions related to ST-RPS including (delta_poc elements, used_by_curr_pic elements and as an example layer_id elements) together, which is advantageo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if SPS and/or slice header extension mechanism is used to signal the new ST-RPS extension related syntax elements then a decoder needs to parse many additional syntax elements after parsing short_term_ref_pic_set which includes the short-term RPS related syntax elements defined currently (delta_poc elements, used_by_curr_pic elements) to reach and obtain other necessary short-term RPS syntax elements related to extension (e.g. layer_id elements). This would require the decoder to keep track of num_negative_pics and num_positive_pics for each of the short-term RPS for a total of num_short_term_ref_pic_sets short-term reference picture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961-56BD-4E45-ADF1-BC1EAB8397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– Base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3760" y="914040"/>
            <a:ext cx="33526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_extension_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al to 0 specifies that no rps_extension_data_flag syntax elements are present in the short-term reference picture set RBSP syntax structure. rps_extension_flag shall be equal to 0 in bitstreams conforming to this Specification. The value of 1 for rps_extension_flag is reserved for future use by ITU-T | ISO/IEC. Decoders shall ignore the extension data that follows the value 1 for rps_extension_fla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_extension_leng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s the length of RPS extension data in bytes not including the bits used for signaling rps_extension_length element. The value of rps_extension_length shall be in the range of 0 to 256 inclus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_extension_data_by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have any value. Its value does not affect decoder conformance to profiles specified in this Specif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C8F-1D66-491C-9824-5F3C516F4D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5086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– Extension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05160" y="3246480"/>
            <a:ext cx="38098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_id_s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 i ] specifies the value of layer_id for the i-th reference picture. This value together with the value of delta_poc_s0_minus1[ i ] is used to identify the referenc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_id_s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 i ] specifies the value of layer_id for the i-th reference picture. This value together with the value of delta_poc_s1_minus1[ i ] is used to identify the referenc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D01-B970-44A9-AC32-F16469617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5527800" cy="525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2"/>
          <a:srcRect l="18039" t="0" r="18039" b="8623"/>
          <a:stretch/>
        </p:blipFill>
        <p:spPr>
          <a:xfrm>
            <a:off x="5105520" y="1066680"/>
            <a:ext cx="38890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 Additional Variant – Signaling in S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ly for bit savings for HEVC base specification 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e presence of the proposed extension field in the short-term reference picture set can be conditioned on a flag in the SPS. Syntax and semantics for this are shown belo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ps_extension_present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ual to 0 specifies that no short-term reference picture set extension syntax elements are present in the short-term reference picture set syntax. strps_extension_present_flag  shall be equal to 0 in bitstreams conforming to this Specification. The value of 1 for strps_extension_present_flag is reserved for future use by ITU-T | ISO/I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CC2-D03A-45CE-9508-DCC3F915F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083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ocument proposed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 extension field in the short-term reference picture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field enables extension of the short-term reference picture set in future extensions of HEV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proposed approach in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911-EEF6-4599-A8AA-6B77982ED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0:53:18Z</dcterms:created>
  <dc:creator>lkerofsky</dc:creator>
  <dc:description/>
  <dc:language>en-US</dc:language>
  <cp:lastModifiedBy>Sachin Deshpande   </cp:lastModifiedBy>
  <dcterms:modified xsi:type="dcterms:W3CDTF">2012-10-03T19:29:41Z</dcterms:modified>
  <cp:revision>1121</cp:revision>
  <dc:subject/>
  <dc:title>Slide 1</dc:title>
</cp:coreProperties>
</file>