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AAD47D-1924-4B29-A0F5-550E1899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FFFF27-4FA8-4A0A-862C-3E009A59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9AE357-0652-40C8-9C44-132C98E7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9E2CA1-0394-4C06-A6B7-ADC06CED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306-5A3F-437C-9FFD-1C83AB19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D07-F104-4E82-BFA8-DF5FAA91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E4E-B8C4-490D-9C53-74D37ED3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354-C963-42A3-8679-045604E5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906-FE3B-440A-9A84-808A414C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9BA-4A5B-4B23-8500-8AC38945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6DE-8F7C-4DA3-B933-04394670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E68-307C-4BE6-995E-920CE252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460-19AE-4A82-A6A6-D51B1BE0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A78-718F-415A-97F3-9DC7404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111-5AF9-4395-BADF-E48BD87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482-D66C-416A-9134-4501DCC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1ABC-7F1C-47B9-9AF8-AF5934E112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0221: On Sub-picture Based HRD Buffe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8AD6-7623-4F7B-978D-84C32F60C7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PB in HRD may operate at access unit level or sub-picture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upporting correct HRD behavior and conformance at both access unit level and sub-picture level based on the leaky bucket model of HRD operation the {R,B,F} parameters need to be signaled for both access unit level and for sub-picture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in HEVC draft 8 the initial buffering delay (parameter related to F) is already supported to be signaled separately for access unit level operation and for sub-picture level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 currently in HEVC draft 8 only one CPB size parameter is signaled for each bitrate schedule. This is insufficient to support operation at both access unit level and sub-picture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E919-ABB3-4332-9439-0C4201FC97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ocument proposes syntax elements and semantics to signal a CPB size and a CPB size scale parameter for sub-picture based CPB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parameters are calculated using leaky bucket model of operation for HRD at sub-picture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main advantages of the proposed approach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gnaling of CPB size and CPB size scale parameters for sub-picture based CPB operation allows correctly checking the bitstream conformance including checking that no buffer overflow or underflow occurs when operating at sub-picture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result in requiring a smaller buffer size (for CPB) when HRD is operating at sub-picture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BD8C-2B00-4688-99DE-B0DF1E8366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Syntax &amp; Seman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9E6D-A53D-4C6A-BF13-9796B2CBC0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380880" y="1219320"/>
            <a:ext cx="8460000" cy="4495680"/>
            <a:chOff x="380880" y="1219320"/>
            <a:chExt cx="8460000" cy="44956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323352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3809880" y="1219320"/>
              <a:ext cx="5031000" cy="19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609480" y="5334120"/>
              <a:ext cx="55720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3920040" y="3200400"/>
              <a:ext cx="491904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ument proposed syntax and semantics to signal CPB size related parameters for the operation of CPB at sub-picture lev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the proposed approach in HEV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9D64-7C69-4984-B913-CE6D0CFD44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22:50:54Z</dcterms:created>
  <dc:creator>lkerofsky</dc:creator>
  <dc:description/>
  <dc:language>en-US</dc:language>
  <cp:lastModifiedBy>Sachin Deshpande   </cp:lastModifiedBy>
  <dcterms:modified xsi:type="dcterms:W3CDTF">2012-10-05T20:54:24Z</dcterms:modified>
  <cp:revision>1084</cp:revision>
  <dc:subject/>
  <dc:title>Slide 1</dc:title>
</cp:coreProperties>
</file>