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323342-B9C2-4F83-9DA0-F3D38865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7A842D-ACC9-4B65-B4BF-63B4D842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14B43F-BF06-418A-A38F-ED94943D1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2F43E6-88FE-42EB-A8D5-13318DCF7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300678-9E0B-4024-A52A-33BD91DD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7ED-C795-40D1-AE45-CF8A9E0F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02D-473A-401F-95B0-53E078F2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0FF-26F9-41B6-8D8A-0BD39F98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200-B360-4885-BAD3-71938551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BA6-F0B6-4E87-9F85-746955F0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B15-D845-426D-B7EB-9261DF88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23F-992E-48F5-97EE-BDCA827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72E-12AE-485E-A758-18BFFE6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251-A15F-4C0B-9BC0-5F91209F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4FA-675A-456F-9478-6ECD7C8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C4C-DB6D-4E77-900C-4CE16BD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325-6288-4BF3-8D5F-900522C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ADEF-E408-425D-A5EB-BB35981DF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0219: On Random Access Point Picture Signa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0D2-5D35-46BB-9CCE-C91A551EE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document proposes different alternatives to use nuh_temporal_id_plus1 syntax element bits in the case of RAP pictures. We propose adopting one of the proposed approaches in HEV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document proposes signalling the pic_order_cnt_lsb syntax element for the IDR pictures. We propose to adopt this in HEV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A1B0-B7EA-4565-880E-CFC584BFF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VC Draft 8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en a RAP picture is signalled the syntax element nuh_temporal_id_plus1 is required to be signalled such that TemporalId shall be equal to 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document proposes different alternatives to use this unused syntax element in the case of RAP pi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t is asserted that this is beneficial and does not sacrifice complex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bits in NAL unit header are important due to their location. As such sending information in them which is already known is not usef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us it is proposed to use the available bits to signal more usefu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pose different alternatives to use these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we also propose to signaling pic_order_cnt_lsb syntax element for IDR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E991-95EE-4061-A6E7-441380F75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Approach 1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HEVC Draft 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al_unit_type is in the range of 7 to 12 inclusive it indicates a coded slice of a RAP picture. In this case the TemporalId shall be equal to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ropose to use only a single nal_unit_Type for RAP pictures and then use the 3 bits field in place of nuh_temporal_id_plus1 to signal the RAP NAL unit type as one of 6 RAP picture typ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EB2-4549-46C4-A19E-DB10331948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62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Approach 1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Rectangle 8" descr=""/>
          <p:cNvPicPr/>
          <p:nvPr/>
        </p:nvPicPr>
        <p:blipFill>
          <a:blip r:embed="rId1"/>
          <a:stretch/>
        </p:blipFill>
        <p:spPr>
          <a:xfrm>
            <a:off x="4340160" y="3425760"/>
            <a:ext cx="4578480" cy="298152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1E8-2C74-4BE1-8526-C588D4DA57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733920" cy="537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4725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Approach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stead of signalling TemporalId value using the syntax element nuh_temporal_id_plus1 for RAP pictures, a rap_id value could be signalled. This helps to distinguish between back-to-back IDR pictures. The existing NAL unit types are kept as it is in this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ap_i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dentifies a RAP picture. The values of rap_id in all the slices of a RAP picture shall remain unchanged. When two consecutive access units in decoding order are both RAP access units, the value of rap_ id in the slices of the first such RAP access unit shall differ from the rap_ id in the second such RAP access unit. The value of rap_id shall be in the range of 1 to 7,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EEB-1630-4EF0-80CA-F4D4C21176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626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 Approach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stead of signalling TemporalId value using the syntax element nuh_temporal_id_plus1 for RAP pictures, these 3 bits could be kept as nuh_reserved_one_3bits (or nuh_reserved_zero_3bits) with its use defined by future versions of the standard (e.g. for scalability purpos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uh_reserved_one_3bits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shall be equal to 8 (i.e. each bit shall be equal to 1). Other values of nuh_reserved_zero_3bits may be specified in the future by ITU-T | ISO/IEC. Decoders shall ignore (i.e. remove from the bitstream and discard) all NAL units with values of nuh_reserved_zero_3bits not equal to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B42C-E303-46CD-8CCB-586172C550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8960" y="2444760"/>
            <a:ext cx="5626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mmary of Proposals to Use nuh_temporal_id_plus1 Bits for RAP pi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1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HEVC Draft 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al_unit_type is in the range of 7 to 12 inclusive it indicates a coded slice of a RAP picture. In this case the TemporalId shall be equal to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propose to use only a single nal_unit_Type for RAP pictures and then use the 3 bits field in place of nuh_temporal_id_plus1 to signal the RAP NAL unit type as one of 6 RAP picture typ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stead of signalling TemporalId value using the syntax element nuh_temporal_id_plus1 for RAP pictures, a rap_id value could be signalled. This helps to distinguish between back-to-back IDR pictures. The existing NAL unit types are kept as it is in this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proach 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stead of signalling TemporalId value using the syntax element nuh_temporal_id_plus1 for RAP pictures, these 3 bits could be kept as nuh_reserved_one_3bits (or nuh_reserved_zero_3bits) with its use defined by future versions of the standard (e.g. for scalability purpos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CB78-7B17-45F8-9FCB-B2F91850A4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osal to signal pic_order_cnt_lsb for IDR pi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lso propose to signaling pic_order_cnt_lsb syntax element for IDR pi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urrently for IDR RAP pictures pic_order_cnt_lsb syntax element is not signaled and thus it is inferred to be equal to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first_slice_in_pic_flag is set equal to 1 for the first slice in the picture. For no loss case first_slice_in_pic_flag == 1 serves as a boundary to identify start of the new IDR picture in case IDR pictures are sent back-to-b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owever in the following cases it is not possible to distinguish between slices belonging to back-to-back IDR pictures at the video lay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packets arrive out of order at the deco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the packet containing the first slice of an IDR picture is 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lso when all the pictures of a coded video sequence are signaled by intra coding as IDR pictures (e.g. when using an All Intra profile) all of the pictures have pic_order_cnt_lsb value of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t is asserted that having the flexibility to signal different pic_order_cnt_lsb values is useful in this case for identifying/ tracking a specific IDR pic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VC/ H.264 had idr_pic_id syntax element which provided an identifier which could be used to keep track of the IDR picture and to handle loss resil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lso currently in HEVC BLA picture which is similar to IDR picture in many aspects and has only I slices can signal non-zero value for pic_order_cnt_lsb el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4C9-4854-4593-898C-E8BE65287D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osal to signal pic_order_cnt_lsb for IDR pic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Content Placeholder 2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8467920" cy="521172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F79D-F789-4CC5-AC35-463841E2A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28800" y="1096920"/>
            <a:ext cx="50292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23:28Z</dcterms:created>
  <dc:creator>lkerofsky</dc:creator>
  <dc:description/>
  <dc:language>en-US</dc:language>
  <cp:lastModifiedBy>Sachin Deshpande   </cp:lastModifiedBy>
  <dcterms:modified xsi:type="dcterms:W3CDTF">2012-10-03T19:08:22Z</dcterms:modified>
  <cp:revision>1047</cp:revision>
  <dc:subject/>
  <dc:title>Slide 1</dc:title>
</cp:coreProperties>
</file>