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2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E1B-6343-4B9F-A5FE-FF5FAC9DA1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CF6-4116-4618-B1DD-DCFA026FD0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Users\flibert\Pictures\En tête, pied de page\ATEME header.gif"/>
          <p:cNvPicPr/>
          <p:nvPr/>
        </p:nvPicPr>
        <p:blipFill>
          <a:blip r:embed="rId3"/>
          <a:stretch/>
        </p:blipFill>
        <p:spPr>
          <a:xfrm>
            <a:off x="0" y="0"/>
            <a:ext cx="9180360" cy="1792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2" name="ZoneTexte 1"/>
          <p:cNvSpPr/>
          <p:nvPr/>
        </p:nvSpPr>
        <p:spPr>
          <a:xfrm>
            <a:off x="32400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Shanghai JCT-VC meeting October 2012            JCTVC-K0216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Jean-Marc Thiesse  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cuments and Settings\bfouchard\Bureau\background.jp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D:\Users\flibert\Pictures\En tête, pied de page\ATEME header 2.gif"/>
          <p:cNvPicPr/>
          <p:nvPr/>
        </p:nvPicPr>
        <p:blipFill>
          <a:blip r:embed="rId3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FDC1-2972-43D4-B943-9D87C3DA4A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D52-8A53-49E1-B29F-3999265836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D:\Users\flibert\Pictures\En tête, pied de page\top_simpl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Users\flibert\Pictures\En tête, pied de page\entête 2.jpg"/>
          <p:cNvPicPr/>
          <p:nvPr/>
        </p:nvPicPr>
        <p:blipFill>
          <a:blip r:embed="rId3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"/>
          <p:cNvSpPr/>
          <p:nvPr/>
        </p:nvSpPr>
        <p:spPr>
          <a:xfrm>
            <a:off x="46836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JCTVC-K0216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lnSpc>
                <a:spcPts val="2398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06a27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6a27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>
              <a:spcBef>
                <a:spcPts val="751"/>
              </a:spcBef>
              <a:buClr>
                <a:srgbClr val="292929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Century Gothic"/>
              </a:rPr>
              <a:t>Second Outline Level</a:t>
            </a:r>
            <a:endParaRPr b="1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2" marL="1079640" indent="-171720">
              <a:spcBef>
                <a:spcPts val="675"/>
              </a:spcBef>
              <a:buClr>
                <a:srgbClr val="99cc00"/>
              </a:buClr>
              <a:buSzPct val="80000"/>
              <a:buFont typeface="Times"/>
              <a:buChar char="-"/>
              <a:tabLst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2e2f2e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2e2f2e"/>
              </a:solidFill>
              <a:latin typeface="Arial"/>
            </a:endParaRPr>
          </a:p>
          <a:p>
            <a:pPr lvl="3" marL="1365120" indent="6480">
              <a:spcBef>
                <a:spcPts val="451"/>
              </a:spcBef>
              <a:buClr>
                <a:srgbClr val="99cc00"/>
              </a:buClr>
              <a:buSzPct val="80000"/>
              <a:buFont typeface="Arial"/>
              <a:buChar char="–"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2e2f2e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e2f2e"/>
              </a:solidFill>
              <a:latin typeface="Arial"/>
            </a:endParaRPr>
          </a:p>
          <a:p>
            <a:pPr lvl="4" marL="1822320" indent="6480">
              <a:spcBef>
                <a:spcPts val="451"/>
              </a:spcBef>
              <a:buClr>
                <a:srgbClr val="99cc00"/>
              </a:buClr>
              <a:buSzPct val="80000"/>
              <a:buFont typeface="Verdana"/>
              <a:buChar char="»"/>
              <a:tabLst>
                <a:tab algn="l" pos="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2e2f2e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2e2f2e"/>
              </a:solidFill>
              <a:latin typeface="Verdana"/>
            </a:endParaRPr>
          </a:p>
          <a:p>
            <a:pPr lvl="5" marL="1822320" indent="6480">
              <a:spcBef>
                <a:spcPts val="374"/>
              </a:spcBef>
              <a:buClr>
                <a:srgbClr val="000000"/>
              </a:buClr>
              <a:buSzPct val="80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e2f2e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2e2f2e"/>
              </a:solidFill>
              <a:latin typeface="Verdana"/>
            </a:endParaRPr>
          </a:p>
          <a:p>
            <a:pPr lvl="6" marL="1822320" indent="6480">
              <a:spcBef>
                <a:spcPts val="374"/>
              </a:spcBef>
              <a:buClr>
                <a:srgbClr val="000000"/>
              </a:buClr>
              <a:buSzPct val="80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e2f2e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2e2f2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Users\flibert\Pictures\En tête, pied de page\ATEME header.gif"/>
          <p:cNvPicPr/>
          <p:nvPr/>
        </p:nvPicPr>
        <p:blipFill>
          <a:blip r:embed="rId3"/>
          <a:stretch/>
        </p:blipFill>
        <p:spPr>
          <a:xfrm>
            <a:off x="0" y="0"/>
            <a:ext cx="9180360" cy="17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125" name="ZoneTexte 1"/>
          <p:cNvSpPr/>
          <p:nvPr/>
        </p:nvSpPr>
        <p:spPr>
          <a:xfrm>
            <a:off x="32400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Shanghai JCT-VC meeting October 2012            JCTVC-K0216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Jean-Marc Thiesse  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bfouchard\Bureau\background.jpg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Users\flibert\Pictures\En tête, pied de page\ATEME header 2.gif"/>
          <p:cNvPicPr/>
          <p:nvPr/>
        </p:nvPicPr>
        <p:blipFill>
          <a:blip r:embed="rId3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CACA-A5F6-4A96-8958-F473DB71BE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Users\flibert\Pictures\En tête, pied de page\entête 2.jpg"/>
          <p:cNvPicPr/>
          <p:nvPr/>
        </p:nvPicPr>
        <p:blipFill>
          <a:blip r:embed="rId4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536-48A5-4A99-AFA9-ED0BB4AF6E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D:\Users\flibert\Pictures\En tête, pied de page\top_simpl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D:\Users\flibert\Pictures\En tête, pied de page\entête 2.jpg"/>
          <p:cNvPicPr/>
          <p:nvPr/>
        </p:nvPicPr>
        <p:blipFill>
          <a:blip r:embed="rId3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207" name="ZoneTexte 1"/>
          <p:cNvSpPr/>
          <p:nvPr/>
        </p:nvSpPr>
        <p:spPr>
          <a:xfrm>
            <a:off x="46836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JCTVC-K0216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optionnel"/>
          <p:cNvPicPr/>
          <p:nvPr/>
        </p:nvPicPr>
        <p:blipFill>
          <a:blip r:embed="rId4"/>
          <a:stretch/>
        </p:blipFill>
        <p:spPr>
          <a:xfrm>
            <a:off x="-7920" y="5327640"/>
            <a:ext cx="915192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5"/>
          <p:cNvSpPr/>
          <p:nvPr/>
        </p:nvSpPr>
        <p:spPr>
          <a:xfrm>
            <a:off x="3252960" y="6500880"/>
            <a:ext cx="263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8528040" y="6429240"/>
            <a:ext cx="528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8D9-A6B5-4974-BECE-A8D816ED8E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D:\Users\flibert\Pictures\En tête, pied de page\top_simpl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D:\Users\flibert\Pictures\En tête, pied de page\entête 2.jpg"/>
          <p:cNvPicPr/>
          <p:nvPr/>
        </p:nvPicPr>
        <p:blipFill>
          <a:blip r:embed="rId3"/>
          <a:stretch/>
        </p:blipFill>
        <p:spPr>
          <a:xfrm>
            <a:off x="0" y="6494400"/>
            <a:ext cx="9180360" cy="371520"/>
          </a:xfrm>
          <a:prstGeom prst="rect">
            <a:avLst/>
          </a:prstGeom>
          <a:ln w="0">
            <a:noFill/>
          </a:ln>
        </p:spPr>
      </p:pic>
      <p:sp>
        <p:nvSpPr>
          <p:cNvPr id="249" name="ZoneTexte 1"/>
          <p:cNvSpPr/>
          <p:nvPr/>
        </p:nvSpPr>
        <p:spPr>
          <a:xfrm>
            <a:off x="468360" y="652464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JCTVC-K0216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f2f2f2"/>
                </a:solidFill>
                <a:latin typeface="Century Gothic"/>
              </a:rPr>
              <a:t>           Jean-Marc Thiesse - ATEME</a:t>
            </a:r>
            <a:r>
              <a:rPr b="0" lang="fr-FR" sz="1400" spc="-1" strike="noStrike">
                <a:solidFill>
                  <a:srgbClr val="f2f2f2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ableau 8" descr=""/>
          <p:cNvPicPr/>
          <p:nvPr/>
        </p:nvPicPr>
        <p:blipFill>
          <a:blip r:embed="rId4"/>
          <a:stretch/>
        </p:blipFill>
        <p:spPr>
          <a:xfrm>
            <a:off x="1450800" y="981000"/>
            <a:ext cx="6242400" cy="1629000"/>
          </a:xfrm>
          <a:prstGeom prst="rect">
            <a:avLst/>
          </a:prstGeom>
          <a:ln w="0">
            <a:noFill/>
          </a:ln>
        </p:spPr>
      </p:pic>
      <p:grpSp>
        <p:nvGrpSpPr>
          <p:cNvPr id="251" name="Tableau 9"/>
          <p:cNvGrpSpPr/>
          <p:nvPr/>
        </p:nvGrpSpPr>
        <p:grpSpPr>
          <a:xfrm>
            <a:off x="1523880" y="2852640"/>
            <a:ext cx="6096240" cy="1482840"/>
            <a:chOff x="1523880" y="2852640"/>
            <a:chExt cx="6096240" cy="1482840"/>
          </a:xfrm>
        </p:grpSpPr>
        <p:sp>
          <p:nvSpPr>
            <p:cNvPr id="252" name=""/>
            <p:cNvSpPr/>
            <p:nvPr/>
          </p:nvSpPr>
          <p:spPr>
            <a:xfrm>
              <a:off x="1523880" y="28526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Exampl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6080" y="2852640"/>
              <a:ext cx="203184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7920" y="28526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23880" y="3224160"/>
              <a:ext cx="2032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Century Gothic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56080" y="3224160"/>
              <a:ext cx="2031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7920" y="3224160"/>
              <a:ext cx="203220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23880" y="3594240"/>
              <a:ext cx="20322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Century Gothic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56080" y="3594240"/>
              <a:ext cx="20318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7920" y="3594240"/>
              <a:ext cx="20322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963960"/>
              <a:ext cx="203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Century Gothic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56080" y="3963960"/>
              <a:ext cx="20318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7920" y="3963960"/>
              <a:ext cx="203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5608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792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3880" y="32241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3880" y="35942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39639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0120" y="28526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23880" y="28526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3880" y="43354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Tableau 10"/>
          <p:cNvGrpSpPr/>
          <p:nvPr/>
        </p:nvGrpSpPr>
        <p:grpSpPr>
          <a:xfrm>
            <a:off x="1523880" y="4681440"/>
            <a:ext cx="6096240" cy="1482840"/>
            <a:chOff x="1523880" y="4681440"/>
            <a:chExt cx="6096240" cy="1482840"/>
          </a:xfrm>
        </p:grpSpPr>
        <p:sp>
          <p:nvSpPr>
            <p:cNvPr id="274" name=""/>
            <p:cNvSpPr/>
            <p:nvPr/>
          </p:nvSpPr>
          <p:spPr>
            <a:xfrm>
              <a:off x="1523880" y="46814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Exampl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56080" y="4681440"/>
              <a:ext cx="203184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7920" y="4681440"/>
              <a:ext cx="2032200" cy="371520"/>
            </a:xfrm>
            <a:prstGeom prst="rect">
              <a:avLst/>
            </a:prstGeom>
            <a:solidFill>
              <a:srgbClr val="19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3880" y="5052960"/>
              <a:ext cx="2032200" cy="37008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56080" y="5052960"/>
              <a:ext cx="2031840" cy="37008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7920" y="5052960"/>
              <a:ext cx="2032200" cy="37008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23880" y="5423040"/>
              <a:ext cx="2032200" cy="369720"/>
            </a:xfrm>
            <a:prstGeom prst="rect">
              <a:avLst/>
            </a:prstGeom>
            <a:solidFill>
              <a:srgbClr val="a0e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56080" y="5423040"/>
              <a:ext cx="2031840" cy="369720"/>
            </a:xfrm>
            <a:prstGeom prst="rect">
              <a:avLst/>
            </a:prstGeom>
            <a:solidFill>
              <a:srgbClr val="a0e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7920" y="5423040"/>
              <a:ext cx="2032200" cy="369720"/>
            </a:xfrm>
            <a:prstGeom prst="rect">
              <a:avLst/>
            </a:prstGeom>
            <a:solidFill>
              <a:srgbClr val="a0e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23880" y="5792760"/>
              <a:ext cx="2032200" cy="37152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56080" y="5792760"/>
              <a:ext cx="2031840" cy="37152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87920" y="5792760"/>
              <a:ext cx="2032200" cy="371520"/>
            </a:xfrm>
            <a:prstGeom prst="rect">
              <a:avLst/>
            </a:prstGeom>
            <a:solidFill>
              <a:srgbClr val="d2f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5608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792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0529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54230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23880" y="57927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2388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0120" y="4681440"/>
              <a:ext cx="0" cy="148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3880" y="46814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3880" y="61642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208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2a43f"/>
                </a:solidFill>
                <a:latin typeface="Century Gothic"/>
              </a:rPr>
              <a:t>JCTVC_K0216</a:t>
            </a:r>
            <a:br>
              <a:rPr sz="1800"/>
            </a:br>
            <a:r>
              <a:rPr b="1" lang="en-CA" sz="2800" spc="-1" strike="noStrike">
                <a:solidFill>
                  <a:srgbClr val="02a43f"/>
                </a:solidFill>
                <a:latin typeface="Century Gothic"/>
              </a:rPr>
              <a:t>HEVC interlaced coding assessment and Chroma issue consider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1763640" y="472428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J.M. Thiesse</a:t>
            </a: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, J. Viéron, P. Larbier, A. Depre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Chroma leaks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620880" cy="244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2808360" cy="2430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3600360" cy="2797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4"/>
          <a:stretch/>
        </p:blipFill>
        <p:spPr>
          <a:xfrm>
            <a:off x="5176800" y="3687840"/>
            <a:ext cx="277992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Broadcasters and service providers express strong needs for Interlaced material coding support. Legacy interlaced video content represent still a very large part of the current video traffic.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CA" sz="1800" spc="-1" strike="noStrike">
                <a:solidFill>
                  <a:srgbClr val="404040"/>
                </a:solidFill>
                <a:latin typeface="Century Gothic"/>
              </a:rPr>
              <a:t>So far,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Interlace support in HEVC has been achieved through the adoption of the </a:t>
            </a:r>
            <a:r>
              <a:rPr b="1" lang="en-CA" sz="1800" spc="-1" strike="noStrike">
                <a:solidFill>
                  <a:srgbClr val="02a43f"/>
                </a:solidFill>
                <a:latin typeface="Century Gothic"/>
              </a:rPr>
              <a:t>field indication SEI message </a:t>
            </a:r>
            <a:r>
              <a:rPr b="1" lang="en-CA" sz="1800" spc="-1" strike="noStrike">
                <a:solidFill>
                  <a:srgbClr val="404040"/>
                </a:solidFill>
                <a:latin typeface="Century Gothic"/>
              </a:rPr>
              <a:t>assuming field only encoding.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CA" sz="1800" spc="-1" strike="noStrike">
                <a:solidFill>
                  <a:srgbClr val="404040"/>
                </a:solidFill>
                <a:latin typeface="Century Gothic"/>
              </a:rPr>
              <a:t>In previous Stockholm meeting, contribution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JCTVC-J0466 reported an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assessment of HEVC interlaced coding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onsidering field-only coding: limited performance against AVC were highlighted.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his contribution proposes a new assessment of HEVC performance for interlace coding including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efficient field GOP structur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d two solutions for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chroma misalignment issue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640" y="765000"/>
            <a:ext cx="8939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Top/Bottom fields encoded in a « frame scan order ».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Each field has a Top and a Bottom field as reference in each list.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Config file modification available on JCTVC-K0216 for 8 and 16 fields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Proposed Field GOP structure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"/>
          <p:cNvGraphicFramePr/>
          <p:nvPr/>
        </p:nvGraphicFramePr>
        <p:xfrm>
          <a:off x="1476360" y="1901880"/>
          <a:ext cx="5832360" cy="19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01880"/>
                    <a:ext cx="583236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oneTexte 7"/>
          <p:cNvSpPr/>
          <p:nvPr/>
        </p:nvSpPr>
        <p:spPr>
          <a:xfrm>
            <a:off x="3059280" y="38084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ig. 1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ference Gop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oneTexte 8"/>
          <p:cNvSpPr/>
          <p:nvPr/>
        </p:nvSpPr>
        <p:spPr>
          <a:xfrm>
            <a:off x="3203640" y="61848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Fig. 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posed Gop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3"/>
          <a:stretch/>
        </p:blipFill>
        <p:spPr>
          <a:xfrm>
            <a:off x="1547640" y="4097160"/>
            <a:ext cx="5977080" cy="21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7640" y="981000"/>
            <a:ext cx="8939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2a43f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Interlaced 4:2:0 material 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Different vertical sampling position of chroma components, 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33240" indent="-180720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Displacement between top and bottom fields chroma samples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02a43f"/>
              </a:buClr>
              <a:buFont typeface="Symbol" charset="2"/>
              <a:buChar char="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Inconsistency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uring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chroma MV derivation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when a Top field points to a Bottom field or inversely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hroma vector misalignment :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MV top to bottom:  chroma MV points to 0.25 pixel below the correct position. 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33240" indent="-180720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MV bottom to top: chroma MV points to 0.25 pixel above the correct position.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 “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Encoder-only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”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solution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1" lang="en-US" sz="16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Spend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more bits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 on Chroma residual 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33240" indent="-180720">
              <a:spcBef>
                <a:spcPts val="601"/>
              </a:spcBef>
              <a:buClr>
                <a:srgbClr val="02a43f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Disabled Skip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mode with top to bottom reference (and bottom to top)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=&gt;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Coding efficiency decrease 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“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VC like” solution: shift during encoding (required field signalization)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200" spc="-1" strike="noStrike">
              <a:solidFill>
                <a:srgbClr val="292929"/>
              </a:solidFill>
              <a:latin typeface="Century Gothic"/>
            </a:endParaRPr>
          </a:p>
          <a:p>
            <a:pPr lvl="1" marL="633240" indent="-18072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200" spc="-1" strike="noStrike">
              <a:solidFill>
                <a:srgbClr val="292929"/>
              </a:solidFill>
              <a:latin typeface="Century Gothic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2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Chroma misalignment issue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07640" y="981000"/>
            <a:ext cx="8939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Three steps: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1720" indent="-261720" algn="just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Before encoding, align both top and bottom fields chroma samples :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chroma shifting </a:t>
            </a:r>
            <a:endParaRPr b="1" lang="en-US" sz="1600" spc="-1" strike="noStrike">
              <a:solidFill>
                <a:srgbClr val="006a27"/>
              </a:solidFill>
              <a:latin typeface="Century Gothic"/>
            </a:endParaRPr>
          </a:p>
          <a:p>
            <a:pPr marL="261720" indent="-261720" algn="just">
              <a:spcBef>
                <a:spcPts val="60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Related chroma displacements are then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signaled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 in the bitstream</a:t>
            </a:r>
            <a:endParaRPr b="1" lang="en-US" sz="1600" spc="-1" strike="noStrike">
              <a:solidFill>
                <a:srgbClr val="006a27"/>
              </a:solidFill>
              <a:latin typeface="Century Gothic"/>
            </a:endParaRPr>
          </a:p>
          <a:p>
            <a:pPr marL="261720" indent="-261720" algn="just">
              <a:spcBef>
                <a:spcPts val="524"/>
              </a:spcBef>
              <a:buClr>
                <a:srgbClr val="404040"/>
              </a:buClr>
              <a:buFont typeface="Wingdings" charset="2"/>
              <a:buChar char="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At the decoding side,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inverse shifting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of the chroma samples in a proper way </a:t>
            </a: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(e.g. original source)</a:t>
            </a:r>
            <a:endParaRPr b="1" lang="en-US" sz="1400" spc="-1" strike="noStrike">
              <a:solidFill>
                <a:srgbClr val="006a27"/>
              </a:solidFill>
              <a:latin typeface="Century Gothic"/>
            </a:endParaRPr>
          </a:p>
          <a:p>
            <a:pPr marL="261720" indent="-261720" algn="just">
              <a:spcBef>
                <a:spcPts val="60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6a27"/>
              </a:solidFill>
              <a:latin typeface="Century Gothic"/>
            </a:endParaRPr>
          </a:p>
          <a:p>
            <a:pPr marL="261720" indent="-26172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800" spc="-1" strike="noStrike">
                <a:solidFill>
                  <a:srgbClr val="404040"/>
                </a:solidFill>
                <a:latin typeface="Century Gothic"/>
              </a:rPr>
              <a:t>Signalization: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Previous proposition: add three new syntax elements in SEI: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chroma_sample_loc_delta_flag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chroma_sample_loc_delta_x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 and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chroma_sample_loc_delta_y 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buClr>
                <a:srgbClr val="02a43f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As suggested by JCT-VC, </a:t>
            </a:r>
            <a:r>
              <a:rPr b="1" lang="en-US" sz="1600" spc="-1" strike="noStrike">
                <a:solidFill>
                  <a:srgbClr val="02a43f"/>
                </a:solidFill>
                <a:latin typeface="Century Gothic"/>
              </a:rPr>
              <a:t>VUI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 can be used for the proposed shift: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chroma_loc_info_present_flag 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set to 1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chroma_sample_loc_type_top_field 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set to 4 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chroma_sample_loc_type_bottom_field 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set to 2 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524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4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404040"/>
                </a:solidFill>
                <a:latin typeface="Century Gothic"/>
              </a:rPr>
              <a:t>=&gt; </a:t>
            </a:r>
            <a:r>
              <a:rPr b="1" lang="fr-FR" sz="1600" spc="-1" strike="noStrike">
                <a:solidFill>
                  <a:srgbClr val="02a43f"/>
                </a:solidFill>
                <a:latin typeface="Century Gothic"/>
              </a:rPr>
              <a:t>«</a:t>
            </a:r>
            <a:r>
              <a:rPr b="1" lang="fr-FR" sz="16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fr-FR" sz="1600" spc="-1" strike="noStrike">
                <a:solidFill>
                  <a:srgbClr val="02a43f"/>
                </a:solidFill>
                <a:latin typeface="Century Gothic"/>
              </a:rPr>
              <a:t>Hack » of the initial VUI purpose </a:t>
            </a:r>
            <a:r>
              <a:rPr b="1" lang="fr-FR" sz="1600" spc="-1" strike="noStrike">
                <a:solidFill>
                  <a:srgbClr val="404040"/>
                </a:solidFill>
                <a:latin typeface="Century Gothic"/>
              </a:rPr>
              <a:t>=&gt; loss of the original Chroma phase position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  <a:p>
            <a:pPr lvl="1" marL="607680" indent="-173160" algn="just">
              <a:spcBef>
                <a:spcPts val="6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1600" spc="-1" strike="noStrike">
                <a:solidFill>
                  <a:srgbClr val="404040"/>
                </a:solidFill>
                <a:latin typeface="Century Gothic"/>
              </a:rPr>
              <a:t>=&gt; Clarification of VUI definition and usage?</a:t>
            </a:r>
            <a:endParaRPr b="1" lang="en-US" sz="16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Proposal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Experiments were conducted using HM-8.0 software in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RAHE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configuration and ATEME own H.264/AVC encoder (PAFF + MBAFF)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Four HD (1920x1080@60i, 450 frames) sequences specified in ITU-R BT.1120-3 and two additional SD sequences have been used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roposed GOP structure tested for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8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and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16 fields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(2 references by B pictures) 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roposed algorithm with phase shifting using </a:t>
            </a:r>
            <a:r>
              <a:rPr b="1" lang="en-GB" sz="1800" spc="-1" strike="noStrike">
                <a:solidFill>
                  <a:srgbClr val="404040"/>
                </a:solidFill>
                <a:latin typeface="Century Gothic"/>
              </a:rPr>
              <a:t>Lanczos-3 filter (6 taps)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Experiment settings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50920" y="4221000"/>
          <a:ext cx="4103640" cy="1513080"/>
        </p:xfrm>
        <a:graphic>
          <a:graphicData uri="http://schemas.openxmlformats.org/drawingml/2006/table">
            <a:tbl>
              <a:tblPr/>
              <a:tblGrid>
                <a:gridCol w="1582560"/>
                <a:gridCol w="1316160"/>
                <a:gridCol w="1204920"/>
              </a:tblGrid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.264/A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E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Frame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{25, 30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{50, 60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Source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5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FrameToBeEnco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Intra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GOP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99632"/>
                          </a:solidFill>
                          <a:latin typeface="Century Gothic"/>
                          <a:ea typeface="MS Mincho"/>
                        </a:rPr>
                        <a:t>4 (fram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99632"/>
                          </a:solidFill>
                          <a:latin typeface="Century Gothic"/>
                          <a:ea typeface="MS Mincho"/>
                        </a:rPr>
                        <a:t>8 (field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859280" y="4221000"/>
          <a:ext cx="4032360" cy="1513080"/>
        </p:xfrm>
        <a:graphic>
          <a:graphicData uri="http://schemas.openxmlformats.org/drawingml/2006/table">
            <a:tbl>
              <a:tblPr/>
              <a:tblGrid>
                <a:gridCol w="1555920"/>
                <a:gridCol w="1292040"/>
                <a:gridCol w="118440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.264/A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HE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Frame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{25, 30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{50, 60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SourceHeig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1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5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FrameToBeEnco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4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Intra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MS Mincho"/>
                        </a:rPr>
                        <a:t>GOP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99632"/>
                          </a:solidFill>
                          <a:latin typeface="Century Gothic"/>
                          <a:ea typeface="MS Mincho"/>
                        </a:rPr>
                        <a:t>8 (fram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99632"/>
                          </a:solidFill>
                          <a:latin typeface="Century Gothic"/>
                          <a:ea typeface="MS Mincho"/>
                        </a:rPr>
                        <a:t>16 (field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6"/>
          <p:cNvSpPr/>
          <p:nvPr/>
        </p:nvSpPr>
        <p:spPr>
          <a:xfrm>
            <a:off x="1187280" y="5877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figs for 8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7"/>
          <p:cNvSpPr/>
          <p:nvPr/>
        </p:nvSpPr>
        <p:spPr>
          <a:xfrm>
            <a:off x="5867280" y="5877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figs for 16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64600" indent="-26460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odified field GOP structure: average coding gain of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23.8%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lvl="1" marL="614160" indent="-174960" algn="just">
              <a:spcBef>
                <a:spcPts val="524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This GOP structure strentghen Chroma misalignment issue (more top to bottom and bottom to top references) </a:t>
            </a:r>
            <a:endParaRPr b="1" lang="en-US" sz="1400" spc="-1" strike="noStrike">
              <a:solidFill>
                <a:srgbClr val="292929"/>
              </a:solidFill>
              <a:latin typeface="Century Gothic"/>
            </a:endParaRPr>
          </a:p>
          <a:p>
            <a:pPr marL="264600" indent="-26460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hroma misalignment is </a:t>
            </a:r>
            <a:r>
              <a:rPr b="1" lang="en-US" sz="1800" spc="-1" strike="noStrike">
                <a:solidFill>
                  <a:srgbClr val="199632"/>
                </a:solidFill>
                <a:latin typeface="Century Gothic"/>
              </a:rPr>
              <a:t>visually corrected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by the two proposed solution associated to an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objective Chroma improvement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(+5% against reference).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Results HEVC vs AVC (8 fields)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79280" y="1030320"/>
          <a:ext cx="8856720" cy="3119400"/>
        </p:xfrm>
        <a:graphic>
          <a:graphicData uri="http://schemas.openxmlformats.org/drawingml/2006/table">
            <a:tbl>
              <a:tblPr/>
              <a:tblGrid>
                <a:gridCol w="871560"/>
                <a:gridCol w="531720"/>
                <a:gridCol w="532080"/>
                <a:gridCol w="533160"/>
                <a:gridCol w="532080"/>
                <a:gridCol w="533160"/>
                <a:gridCol w="532080"/>
                <a:gridCol w="531720"/>
                <a:gridCol w="533520"/>
                <a:gridCol w="531720"/>
                <a:gridCol w="531720"/>
                <a:gridCol w="533520"/>
                <a:gridCol w="531720"/>
                <a:gridCol w="531720"/>
                <a:gridCol w="533520"/>
                <a:gridCol w="531720"/>
              </a:tblGrid>
              <a:tr h="70020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rame)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 + proposed GOP structu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 + proposed GOP structure + chroma shift before cod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 + proposed GOP structure + chroma shift inside H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ideo Sequ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urch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30492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hale_Show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31572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rching_in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8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1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22860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alk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6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35244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obile_and_calendar_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1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</a:tr>
              <a:tr h="42408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BU_scene3_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19512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8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7640" y="980640"/>
            <a:ext cx="8939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187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5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Using 16 fields with proposed GOP structure leads to stronger coding efficiency with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26%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 bitrate savings for Luma. 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Same observations for Chroma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 algn="just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daptive Frame/Field will clearly help as proposed in JCTVC-K0250 =&gt; </a:t>
            </a:r>
            <a:r>
              <a:rPr b="1" lang="en-US" sz="1800" spc="-1" strike="noStrike">
                <a:solidFill>
                  <a:srgbClr val="02a43f"/>
                </a:solidFill>
                <a:latin typeface="Century Gothic"/>
              </a:rPr>
              <a:t>≈ 30%</a:t>
            </a: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  <a:p>
            <a:pPr marL="267120" indent="-267120">
              <a:spcBef>
                <a:spcPts val="675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800" spc="-1" strike="noStrike">
              <a:solidFill>
                <a:srgbClr val="006a27"/>
              </a:solidFill>
              <a:latin typeface="Century Gothic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Results HEVC vs AVC (16 fields)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8000" y="871560"/>
          <a:ext cx="8964720" cy="3432240"/>
        </p:xfrm>
        <a:graphic>
          <a:graphicData uri="http://schemas.openxmlformats.org/drawingml/2006/table">
            <a:tbl>
              <a:tblPr/>
              <a:tblGrid>
                <a:gridCol w="954000"/>
                <a:gridCol w="533520"/>
                <a:gridCol w="534960"/>
                <a:gridCol w="533520"/>
                <a:gridCol w="533160"/>
                <a:gridCol w="534960"/>
                <a:gridCol w="533520"/>
                <a:gridCol w="534960"/>
                <a:gridCol w="533520"/>
                <a:gridCol w="533160"/>
                <a:gridCol w="534960"/>
                <a:gridCol w="533520"/>
                <a:gridCol w="534960"/>
                <a:gridCol w="533520"/>
                <a:gridCol w="534960"/>
                <a:gridCol w="533520"/>
              </a:tblGrid>
              <a:tr h="69840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ram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)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 + proposed GOP structur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 + proposed GOP structure + chroma shift before cod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BD-r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HM8.0 field + proposed GOP structure + chroma shift inside H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ideo Sequ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hurch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29376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Whale_Show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36828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rching_in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8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7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1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1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Walk_H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6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5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4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36828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obile_and_calendar_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7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6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1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8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1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1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e3bc"/>
                    </a:solidFill>
                  </a:tcPr>
                </a:tc>
              </a:tr>
              <a:tr h="29376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EBU_scene3_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3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2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3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-2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</a:tr>
              <a:tr h="368280">
                <a:tc>
                  <a:txBody>
                    <a:bodyPr lIns="19800" rIns="19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1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5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4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3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2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7640" y="981000"/>
            <a:ext cx="8939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Proposed field GOP structure improves interlaced encoding performances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Chroma misalignment is a major issue which needs to be smartly resolved: corrected by tested solutions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Significant interlaced coding performances reported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marL="272880" indent="-272880" algn="just">
              <a:spcBef>
                <a:spcPts val="751"/>
              </a:spcBef>
              <a:buClr>
                <a:srgbClr val="404040"/>
              </a:buClr>
              <a:buFont typeface="Arial"/>
              <a:buChar char="●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Recommendations:</a:t>
            </a:r>
            <a:endParaRPr b="1" lang="en-US" sz="2000" spc="-1" strike="noStrike">
              <a:solidFill>
                <a:srgbClr val="006a27"/>
              </a:solidFill>
              <a:latin typeface="Century Gothic"/>
            </a:endParaRPr>
          </a:p>
          <a:p>
            <a:pPr lvl="1" marL="633240" indent="-180720" algn="just">
              <a:spcBef>
                <a:spcPts val="75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Adopt </a:t>
            </a:r>
            <a:r>
              <a:rPr b="1" lang="fr-FR" sz="2000" spc="-1" strike="noStrike">
                <a:solidFill>
                  <a:srgbClr val="02a43f"/>
                </a:solidFill>
                <a:latin typeface="Century Gothic"/>
              </a:rPr>
              <a:t>proposed GOP structure </a:t>
            </a: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for future interlaced assessments</a:t>
            </a:r>
            <a:endParaRPr b="1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633240" indent="-180720" algn="just">
              <a:spcBef>
                <a:spcPts val="75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Integrate code modification for </a:t>
            </a:r>
            <a:r>
              <a:rPr b="1" lang="fr-FR" sz="2000" spc="-1" strike="noStrike">
                <a:solidFill>
                  <a:srgbClr val="02a43f"/>
                </a:solidFill>
                <a:latin typeface="Century Gothic"/>
              </a:rPr>
              <a:t>field management into HM</a:t>
            </a:r>
            <a:endParaRPr b="1" lang="en-US" sz="2000" spc="-1" strike="noStrike">
              <a:solidFill>
                <a:srgbClr val="292929"/>
              </a:solidFill>
              <a:latin typeface="Century Gothic"/>
            </a:endParaRPr>
          </a:p>
          <a:p>
            <a:pPr lvl="1" marL="633240" indent="-180720" algn="just">
              <a:spcBef>
                <a:spcPts val="751"/>
              </a:spcBef>
              <a:buClr>
                <a:srgbClr val="404040"/>
              </a:buClr>
              <a:buSzPct val="50000"/>
              <a:buFont typeface="Century Gothic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Adopt </a:t>
            </a:r>
            <a:r>
              <a:rPr b="1" lang="fr-FR" sz="2000" spc="-1" strike="noStrike">
                <a:solidFill>
                  <a:srgbClr val="02a43f"/>
                </a:solidFill>
                <a:latin typeface="Century Gothic"/>
              </a:rPr>
              <a:t>Chroma shifting using SEI or VUI</a:t>
            </a:r>
            <a:r>
              <a:rPr b="1" lang="fr-FR" sz="2000" spc="-1" strike="noStrike">
                <a:solidFill>
                  <a:srgbClr val="404040"/>
                </a:solidFill>
                <a:latin typeface="Century Gothic"/>
              </a:rPr>
              <a:t> signalization (after clarification of VUI purpose)</a:t>
            </a:r>
            <a:endParaRPr b="1" lang="en-US" sz="2000" spc="-1" strike="noStrike">
              <a:solidFill>
                <a:srgbClr val="292929"/>
              </a:solidFill>
              <a:latin typeface="Century Gothic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entury Gothic"/>
              </a:rPr>
              <a:t>Conclusion</a:t>
            </a:r>
            <a:endParaRPr b="1" lang="en-US" sz="2600" spc="-1" strike="noStrike">
              <a:solidFill>
                <a:srgbClr val="006a27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7:20:08Z</dcterms:created>
  <dc:creator>j.vieron@ateme.com</dc:creator>
  <dc:description/>
  <dc:language>en-US</dc:language>
  <cp:lastModifiedBy>Thiesse</cp:lastModifiedBy>
  <dcterms:modified xsi:type="dcterms:W3CDTF">2012-10-14T06:12:21Z</dcterms:modified>
  <cp:revision>341</cp:revision>
  <dc:subject/>
  <dc:title>Main Title</dc:title>
</cp:coreProperties>
</file>