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B815-D359-42B0-9AA3-DA4E407DA3BD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A59F-52D0-4C3B-A538-916753B5A1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Date Placeholder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9F8C-846A-4361-BEEB-C6BDDD9F1F0A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F182-23D6-45EF-9D61-1D49CD3EFDB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Date Placeholder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1C7D-43B7-45A6-8D5F-3A3500CAF879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6194-0CF3-4D4D-8C6D-66A79B580225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45B8-077C-4347-9F68-4FA6997E31F6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7384-D5BE-4125-86C3-620644BECE1E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B2E2-67FB-4A4F-A396-CF2CDFE14884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8899-595A-4FF9-A271-A9AE5ABCD89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A10B-0DF0-4185-83C4-A03F7A78C37E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4C42-E4EB-49B8-8711-B9E33169CFF6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Date Placeholder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2148-6386-4C59-9F00-C62D6E173F1A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E4A-1ABC-4E81-BD8D-C24AFA32E6AD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9EB7-C06A-43C5-9583-1FE1264E74C6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34C-967D-42C2-AAC6-6C15960DF9F2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808040" y="659772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K0183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CAF1-4531-426B-B8AF-519060364E9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09080" y="16020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K0183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HG4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t slices restri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80000" y="3260880"/>
            <a:ext cx="3914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106880" y="6497640"/>
            <a:ext cx="497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11th JCT-VC meeting, Shanghai 09-19 October 2012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BACKUP SLIDES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blem: Non-causal bitstrea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619280" y="836640"/>
            <a:ext cx="6337440" cy="201600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" name="Straight Connector 52"/>
          <p:cNvSpPr/>
          <p:nvPr/>
        </p:nvSpPr>
        <p:spPr>
          <a:xfrm>
            <a:off x="1619280" y="1341360"/>
            <a:ext cx="63374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" name="Straight Connector 53"/>
          <p:cNvSpPr/>
          <p:nvPr/>
        </p:nvSpPr>
        <p:spPr>
          <a:xfrm>
            <a:off x="1619280" y="1844640"/>
            <a:ext cx="63374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" name="Straight Connector 54"/>
          <p:cNvSpPr/>
          <p:nvPr/>
        </p:nvSpPr>
        <p:spPr>
          <a:xfrm>
            <a:off x="1619280" y="2349360"/>
            <a:ext cx="63374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619280" y="836640"/>
            <a:ext cx="576360" cy="50472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617840" y="1341360"/>
            <a:ext cx="577800" cy="503280"/>
          </a:xfrm>
          <a:prstGeom prst="rect">
            <a:avLst/>
          </a:prstGeom>
          <a:solidFill>
            <a:srgbClr val="5c5c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287" name="Straight Arrow Connector 64"/>
          <p:cNvCxnSpPr/>
          <p:nvPr/>
        </p:nvCxnSpPr>
        <p:spPr>
          <a:xfrm>
            <a:off x="826920" y="162828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8" name="Straight Arrow Connector 66"/>
          <p:cNvCxnSpPr/>
          <p:nvPr/>
        </p:nvCxnSpPr>
        <p:spPr>
          <a:xfrm>
            <a:off x="826920" y="112500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9" name="TextBox 22"/>
          <p:cNvSpPr/>
          <p:nvPr/>
        </p:nvSpPr>
        <p:spPr>
          <a:xfrm>
            <a:off x="468360" y="87804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1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" name="TextBox 23"/>
          <p:cNvSpPr/>
          <p:nvPr/>
        </p:nvSpPr>
        <p:spPr>
          <a:xfrm>
            <a:off x="468360" y="136692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2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1619280" y="3359160"/>
            <a:ext cx="6337440" cy="201600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" name="Straight Connector 52"/>
          <p:cNvSpPr/>
          <p:nvPr/>
        </p:nvSpPr>
        <p:spPr>
          <a:xfrm>
            <a:off x="1619280" y="3863880"/>
            <a:ext cx="63374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" name="Straight Connector 53"/>
          <p:cNvSpPr/>
          <p:nvPr/>
        </p:nvSpPr>
        <p:spPr>
          <a:xfrm>
            <a:off x="1619280" y="4367160"/>
            <a:ext cx="63374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" name="Straight Connector 54"/>
          <p:cNvSpPr/>
          <p:nvPr/>
        </p:nvSpPr>
        <p:spPr>
          <a:xfrm>
            <a:off x="1619280" y="4871880"/>
            <a:ext cx="63374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295" name="Straight Arrow Connector 64"/>
          <p:cNvCxnSpPr/>
          <p:nvPr/>
        </p:nvCxnSpPr>
        <p:spPr>
          <a:xfrm>
            <a:off x="826920" y="415080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6" name="Straight Arrow Connector 66"/>
          <p:cNvCxnSpPr/>
          <p:nvPr/>
        </p:nvCxnSpPr>
        <p:spPr>
          <a:xfrm>
            <a:off x="826920" y="364788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7" name="TextBox 36"/>
          <p:cNvSpPr/>
          <p:nvPr/>
        </p:nvSpPr>
        <p:spPr>
          <a:xfrm>
            <a:off x="468360" y="340056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1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468360" y="388944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2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" name="Rectangle 38"/>
          <p:cNvSpPr/>
          <p:nvPr/>
        </p:nvSpPr>
        <p:spPr>
          <a:xfrm>
            <a:off x="2195640" y="836640"/>
            <a:ext cx="576000" cy="50472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" name="Rectangle 39"/>
          <p:cNvSpPr/>
          <p:nvPr/>
        </p:nvSpPr>
        <p:spPr>
          <a:xfrm>
            <a:off x="2771640" y="836640"/>
            <a:ext cx="576360" cy="50472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1" name="Rectangle 40"/>
          <p:cNvSpPr/>
          <p:nvPr/>
        </p:nvSpPr>
        <p:spPr>
          <a:xfrm>
            <a:off x="3348000" y="836640"/>
            <a:ext cx="576360" cy="50472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" name="Rectangle 41"/>
          <p:cNvSpPr/>
          <p:nvPr/>
        </p:nvSpPr>
        <p:spPr>
          <a:xfrm>
            <a:off x="3924360" y="836640"/>
            <a:ext cx="576360" cy="50472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" name="Rectangle 42"/>
          <p:cNvSpPr/>
          <p:nvPr/>
        </p:nvSpPr>
        <p:spPr>
          <a:xfrm>
            <a:off x="4505400" y="836640"/>
            <a:ext cx="576360" cy="50472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" name="Rectangle 43"/>
          <p:cNvSpPr/>
          <p:nvPr/>
        </p:nvSpPr>
        <p:spPr>
          <a:xfrm>
            <a:off x="5081760" y="836640"/>
            <a:ext cx="576000" cy="504720"/>
          </a:xfrm>
          <a:prstGeom prst="rect">
            <a:avLst/>
          </a:prstGeom>
          <a:solidFill>
            <a:srgbClr val="ffc00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1187280" y="57456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) Normal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" name="TextBox 48"/>
          <p:cNvSpPr/>
          <p:nvPr/>
        </p:nvSpPr>
        <p:spPr>
          <a:xfrm>
            <a:off x="2943360" y="549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2) Depen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" name="TextBox 49"/>
          <p:cNvSpPr/>
          <p:nvPr/>
        </p:nvSpPr>
        <p:spPr>
          <a:xfrm>
            <a:off x="4686480" y="5745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) Normal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" name="Rectangle 50"/>
          <p:cNvSpPr/>
          <p:nvPr/>
        </p:nvSpPr>
        <p:spPr>
          <a:xfrm>
            <a:off x="2192400" y="1341360"/>
            <a:ext cx="577800" cy="503280"/>
          </a:xfrm>
          <a:prstGeom prst="rect">
            <a:avLst/>
          </a:prstGeom>
          <a:solidFill>
            <a:srgbClr val="5c5c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" name="Rectangle 51"/>
          <p:cNvSpPr/>
          <p:nvPr/>
        </p:nvSpPr>
        <p:spPr>
          <a:xfrm>
            <a:off x="2771640" y="1341360"/>
            <a:ext cx="578160" cy="503280"/>
          </a:xfrm>
          <a:prstGeom prst="rect">
            <a:avLst/>
          </a:prstGeom>
          <a:solidFill>
            <a:srgbClr val="5c5c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" name="Rectangle 52"/>
          <p:cNvSpPr/>
          <p:nvPr/>
        </p:nvSpPr>
        <p:spPr>
          <a:xfrm>
            <a:off x="3348000" y="1341360"/>
            <a:ext cx="577800" cy="503280"/>
          </a:xfrm>
          <a:prstGeom prst="rect">
            <a:avLst/>
          </a:prstGeom>
          <a:solidFill>
            <a:srgbClr val="5c5c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" name="Rectangle 53"/>
          <p:cNvSpPr/>
          <p:nvPr/>
        </p:nvSpPr>
        <p:spPr>
          <a:xfrm>
            <a:off x="3927600" y="1341360"/>
            <a:ext cx="577800" cy="503280"/>
          </a:xfrm>
          <a:prstGeom prst="rect">
            <a:avLst/>
          </a:prstGeom>
          <a:solidFill>
            <a:srgbClr val="5c5c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" name="Rectangle 56"/>
          <p:cNvSpPr/>
          <p:nvPr/>
        </p:nvSpPr>
        <p:spPr>
          <a:xfrm>
            <a:off x="1619280" y="3359160"/>
            <a:ext cx="576360" cy="50472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" name="Rectangle 57"/>
          <p:cNvSpPr/>
          <p:nvPr/>
        </p:nvSpPr>
        <p:spPr>
          <a:xfrm>
            <a:off x="2195640" y="3359160"/>
            <a:ext cx="576000" cy="50472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" name="Rectangle 58"/>
          <p:cNvSpPr/>
          <p:nvPr/>
        </p:nvSpPr>
        <p:spPr>
          <a:xfrm>
            <a:off x="2771640" y="3359160"/>
            <a:ext cx="576360" cy="50328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3348000" y="3359160"/>
            <a:ext cx="576360" cy="50328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" name="Rectangle 60"/>
          <p:cNvSpPr/>
          <p:nvPr/>
        </p:nvSpPr>
        <p:spPr>
          <a:xfrm>
            <a:off x="3924360" y="3359160"/>
            <a:ext cx="576360" cy="50328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" name="Rectangle 61"/>
          <p:cNvSpPr/>
          <p:nvPr/>
        </p:nvSpPr>
        <p:spPr>
          <a:xfrm>
            <a:off x="4505400" y="3359160"/>
            <a:ext cx="576360" cy="50328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" name="Rectangle 62"/>
          <p:cNvSpPr/>
          <p:nvPr/>
        </p:nvSpPr>
        <p:spPr>
          <a:xfrm>
            <a:off x="5081760" y="3359160"/>
            <a:ext cx="576000" cy="504720"/>
          </a:xfrm>
          <a:prstGeom prst="rect">
            <a:avLst/>
          </a:prstGeom>
          <a:solidFill>
            <a:srgbClr val="ffc00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1116000" y="1557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4) Depen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320" name="Elbow Connector 66"/>
          <p:cNvCxnSpPr/>
          <p:nvPr/>
        </p:nvCxnSpPr>
        <p:spPr>
          <a:xfrm rot="10800000">
            <a:off x="1618560" y="4258440"/>
            <a:ext cx="937440" cy="899280"/>
          </a:xfrm>
          <a:prstGeom prst="bentConnector3">
            <a:avLst>
              <a:gd name="adj1" fmla="val 163887"/>
            </a:avLst>
          </a:prstGeom>
          <a:ln w="1908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21" name="TextBox 82"/>
          <p:cNvSpPr/>
          <p:nvPr/>
        </p:nvSpPr>
        <p:spPr>
          <a:xfrm>
            <a:off x="2400480" y="4840200"/>
            <a:ext cx="132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How to initialize CABAC?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3497400" y="25750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ENCODER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" name="TextBox 47"/>
          <p:cNvSpPr/>
          <p:nvPr/>
        </p:nvSpPr>
        <p:spPr>
          <a:xfrm>
            <a:off x="3492360" y="50976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DECODER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395280" y="5622840"/>
            <a:ext cx="856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If there is a normal slice at the upper CTB row after the first CTB </a:t>
            </a:r>
            <a:r>
              <a:rPr b="0" lang="de-DE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 initialize CABAC with default initial values. Take the slice header data from the last normal slice in upper CTB row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5840" indent="-2858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Otherwise </a:t>
            </a:r>
            <a:r>
              <a:rPr b="0" lang="de-DE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 initialize CABAC with WPP tables. 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5840" indent="-2858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" name="Rectangle 54"/>
          <p:cNvSpPr/>
          <p:nvPr/>
        </p:nvSpPr>
        <p:spPr>
          <a:xfrm>
            <a:off x="5657760" y="836640"/>
            <a:ext cx="576360" cy="504720"/>
          </a:xfrm>
          <a:prstGeom prst="rect">
            <a:avLst/>
          </a:prstGeom>
          <a:solidFill>
            <a:srgbClr val="ffc00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" name="Rectangle 55"/>
          <p:cNvSpPr/>
          <p:nvPr/>
        </p:nvSpPr>
        <p:spPr>
          <a:xfrm>
            <a:off x="5657760" y="3359160"/>
            <a:ext cx="576360" cy="504720"/>
          </a:xfrm>
          <a:prstGeom prst="rect">
            <a:avLst/>
          </a:prstGeom>
          <a:solidFill>
            <a:srgbClr val="ffc00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" name="TextBox 63"/>
          <p:cNvSpPr/>
          <p:nvPr/>
        </p:nvSpPr>
        <p:spPr>
          <a:xfrm>
            <a:off x="1258920" y="30942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) Normal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" name="TextBox 65"/>
          <p:cNvSpPr/>
          <p:nvPr/>
        </p:nvSpPr>
        <p:spPr>
          <a:xfrm>
            <a:off x="3014640" y="3068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2) Depen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" name="TextBox 67"/>
          <p:cNvSpPr/>
          <p:nvPr/>
        </p:nvSpPr>
        <p:spPr>
          <a:xfrm>
            <a:off x="4757760" y="30942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) Normal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" name="Rectangle 68"/>
          <p:cNvSpPr/>
          <p:nvPr/>
        </p:nvSpPr>
        <p:spPr>
          <a:xfrm>
            <a:off x="4505400" y="1341360"/>
            <a:ext cx="577800" cy="503280"/>
          </a:xfrm>
          <a:prstGeom prst="rect">
            <a:avLst/>
          </a:prstGeom>
          <a:solidFill>
            <a:srgbClr val="5c5c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blem: Non-causal bitstrea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1"/>
          <p:cNvSpPr/>
          <p:nvPr/>
        </p:nvSpPr>
        <p:spPr>
          <a:xfrm>
            <a:off x="1619280" y="836640"/>
            <a:ext cx="633744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" name="Straight Connector 52"/>
          <p:cNvSpPr/>
          <p:nvPr/>
        </p:nvSpPr>
        <p:spPr>
          <a:xfrm>
            <a:off x="1619280" y="134136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" name="Straight Connector 53"/>
          <p:cNvSpPr/>
          <p:nvPr/>
        </p:nvSpPr>
        <p:spPr>
          <a:xfrm>
            <a:off x="1619280" y="184464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" name="Straight Connector 54"/>
          <p:cNvSpPr/>
          <p:nvPr/>
        </p:nvSpPr>
        <p:spPr>
          <a:xfrm>
            <a:off x="1619280" y="234936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" name="Straight Connector 55"/>
          <p:cNvSpPr/>
          <p:nvPr/>
        </p:nvSpPr>
        <p:spPr>
          <a:xfrm>
            <a:off x="1619280" y="285264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" name="Rectangle 57"/>
          <p:cNvSpPr/>
          <p:nvPr/>
        </p:nvSpPr>
        <p:spPr>
          <a:xfrm>
            <a:off x="1619280" y="836640"/>
            <a:ext cx="3168720" cy="50472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8" name="Rectangle 59"/>
          <p:cNvSpPr/>
          <p:nvPr/>
        </p:nvSpPr>
        <p:spPr>
          <a:xfrm>
            <a:off x="4788000" y="836640"/>
            <a:ext cx="3168720" cy="504720"/>
          </a:xfrm>
          <a:prstGeom prst="rect">
            <a:avLst/>
          </a:prstGeom>
          <a:solidFill>
            <a:srgbClr val="9bbb59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" name="Rectangle 60"/>
          <p:cNvSpPr/>
          <p:nvPr/>
        </p:nvSpPr>
        <p:spPr>
          <a:xfrm>
            <a:off x="1617840" y="1341360"/>
            <a:ext cx="3170160" cy="503280"/>
          </a:xfrm>
          <a:prstGeom prst="rect">
            <a:avLst/>
          </a:prstGeom>
          <a:solidFill>
            <a:srgbClr val="5c5c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" name="TextBox 61"/>
          <p:cNvSpPr/>
          <p:nvPr/>
        </p:nvSpPr>
        <p:spPr>
          <a:xfrm>
            <a:off x="1617840" y="836640"/>
            <a:ext cx="19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) Normal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" name="TextBox 63"/>
          <p:cNvSpPr/>
          <p:nvPr/>
        </p:nvSpPr>
        <p:spPr>
          <a:xfrm>
            <a:off x="4788000" y="8539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2) Depe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342" name="Straight Arrow Connector 64"/>
          <p:cNvCxnSpPr/>
          <p:nvPr/>
        </p:nvCxnSpPr>
        <p:spPr>
          <a:xfrm>
            <a:off x="826920" y="162828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3" name="Straight Arrow Connector 65"/>
          <p:cNvCxnSpPr/>
          <p:nvPr/>
        </p:nvCxnSpPr>
        <p:spPr>
          <a:xfrm>
            <a:off x="826920" y="213336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4" name="Straight Arrow Connector 66"/>
          <p:cNvCxnSpPr/>
          <p:nvPr/>
        </p:nvCxnSpPr>
        <p:spPr>
          <a:xfrm>
            <a:off x="826920" y="112500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TextBox 67"/>
          <p:cNvSpPr/>
          <p:nvPr/>
        </p:nvSpPr>
        <p:spPr>
          <a:xfrm>
            <a:off x="468360" y="87804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1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" name="TextBox 68"/>
          <p:cNvSpPr/>
          <p:nvPr/>
        </p:nvSpPr>
        <p:spPr>
          <a:xfrm>
            <a:off x="468360" y="136692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2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" name="TextBox 69"/>
          <p:cNvSpPr/>
          <p:nvPr/>
        </p:nvSpPr>
        <p:spPr>
          <a:xfrm>
            <a:off x="468360" y="187164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3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617840" y="13669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) Depen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147600" y="4292640"/>
            <a:ext cx="88441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algun Gothic"/>
              </a:rPr>
              <a:t>Problem: The minimum decoding latency is limited to 1 LCU row (cannot be made smaller). 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algun Gothic"/>
              </a:rPr>
              <a:t>Encoder: 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algun Gothic"/>
              </a:rPr>
              <a:t>The encoding of slices (1) and (3) are completed long before the encoding of slice (2). 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algun Gothic"/>
              </a:rPr>
              <a:t>Decoder: 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algun Gothic"/>
              </a:rPr>
              <a:t>In order start decoding slice (3), both slices (1) and (2) are required to be available.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4788000" y="1341360"/>
            <a:ext cx="3168720" cy="503280"/>
          </a:xfrm>
          <a:prstGeom prst="rect">
            <a:avLst/>
          </a:prstGeom>
          <a:solidFill>
            <a:srgbClr val="00ff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" name="TextBox 24"/>
          <p:cNvSpPr/>
          <p:nvPr/>
        </p:nvSpPr>
        <p:spPr>
          <a:xfrm>
            <a:off x="4788000" y="1359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4) Depe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3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eting notes from HLS AhG meeting on JCTVC-K031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ceptually, a "dependent slice" should be considered part of the same s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HLS AHG agreed that these aspects should be clarified. Offline study with review of the identified issues was recomme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isting restrictions on the joint usage of slices and WPP/tiles do not follow the above principle.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pos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arify/extend the scope of previous restrictions to consider dependent sl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9"/>
          <p:cNvSpPr/>
          <p:nvPr/>
        </p:nvSpPr>
        <p:spPr>
          <a:xfrm>
            <a:off x="3705120" y="920880"/>
            <a:ext cx="577800" cy="842760"/>
          </a:xfrm>
          <a:prstGeom prst="rect">
            <a:avLst/>
          </a:prstGeom>
          <a:solidFill>
            <a:srgbClr val="92d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550960" y="907920"/>
            <a:ext cx="1155960" cy="1225800"/>
          </a:xfrm>
          <a:prstGeom prst="rect">
            <a:avLst/>
          </a:prstGeom>
          <a:solidFill>
            <a:srgbClr val="92d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817560" y="2435400"/>
            <a:ext cx="1727280" cy="93168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Rectangle 55"/>
          <p:cNvSpPr/>
          <p:nvPr/>
        </p:nvSpPr>
        <p:spPr>
          <a:xfrm>
            <a:off x="822240" y="917640"/>
            <a:ext cx="172872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" name="Rectangle 56"/>
          <p:cNvSpPr/>
          <p:nvPr/>
        </p:nvSpPr>
        <p:spPr>
          <a:xfrm>
            <a:off x="2550960" y="917640"/>
            <a:ext cx="172728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" name="TextBox 60"/>
          <p:cNvSpPr/>
          <p:nvPr/>
        </p:nvSpPr>
        <p:spPr>
          <a:xfrm>
            <a:off x="822240" y="246060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2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TextBox 63"/>
          <p:cNvSpPr/>
          <p:nvPr/>
        </p:nvSpPr>
        <p:spPr>
          <a:xfrm>
            <a:off x="1341360" y="33717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" name="TextBox 64"/>
          <p:cNvSpPr/>
          <p:nvPr/>
        </p:nvSpPr>
        <p:spPr>
          <a:xfrm>
            <a:off x="3013200" y="336708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" name="TextBox 68"/>
          <p:cNvSpPr/>
          <p:nvPr/>
        </p:nvSpPr>
        <p:spPr>
          <a:xfrm>
            <a:off x="2544840" y="214164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3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blem 1: Single core decoding of t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8"/>
          <p:cNvSpPr/>
          <p:nvPr/>
        </p:nvSpPr>
        <p:spPr>
          <a:xfrm>
            <a:off x="822240" y="91116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1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" name="Straight Connector 3"/>
          <p:cNvSpPr/>
          <p:nvPr/>
        </p:nvSpPr>
        <p:spPr>
          <a:xfrm>
            <a:off x="2550960" y="2133720"/>
            <a:ext cx="115092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" name="Straight Connector 38"/>
          <p:cNvSpPr/>
          <p:nvPr/>
        </p:nvSpPr>
        <p:spPr>
          <a:xfrm>
            <a:off x="3701880" y="1773360"/>
            <a:ext cx="58104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" name="Straight Connector 42"/>
          <p:cNvSpPr/>
          <p:nvPr/>
        </p:nvSpPr>
        <p:spPr>
          <a:xfrm flipV="1">
            <a:off x="3706920" y="1773000"/>
            <a:ext cx="0" cy="35244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" name="Rectangle 64"/>
          <p:cNvSpPr/>
          <p:nvPr/>
        </p:nvSpPr>
        <p:spPr>
          <a:xfrm>
            <a:off x="8024760" y="915840"/>
            <a:ext cx="577800" cy="843120"/>
          </a:xfrm>
          <a:prstGeom prst="rect">
            <a:avLst/>
          </a:prstGeom>
          <a:solidFill>
            <a:srgbClr val="00b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" name="Rectangle 68"/>
          <p:cNvSpPr/>
          <p:nvPr/>
        </p:nvSpPr>
        <p:spPr>
          <a:xfrm>
            <a:off x="6870600" y="903240"/>
            <a:ext cx="1155960" cy="1225440"/>
          </a:xfrm>
          <a:prstGeom prst="rect">
            <a:avLst/>
          </a:prstGeom>
          <a:solidFill>
            <a:srgbClr val="00b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" name="Rectangle 69"/>
          <p:cNvSpPr/>
          <p:nvPr/>
        </p:nvSpPr>
        <p:spPr>
          <a:xfrm>
            <a:off x="5141880" y="2430360"/>
            <a:ext cx="1733760" cy="93204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5141880" y="912960"/>
            <a:ext cx="172872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6870600" y="912960"/>
            <a:ext cx="172728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" name="TextBox 60"/>
          <p:cNvSpPr/>
          <p:nvPr/>
        </p:nvSpPr>
        <p:spPr>
          <a:xfrm>
            <a:off x="5141880" y="245736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2) Normal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TextBox 63"/>
          <p:cNvSpPr/>
          <p:nvPr/>
        </p:nvSpPr>
        <p:spPr>
          <a:xfrm>
            <a:off x="5661000" y="33670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TextBox 64"/>
          <p:cNvSpPr/>
          <p:nvPr/>
        </p:nvSpPr>
        <p:spPr>
          <a:xfrm>
            <a:off x="7332840" y="336240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6864480" y="213660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4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TextBox 68"/>
          <p:cNvSpPr/>
          <p:nvPr/>
        </p:nvSpPr>
        <p:spPr>
          <a:xfrm>
            <a:off x="5141880" y="90648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1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Straight Connector 77"/>
          <p:cNvSpPr/>
          <p:nvPr/>
        </p:nvSpPr>
        <p:spPr>
          <a:xfrm>
            <a:off x="6870600" y="2128680"/>
            <a:ext cx="115092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" name="Straight Connector 78"/>
          <p:cNvSpPr/>
          <p:nvPr/>
        </p:nvSpPr>
        <p:spPr>
          <a:xfrm>
            <a:off x="8023320" y="1768320"/>
            <a:ext cx="57924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Straight Connector 79"/>
          <p:cNvSpPr/>
          <p:nvPr/>
        </p:nvSpPr>
        <p:spPr>
          <a:xfrm flipV="1">
            <a:off x="8028000" y="1767960"/>
            <a:ext cx="0" cy="35244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TextBox 68"/>
          <p:cNvSpPr/>
          <p:nvPr/>
        </p:nvSpPr>
        <p:spPr>
          <a:xfrm>
            <a:off x="6864480" y="92700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3) Dependent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Multiply 81"/>
          <p:cNvSpPr/>
          <p:nvPr/>
        </p:nvSpPr>
        <p:spPr>
          <a:xfrm>
            <a:off x="2766960" y="911160"/>
            <a:ext cx="1366920" cy="1071720"/>
          </a:xfrm>
          <a:custGeom>
            <a:avLst/>
            <a:gdLst/>
            <a:ahLst/>
            <a:rect l="l" t="t" r="r" b="b"/>
            <a:pathLst>
              <a:path w="1366837" h="1071563">
                <a:moveTo>
                  <a:pt x="307798" y="283488"/>
                </a:moveTo>
                <a:lnTo>
                  <a:pt x="348762" y="231237"/>
                </a:lnTo>
                <a:lnTo>
                  <a:pt x="683419" y="493599"/>
                </a:lnTo>
                <a:lnTo>
                  <a:pt x="1018075" y="231237"/>
                </a:lnTo>
                <a:lnTo>
                  <a:pt x="1059039" y="283488"/>
                </a:lnTo>
                <a:lnTo>
                  <a:pt x="737225" y="535782"/>
                </a:lnTo>
                <a:lnTo>
                  <a:pt x="1059039" y="788075"/>
                </a:lnTo>
                <a:lnTo>
                  <a:pt x="1018075" y="840326"/>
                </a:lnTo>
                <a:lnTo>
                  <a:pt x="683419" y="577964"/>
                </a:lnTo>
                <a:lnTo>
                  <a:pt x="348762" y="840326"/>
                </a:lnTo>
                <a:lnTo>
                  <a:pt x="307798" y="788075"/>
                </a:lnTo>
                <a:lnTo>
                  <a:pt x="629612" y="535782"/>
                </a:lnTo>
                <a:lnTo>
                  <a:pt x="307798" y="2834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TextBox 82"/>
          <p:cNvSpPr/>
          <p:nvPr/>
        </p:nvSpPr>
        <p:spPr>
          <a:xfrm>
            <a:off x="1039680" y="3708360"/>
            <a:ext cx="288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t allowed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Restriction on slices &amp; tiles)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" name="TextBox 83"/>
          <p:cNvSpPr/>
          <p:nvPr/>
        </p:nvSpPr>
        <p:spPr>
          <a:xfrm>
            <a:off x="6443640" y="36669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owed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406440" y="5230800"/>
            <a:ext cx="856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gle core decoding with regular z-scan order requires: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head of time parsing of all slice headers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lternatively) additional back and forth jumps in the bitstream to discover parent-dependent slice associations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storage space for slice headers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Down Arrow 11"/>
          <p:cNvSpPr/>
          <p:nvPr/>
        </p:nvSpPr>
        <p:spPr>
          <a:xfrm rot="3123000">
            <a:off x="4789800" y="3318840"/>
            <a:ext cx="419040" cy="2408040"/>
          </a:xfrm>
          <a:prstGeom prst="downArrow">
            <a:avLst>
              <a:gd name="adj1" fmla="val 50000"/>
              <a:gd name="adj2" fmla="val 49883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blem 2: Non-causal bitstrea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1181160" y="620640"/>
            <a:ext cx="7962840" cy="4176720"/>
            <a:chOff x="1181160" y="620640"/>
            <a:chExt cx="7962840" cy="4176720"/>
          </a:xfrm>
        </p:grpSpPr>
        <p:cxnSp>
          <p:nvCxnSpPr>
            <p:cNvPr id="131" name="Straight Arrow Connector 64"/>
            <p:cNvCxnSpPr/>
            <p:nvPr/>
          </p:nvCxnSpPr>
          <p:spPr>
            <a:xfrm>
              <a:off x="1539720" y="1255320"/>
              <a:ext cx="72144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32" name="Straight Arrow Connector 65"/>
            <p:cNvCxnSpPr/>
            <p:nvPr/>
          </p:nvCxnSpPr>
          <p:spPr>
            <a:xfrm>
              <a:off x="1539720" y="1596960"/>
              <a:ext cx="72144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33" name="Straight Arrow Connector 66"/>
            <p:cNvCxnSpPr/>
            <p:nvPr/>
          </p:nvCxnSpPr>
          <p:spPr>
            <a:xfrm>
              <a:off x="1539720" y="867960"/>
              <a:ext cx="72144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34" name="TextBox 44"/>
            <p:cNvSpPr/>
            <p:nvPr/>
          </p:nvSpPr>
          <p:spPr>
            <a:xfrm>
              <a:off x="1181160" y="663480"/>
              <a:ext cx="1004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Wavefront 1</a:t>
              </a:r>
              <a:endParaRPr b="0" lang="en-US" sz="11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35" name="TextBox 45"/>
            <p:cNvSpPr/>
            <p:nvPr/>
          </p:nvSpPr>
          <p:spPr>
            <a:xfrm>
              <a:off x="1181160" y="1050840"/>
              <a:ext cx="1004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Wavefront 2</a:t>
              </a:r>
              <a:endParaRPr b="0" lang="en-US" sz="11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1181160" y="1392120"/>
              <a:ext cx="1004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Wavefront 3</a:t>
              </a:r>
              <a:endParaRPr b="0" lang="en-US" sz="11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37" name="Rectangle 47"/>
            <p:cNvSpPr/>
            <p:nvPr/>
          </p:nvSpPr>
          <p:spPr>
            <a:xfrm>
              <a:off x="2332080" y="706320"/>
              <a:ext cx="5008680" cy="178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38" name="Straight Connector 52"/>
            <p:cNvSpPr/>
            <p:nvPr/>
          </p:nvSpPr>
          <p:spPr>
            <a:xfrm>
              <a:off x="2332080" y="1063440"/>
              <a:ext cx="500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39" name="Straight Connector 53"/>
            <p:cNvSpPr/>
            <p:nvPr/>
          </p:nvSpPr>
          <p:spPr>
            <a:xfrm>
              <a:off x="2332080" y="1419120"/>
              <a:ext cx="500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0" name="Straight Connector 54"/>
            <p:cNvSpPr/>
            <p:nvPr/>
          </p:nvSpPr>
          <p:spPr>
            <a:xfrm>
              <a:off x="2332080" y="1777320"/>
              <a:ext cx="500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1" name="Straight Connector 55"/>
            <p:cNvSpPr/>
            <p:nvPr/>
          </p:nvSpPr>
          <p:spPr>
            <a:xfrm>
              <a:off x="2332080" y="2132640"/>
              <a:ext cx="500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2332080" y="706320"/>
              <a:ext cx="3679920" cy="357120"/>
            </a:xfrm>
            <a:prstGeom prst="rect">
              <a:avLst/>
            </a:prstGeom>
            <a:solidFill>
              <a:srgbClr val="c0504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6012000" y="706320"/>
              <a:ext cx="1328760" cy="357120"/>
            </a:xfrm>
            <a:prstGeom prst="rect">
              <a:avLst/>
            </a:prstGeom>
            <a:solidFill>
              <a:srgbClr val="9bbb59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4" name="Rectangle 55"/>
            <p:cNvSpPr/>
            <p:nvPr/>
          </p:nvSpPr>
          <p:spPr>
            <a:xfrm>
              <a:off x="2330280" y="1063440"/>
              <a:ext cx="5010120" cy="355320"/>
            </a:xfrm>
            <a:prstGeom prst="rect">
              <a:avLst/>
            </a:prstGeom>
            <a:solidFill>
              <a:srgbClr val="92d050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5" name="TextBox 56"/>
            <p:cNvSpPr/>
            <p:nvPr/>
          </p:nvSpPr>
          <p:spPr>
            <a:xfrm>
              <a:off x="2330280" y="706320"/>
              <a:ext cx="15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lice</a:t>
              </a:r>
              <a:endParaRPr b="0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6" name="TextBox 58"/>
            <p:cNvSpPr/>
            <p:nvPr/>
          </p:nvSpPr>
          <p:spPr>
            <a:xfrm>
              <a:off x="5983200" y="718920"/>
              <a:ext cx="125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lice</a:t>
              </a:r>
              <a:endParaRPr b="0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cxnSp>
          <p:nvCxnSpPr>
            <p:cNvPr id="147" name="Straight Arrow Connector 64"/>
            <p:cNvCxnSpPr/>
            <p:nvPr/>
          </p:nvCxnSpPr>
          <p:spPr>
            <a:xfrm>
              <a:off x="1546200" y="3561480"/>
              <a:ext cx="72144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8" name="Straight Arrow Connector 65"/>
            <p:cNvCxnSpPr/>
            <p:nvPr/>
          </p:nvCxnSpPr>
          <p:spPr>
            <a:xfrm>
              <a:off x="1546200" y="3904920"/>
              <a:ext cx="72144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9" name="Straight Arrow Connector 66"/>
            <p:cNvCxnSpPr/>
            <p:nvPr/>
          </p:nvCxnSpPr>
          <p:spPr>
            <a:xfrm>
              <a:off x="1546200" y="3175920"/>
              <a:ext cx="72144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50" name="TextBox 71"/>
            <p:cNvSpPr/>
            <p:nvPr/>
          </p:nvSpPr>
          <p:spPr>
            <a:xfrm>
              <a:off x="1187280" y="2970000"/>
              <a:ext cx="1004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Wavefront 1</a:t>
              </a:r>
              <a:endParaRPr b="0" lang="en-US" sz="11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51" name="TextBox 72"/>
            <p:cNvSpPr/>
            <p:nvPr/>
          </p:nvSpPr>
          <p:spPr>
            <a:xfrm>
              <a:off x="1187280" y="3355920"/>
              <a:ext cx="1004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Wavefront 2</a:t>
              </a:r>
              <a:endParaRPr b="0" lang="en-US" sz="11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52" name="TextBox 73"/>
            <p:cNvSpPr/>
            <p:nvPr/>
          </p:nvSpPr>
          <p:spPr>
            <a:xfrm>
              <a:off x="1187280" y="3699000"/>
              <a:ext cx="1004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Wavefront 3</a:t>
              </a:r>
              <a:endParaRPr b="0" lang="en-US" sz="11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53" name="Rectangle 74"/>
            <p:cNvSpPr/>
            <p:nvPr/>
          </p:nvSpPr>
          <p:spPr>
            <a:xfrm>
              <a:off x="2338200" y="3014640"/>
              <a:ext cx="5008680" cy="178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54" name="Straight Connector 52"/>
            <p:cNvSpPr/>
            <p:nvPr/>
          </p:nvSpPr>
          <p:spPr>
            <a:xfrm>
              <a:off x="2338200" y="3371400"/>
              <a:ext cx="500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55" name="Straight Connector 53"/>
            <p:cNvSpPr/>
            <p:nvPr/>
          </p:nvSpPr>
          <p:spPr>
            <a:xfrm>
              <a:off x="2338200" y="3726720"/>
              <a:ext cx="500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56" name="Straight Connector 54"/>
            <p:cNvSpPr/>
            <p:nvPr/>
          </p:nvSpPr>
          <p:spPr>
            <a:xfrm>
              <a:off x="2338200" y="4083840"/>
              <a:ext cx="500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57" name="Straight Connector 55"/>
            <p:cNvSpPr/>
            <p:nvPr/>
          </p:nvSpPr>
          <p:spPr>
            <a:xfrm>
              <a:off x="2338200" y="4440600"/>
              <a:ext cx="500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58" name="Rectangle 79"/>
            <p:cNvSpPr/>
            <p:nvPr/>
          </p:nvSpPr>
          <p:spPr>
            <a:xfrm>
              <a:off x="2338200" y="3014640"/>
              <a:ext cx="3679920" cy="357120"/>
            </a:xfrm>
            <a:prstGeom prst="rect">
              <a:avLst/>
            </a:prstGeom>
            <a:solidFill>
              <a:srgbClr val="c0504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59" name="Rectangle 80"/>
            <p:cNvSpPr/>
            <p:nvPr/>
          </p:nvSpPr>
          <p:spPr>
            <a:xfrm>
              <a:off x="6018120" y="3014640"/>
              <a:ext cx="1328760" cy="357120"/>
            </a:xfrm>
            <a:prstGeom prst="rect">
              <a:avLst/>
            </a:prstGeom>
            <a:solidFill>
              <a:srgbClr val="9bbb59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60" name="Rectangle 81"/>
            <p:cNvSpPr/>
            <p:nvPr/>
          </p:nvSpPr>
          <p:spPr>
            <a:xfrm>
              <a:off x="2336760" y="3371760"/>
              <a:ext cx="5010120" cy="355320"/>
            </a:xfrm>
            <a:prstGeom prst="rect">
              <a:avLst/>
            </a:prstGeom>
            <a:solidFill>
              <a:srgbClr val="00b050">
                <a:alpha val="5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61" name="TextBox 82"/>
            <p:cNvSpPr/>
            <p:nvPr/>
          </p:nvSpPr>
          <p:spPr>
            <a:xfrm>
              <a:off x="2336760" y="3014640"/>
              <a:ext cx="15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) Slice</a:t>
              </a:r>
              <a:endParaRPr b="0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62" name="TextBox 83"/>
            <p:cNvSpPr/>
            <p:nvPr/>
          </p:nvSpPr>
          <p:spPr>
            <a:xfrm>
              <a:off x="5940360" y="3027240"/>
              <a:ext cx="15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2) Normal Slice</a:t>
              </a:r>
              <a:endParaRPr b="0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63" name="TextBox 86"/>
            <p:cNvSpPr/>
            <p:nvPr/>
          </p:nvSpPr>
          <p:spPr>
            <a:xfrm>
              <a:off x="2338200" y="3382920"/>
              <a:ext cx="23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) Dependent Slice</a:t>
              </a:r>
              <a:endParaRPr b="0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64" name="TextBox 3"/>
            <p:cNvSpPr/>
            <p:nvPr/>
          </p:nvSpPr>
          <p:spPr>
            <a:xfrm>
              <a:off x="7596360" y="1173960"/>
              <a:ext cx="15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ot allowed</a:t>
              </a:r>
              <a:endParaRPr b="0" lang="en-US" sz="16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Restriction on slices &amp; WPP)</a:t>
              </a:r>
              <a:endParaRPr b="0" lang="en-US" sz="16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65" name="TextBox 87"/>
            <p:cNvSpPr/>
            <p:nvPr/>
          </p:nvSpPr>
          <p:spPr>
            <a:xfrm>
              <a:off x="7596360" y="344556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llowed</a:t>
              </a:r>
              <a:endParaRPr b="0" lang="en-US" sz="16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66" name="Multiply 4"/>
            <p:cNvSpPr/>
            <p:nvPr/>
          </p:nvSpPr>
          <p:spPr>
            <a:xfrm>
              <a:off x="6443640" y="620640"/>
              <a:ext cx="1368360" cy="1020600"/>
            </a:xfrm>
            <a:custGeom>
              <a:avLst/>
              <a:gdLst/>
              <a:ahLst/>
              <a:rect l="l" t="t" r="r" b="b"/>
              <a:pathLst>
                <a:path w="1368425" h="1071587">
                  <a:moveTo>
                    <a:pt x="308194" y="283506"/>
                  </a:moveTo>
                  <a:lnTo>
                    <a:pt x="349129" y="231231"/>
                  </a:lnTo>
                  <a:lnTo>
                    <a:pt x="684213" y="493628"/>
                  </a:lnTo>
                  <a:lnTo>
                    <a:pt x="1019296" y="231231"/>
                  </a:lnTo>
                  <a:lnTo>
                    <a:pt x="1060231" y="283506"/>
                  </a:lnTo>
                  <a:lnTo>
                    <a:pt x="738058" y="535794"/>
                  </a:lnTo>
                  <a:lnTo>
                    <a:pt x="1060231" y="788081"/>
                  </a:lnTo>
                  <a:lnTo>
                    <a:pt x="1019296" y="840356"/>
                  </a:lnTo>
                  <a:lnTo>
                    <a:pt x="684213" y="577959"/>
                  </a:lnTo>
                  <a:lnTo>
                    <a:pt x="349129" y="840356"/>
                  </a:lnTo>
                  <a:lnTo>
                    <a:pt x="308194" y="788081"/>
                  </a:lnTo>
                  <a:lnTo>
                    <a:pt x="630367" y="535794"/>
                  </a:lnTo>
                  <a:lnTo>
                    <a:pt x="308194" y="28350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167" name="Rectangle 1"/>
          <p:cNvSpPr/>
          <p:nvPr/>
        </p:nvSpPr>
        <p:spPr>
          <a:xfrm>
            <a:off x="395280" y="5157720"/>
            <a:ext cx="828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oding of slice (3) cannot in parallel with slice (1)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oding latency is increased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um decoding latency is limited to 1 LCU row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ame problem exists also for tiles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" name="Down Arrow 41"/>
          <p:cNvSpPr/>
          <p:nvPr/>
        </p:nvSpPr>
        <p:spPr>
          <a:xfrm rot="3775200">
            <a:off x="1455120" y="4222440"/>
            <a:ext cx="417600" cy="114804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blem 3: Reduced loss resilien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95280" y="4292640"/>
            <a:ext cx="8596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ice(2) is assumed to be lost in the network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algun Gothic"/>
              </a:rPr>
              <a:t>Slice(3) is partially decodable if slice(2) is a dependent slice. However it is forced to be discarded since type (normal/dependent) of the lost slice is unknown. 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ame problem exists also for tiles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50328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171" name="Straight Arrow Connector 64"/>
          <p:cNvCxnSpPr/>
          <p:nvPr/>
        </p:nvCxnSpPr>
        <p:spPr>
          <a:xfrm>
            <a:off x="1668600" y="160128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Straight Arrow Connector 65"/>
          <p:cNvCxnSpPr/>
          <p:nvPr/>
        </p:nvCxnSpPr>
        <p:spPr>
          <a:xfrm>
            <a:off x="1668600" y="196164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Straight Arrow Connector 66"/>
          <p:cNvCxnSpPr/>
          <p:nvPr/>
        </p:nvCxnSpPr>
        <p:spPr>
          <a:xfrm>
            <a:off x="1668600" y="119664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4" name="TextBox 26"/>
          <p:cNvSpPr/>
          <p:nvPr/>
        </p:nvSpPr>
        <p:spPr>
          <a:xfrm>
            <a:off x="1309680" y="9810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1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" name="TextBox 27"/>
          <p:cNvSpPr/>
          <p:nvPr/>
        </p:nvSpPr>
        <p:spPr>
          <a:xfrm>
            <a:off x="1309680" y="13860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2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1309680" y="174636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3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2460600" y="1027080"/>
            <a:ext cx="500868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" name="Straight Connector 52"/>
          <p:cNvSpPr/>
          <p:nvPr/>
        </p:nvSpPr>
        <p:spPr>
          <a:xfrm>
            <a:off x="2460600" y="1401840"/>
            <a:ext cx="500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" name="Straight Connector 53"/>
          <p:cNvSpPr/>
          <p:nvPr/>
        </p:nvSpPr>
        <p:spPr>
          <a:xfrm>
            <a:off x="2460600" y="1774800"/>
            <a:ext cx="500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" name="Straight Connector 54"/>
          <p:cNvSpPr/>
          <p:nvPr/>
        </p:nvSpPr>
        <p:spPr>
          <a:xfrm>
            <a:off x="2460600" y="2149560"/>
            <a:ext cx="500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" name="Straight Connector 55"/>
          <p:cNvSpPr/>
          <p:nvPr/>
        </p:nvSpPr>
        <p:spPr>
          <a:xfrm>
            <a:off x="2460600" y="2523960"/>
            <a:ext cx="500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2460600" y="1027080"/>
            <a:ext cx="2832120" cy="37476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" name="Rectangle 35"/>
          <p:cNvSpPr/>
          <p:nvPr/>
        </p:nvSpPr>
        <p:spPr>
          <a:xfrm>
            <a:off x="5292720" y="1027080"/>
            <a:ext cx="2176560" cy="374760"/>
          </a:xfrm>
          <a:prstGeom prst="rect">
            <a:avLst/>
          </a:prstGeom>
          <a:solidFill>
            <a:srgbClr val="9bbb59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" name="Rectangle 36"/>
          <p:cNvSpPr/>
          <p:nvPr/>
        </p:nvSpPr>
        <p:spPr>
          <a:xfrm>
            <a:off x="2459160" y="1401840"/>
            <a:ext cx="5010120" cy="372960"/>
          </a:xfrm>
          <a:prstGeom prst="rect">
            <a:avLst/>
          </a:prstGeom>
          <a:solidFill>
            <a:srgbClr val="00b050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" name="TextBox 37"/>
          <p:cNvSpPr/>
          <p:nvPr/>
        </p:nvSpPr>
        <p:spPr>
          <a:xfrm>
            <a:off x="2459160" y="1027080"/>
            <a:ext cx="15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)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" name="TextBox 38"/>
          <p:cNvSpPr/>
          <p:nvPr/>
        </p:nvSpPr>
        <p:spPr>
          <a:xfrm>
            <a:off x="5219640" y="11048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2)Normal/Depen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" name="TextBox 39"/>
          <p:cNvSpPr/>
          <p:nvPr/>
        </p:nvSpPr>
        <p:spPr>
          <a:xfrm>
            <a:off x="2460600" y="141444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) Depen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" name="Lightning Bolt 1"/>
          <p:cNvSpPr/>
          <p:nvPr/>
        </p:nvSpPr>
        <p:spPr>
          <a:xfrm>
            <a:off x="6588000" y="620640"/>
            <a:ext cx="395280" cy="5763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6813720" y="7714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Slice (2) is lost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olution for WPP, Alternative 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7240" y="4221000"/>
            <a:ext cx="88441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PP is enabled and if a normal slice does not start at the beginning of a CTB row, then the next CTB row shall not start with a dependent s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619280" y="836640"/>
            <a:ext cx="633744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" name="Straight Connector 52"/>
          <p:cNvSpPr/>
          <p:nvPr/>
        </p:nvSpPr>
        <p:spPr>
          <a:xfrm>
            <a:off x="1619280" y="134136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" name="Straight Connector 53"/>
          <p:cNvSpPr/>
          <p:nvPr/>
        </p:nvSpPr>
        <p:spPr>
          <a:xfrm>
            <a:off x="1619280" y="184464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" name="Straight Connector 54"/>
          <p:cNvSpPr/>
          <p:nvPr/>
        </p:nvSpPr>
        <p:spPr>
          <a:xfrm>
            <a:off x="1619280" y="234936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" name="Straight Connector 55"/>
          <p:cNvSpPr/>
          <p:nvPr/>
        </p:nvSpPr>
        <p:spPr>
          <a:xfrm>
            <a:off x="1619280" y="285264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619280" y="836640"/>
            <a:ext cx="4968720" cy="50472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6588000" y="836640"/>
            <a:ext cx="1368720" cy="504720"/>
          </a:xfrm>
          <a:prstGeom prst="rect">
            <a:avLst/>
          </a:prstGeom>
          <a:solidFill>
            <a:srgbClr val="9bbb59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617840" y="1341360"/>
            <a:ext cx="6338880" cy="503280"/>
          </a:xfrm>
          <a:prstGeom prst="rect">
            <a:avLst/>
          </a:prstGeom>
          <a:solidFill>
            <a:srgbClr val="5c5c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1617840" y="836640"/>
            <a:ext cx="19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) Normal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6588000" y="8539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2) Normal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202" name="Straight Arrow Connector 64"/>
          <p:cNvCxnSpPr/>
          <p:nvPr/>
        </p:nvCxnSpPr>
        <p:spPr>
          <a:xfrm>
            <a:off x="826920" y="162828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3" name="Straight Arrow Connector 65"/>
          <p:cNvCxnSpPr/>
          <p:nvPr/>
        </p:nvCxnSpPr>
        <p:spPr>
          <a:xfrm>
            <a:off x="826920" y="213336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Straight Arrow Connector 66"/>
          <p:cNvCxnSpPr/>
          <p:nvPr/>
        </p:nvCxnSpPr>
        <p:spPr>
          <a:xfrm>
            <a:off x="826920" y="112500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5" name="TextBox 16"/>
          <p:cNvSpPr/>
          <p:nvPr/>
        </p:nvSpPr>
        <p:spPr>
          <a:xfrm>
            <a:off x="468360" y="87804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1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468360" y="136692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2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" name="TextBox 18"/>
          <p:cNvSpPr/>
          <p:nvPr/>
        </p:nvSpPr>
        <p:spPr>
          <a:xfrm>
            <a:off x="468360" y="187164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3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1617840" y="13669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) Depen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" name="Multiply 20"/>
          <p:cNvSpPr/>
          <p:nvPr/>
        </p:nvSpPr>
        <p:spPr>
          <a:xfrm>
            <a:off x="3527280" y="1015920"/>
            <a:ext cx="1476360" cy="1117800"/>
          </a:xfrm>
          <a:custGeom>
            <a:avLst/>
            <a:gdLst/>
            <a:ahLst/>
            <a:rect l="l" t="t" r="r" b="b"/>
            <a:pathLst>
              <a:path w="1476375" h="1117600">
                <a:moveTo>
                  <a:pt x="329516" y="301541"/>
                </a:moveTo>
                <a:lnTo>
                  <a:pt x="379661" y="235298"/>
                </a:lnTo>
                <a:lnTo>
                  <a:pt x="738188" y="506699"/>
                </a:lnTo>
                <a:lnTo>
                  <a:pt x="1096714" y="235298"/>
                </a:lnTo>
                <a:lnTo>
                  <a:pt x="1146859" y="301541"/>
                </a:lnTo>
                <a:lnTo>
                  <a:pt x="807014" y="558800"/>
                </a:lnTo>
                <a:lnTo>
                  <a:pt x="1146859" y="816059"/>
                </a:lnTo>
                <a:lnTo>
                  <a:pt x="1096714" y="882302"/>
                </a:lnTo>
                <a:lnTo>
                  <a:pt x="738188" y="610901"/>
                </a:lnTo>
                <a:lnTo>
                  <a:pt x="379661" y="882302"/>
                </a:lnTo>
                <a:lnTo>
                  <a:pt x="329516" y="816059"/>
                </a:lnTo>
                <a:lnTo>
                  <a:pt x="669361" y="558800"/>
                </a:lnTo>
                <a:lnTo>
                  <a:pt x="329516" y="30154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olution for WPP, Alternative 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7240" y="4221000"/>
            <a:ext cx="88441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ependent slices and WPP are both enabled, normal slices start only at the beginning of a CTB r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619280" y="836640"/>
            <a:ext cx="633744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" name="Straight Connector 52"/>
          <p:cNvSpPr/>
          <p:nvPr/>
        </p:nvSpPr>
        <p:spPr>
          <a:xfrm>
            <a:off x="1619280" y="134136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" name="Straight Connector 53"/>
          <p:cNvSpPr/>
          <p:nvPr/>
        </p:nvSpPr>
        <p:spPr>
          <a:xfrm>
            <a:off x="1619280" y="184464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" name="Straight Connector 54"/>
          <p:cNvSpPr/>
          <p:nvPr/>
        </p:nvSpPr>
        <p:spPr>
          <a:xfrm>
            <a:off x="1619280" y="234936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" name="Straight Connector 55"/>
          <p:cNvSpPr/>
          <p:nvPr/>
        </p:nvSpPr>
        <p:spPr>
          <a:xfrm>
            <a:off x="1619280" y="2852640"/>
            <a:ext cx="63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619280" y="836640"/>
            <a:ext cx="4968720" cy="504720"/>
          </a:xfrm>
          <a:prstGeom prst="rect">
            <a:avLst/>
          </a:prstGeom>
          <a:solidFill>
            <a:srgbClr val="c0504d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588000" y="836640"/>
            <a:ext cx="1368720" cy="504720"/>
          </a:xfrm>
          <a:prstGeom prst="rect">
            <a:avLst/>
          </a:prstGeom>
          <a:solidFill>
            <a:srgbClr val="9bbb59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617840" y="1341360"/>
            <a:ext cx="6338880" cy="503280"/>
          </a:xfrm>
          <a:prstGeom prst="rect">
            <a:avLst/>
          </a:prstGeom>
          <a:solidFill>
            <a:srgbClr val="5c5cff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1617840" y="836640"/>
            <a:ext cx="19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) Normal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6588000" y="8539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2) Normal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222" name="Straight Arrow Connector 64"/>
          <p:cNvCxnSpPr/>
          <p:nvPr/>
        </p:nvCxnSpPr>
        <p:spPr>
          <a:xfrm>
            <a:off x="826920" y="162828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3" name="Straight Arrow Connector 65"/>
          <p:cNvCxnSpPr/>
          <p:nvPr/>
        </p:nvCxnSpPr>
        <p:spPr>
          <a:xfrm>
            <a:off x="826920" y="213336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66"/>
          <p:cNvCxnSpPr/>
          <p:nvPr/>
        </p:nvCxnSpPr>
        <p:spPr>
          <a:xfrm>
            <a:off x="826920" y="112500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16"/>
          <p:cNvSpPr/>
          <p:nvPr/>
        </p:nvSpPr>
        <p:spPr>
          <a:xfrm>
            <a:off x="468360" y="87804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1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" name="TextBox 17"/>
          <p:cNvSpPr/>
          <p:nvPr/>
        </p:nvSpPr>
        <p:spPr>
          <a:xfrm>
            <a:off x="468360" y="136692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2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" name="TextBox 18"/>
          <p:cNvSpPr/>
          <p:nvPr/>
        </p:nvSpPr>
        <p:spPr>
          <a:xfrm>
            <a:off x="468360" y="187164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vefront 3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1617840" y="13669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) Dependent slice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" name="Multiply 20"/>
          <p:cNvSpPr/>
          <p:nvPr/>
        </p:nvSpPr>
        <p:spPr>
          <a:xfrm>
            <a:off x="6588000" y="512640"/>
            <a:ext cx="1476360" cy="1116000"/>
          </a:xfrm>
          <a:custGeom>
            <a:avLst/>
            <a:gdLst/>
            <a:ahLst/>
            <a:rect l="l" t="t" r="r" b="b"/>
            <a:pathLst>
              <a:path w="1476375" h="1116012">
                <a:moveTo>
                  <a:pt x="329574" y="301130"/>
                </a:moveTo>
                <a:lnTo>
                  <a:pt x="379603" y="234947"/>
                </a:lnTo>
                <a:lnTo>
                  <a:pt x="738188" y="506006"/>
                </a:lnTo>
                <a:lnTo>
                  <a:pt x="1096772" y="234947"/>
                </a:lnTo>
                <a:lnTo>
                  <a:pt x="1146801" y="301130"/>
                </a:lnTo>
                <a:lnTo>
                  <a:pt x="806979" y="558006"/>
                </a:lnTo>
                <a:lnTo>
                  <a:pt x="1146801" y="814882"/>
                </a:lnTo>
                <a:lnTo>
                  <a:pt x="1096772" y="881065"/>
                </a:lnTo>
                <a:lnTo>
                  <a:pt x="738188" y="610006"/>
                </a:lnTo>
                <a:lnTo>
                  <a:pt x="379603" y="881065"/>
                </a:lnTo>
                <a:lnTo>
                  <a:pt x="329574" y="814882"/>
                </a:lnTo>
                <a:lnTo>
                  <a:pt x="669396" y="558006"/>
                </a:lnTo>
                <a:lnTo>
                  <a:pt x="329574" y="30113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olution for tiles, Alternative 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7240" y="4292280"/>
            <a:ext cx="88441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first CTB of a normal slice is not the first CTB of a tile, then the next tile shall not start with a depedent s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5"/>
          <p:cNvSpPr/>
          <p:nvPr/>
        </p:nvSpPr>
        <p:spPr>
          <a:xfrm>
            <a:off x="5510160" y="915840"/>
            <a:ext cx="577800" cy="843120"/>
          </a:xfrm>
          <a:prstGeom prst="rect">
            <a:avLst/>
          </a:prstGeom>
          <a:solidFill>
            <a:srgbClr val="00b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4356000" y="903240"/>
            <a:ext cx="1155960" cy="1225440"/>
          </a:xfrm>
          <a:prstGeom prst="rect">
            <a:avLst/>
          </a:prstGeom>
          <a:solidFill>
            <a:srgbClr val="00b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" name="Rectangle 37"/>
          <p:cNvSpPr/>
          <p:nvPr/>
        </p:nvSpPr>
        <p:spPr>
          <a:xfrm>
            <a:off x="2627280" y="2430360"/>
            <a:ext cx="1733760" cy="93204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" name="Rectangle 43"/>
          <p:cNvSpPr/>
          <p:nvPr/>
        </p:nvSpPr>
        <p:spPr>
          <a:xfrm>
            <a:off x="2627280" y="912960"/>
            <a:ext cx="172872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" name="Rectangle 44"/>
          <p:cNvSpPr/>
          <p:nvPr/>
        </p:nvSpPr>
        <p:spPr>
          <a:xfrm>
            <a:off x="4356000" y="912960"/>
            <a:ext cx="172728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2627280" y="245736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2) Normal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" name="TextBox 63"/>
          <p:cNvSpPr/>
          <p:nvPr/>
        </p:nvSpPr>
        <p:spPr>
          <a:xfrm>
            <a:off x="3146400" y="33670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" name="TextBox 64"/>
          <p:cNvSpPr/>
          <p:nvPr/>
        </p:nvSpPr>
        <p:spPr>
          <a:xfrm>
            <a:off x="4818240" y="336240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" name="TextBox 68"/>
          <p:cNvSpPr/>
          <p:nvPr/>
        </p:nvSpPr>
        <p:spPr>
          <a:xfrm>
            <a:off x="4349880" y="213660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4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" name="TextBox 68"/>
          <p:cNvSpPr/>
          <p:nvPr/>
        </p:nvSpPr>
        <p:spPr>
          <a:xfrm>
            <a:off x="2627280" y="90648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1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" name="Straight Connector 52"/>
          <p:cNvSpPr/>
          <p:nvPr/>
        </p:nvSpPr>
        <p:spPr>
          <a:xfrm>
            <a:off x="4356000" y="2128680"/>
            <a:ext cx="115092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" name="Straight Connector 53"/>
          <p:cNvSpPr/>
          <p:nvPr/>
        </p:nvSpPr>
        <p:spPr>
          <a:xfrm>
            <a:off x="5508720" y="1768320"/>
            <a:ext cx="57924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" name="Straight Connector 54"/>
          <p:cNvSpPr/>
          <p:nvPr/>
        </p:nvSpPr>
        <p:spPr>
          <a:xfrm flipV="1">
            <a:off x="5513400" y="1767960"/>
            <a:ext cx="0" cy="35244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" name="TextBox 68"/>
          <p:cNvSpPr/>
          <p:nvPr/>
        </p:nvSpPr>
        <p:spPr>
          <a:xfrm>
            <a:off x="4349880" y="92700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3) Dependent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" name="Multiply 57"/>
          <p:cNvSpPr/>
          <p:nvPr/>
        </p:nvSpPr>
        <p:spPr>
          <a:xfrm>
            <a:off x="4500720" y="1060560"/>
            <a:ext cx="1366560" cy="1073160"/>
          </a:xfrm>
          <a:custGeom>
            <a:avLst/>
            <a:gdLst/>
            <a:ahLst/>
            <a:rect l="l" t="t" r="r" b="b"/>
            <a:pathLst>
              <a:path w="1366837" h="1073150">
                <a:moveTo>
                  <a:pt x="307749" y="283893"/>
                </a:moveTo>
                <a:lnTo>
                  <a:pt x="348811" y="231594"/>
                </a:lnTo>
                <a:lnTo>
                  <a:pt x="683419" y="494306"/>
                </a:lnTo>
                <a:lnTo>
                  <a:pt x="1018026" y="231594"/>
                </a:lnTo>
                <a:lnTo>
                  <a:pt x="1059088" y="283893"/>
                </a:lnTo>
                <a:lnTo>
                  <a:pt x="737255" y="536575"/>
                </a:lnTo>
                <a:lnTo>
                  <a:pt x="1059088" y="789257"/>
                </a:lnTo>
                <a:lnTo>
                  <a:pt x="1018026" y="841556"/>
                </a:lnTo>
                <a:lnTo>
                  <a:pt x="683419" y="578844"/>
                </a:lnTo>
                <a:lnTo>
                  <a:pt x="348811" y="841556"/>
                </a:lnTo>
                <a:lnTo>
                  <a:pt x="307749" y="789257"/>
                </a:lnTo>
                <a:lnTo>
                  <a:pt x="629582" y="536575"/>
                </a:lnTo>
                <a:lnTo>
                  <a:pt x="307749" y="28389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olution for tiles, Alternative 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7240" y="4292280"/>
            <a:ext cx="884412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pendent_slice_flag is equal to 1 and the first CTB of the slice is the first CTB of a tile, then the preceding and proceeding slices shall start at the beginning of a t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3"/>
          <p:cNvSpPr/>
          <p:nvPr/>
        </p:nvSpPr>
        <p:spPr>
          <a:xfrm>
            <a:off x="3494160" y="915840"/>
            <a:ext cx="577800" cy="843120"/>
          </a:xfrm>
          <a:prstGeom prst="rect">
            <a:avLst/>
          </a:prstGeom>
          <a:solidFill>
            <a:srgbClr val="00b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" name="Rectangle 44"/>
          <p:cNvSpPr/>
          <p:nvPr/>
        </p:nvSpPr>
        <p:spPr>
          <a:xfrm>
            <a:off x="2340000" y="903240"/>
            <a:ext cx="1155600" cy="1225440"/>
          </a:xfrm>
          <a:prstGeom prst="rect">
            <a:avLst/>
          </a:prstGeom>
          <a:solidFill>
            <a:srgbClr val="00b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" name="Rectangle 45"/>
          <p:cNvSpPr/>
          <p:nvPr/>
        </p:nvSpPr>
        <p:spPr>
          <a:xfrm>
            <a:off x="611280" y="2430360"/>
            <a:ext cx="1733400" cy="93204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" name="Rectangle 52"/>
          <p:cNvSpPr/>
          <p:nvPr/>
        </p:nvSpPr>
        <p:spPr>
          <a:xfrm>
            <a:off x="611280" y="912960"/>
            <a:ext cx="172872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" name="Rectangle 53"/>
          <p:cNvSpPr/>
          <p:nvPr/>
        </p:nvSpPr>
        <p:spPr>
          <a:xfrm>
            <a:off x="2340000" y="912960"/>
            <a:ext cx="172728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" name="TextBox 60"/>
          <p:cNvSpPr/>
          <p:nvPr/>
        </p:nvSpPr>
        <p:spPr>
          <a:xfrm>
            <a:off x="611280" y="245736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2) Normal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" name="TextBox 63"/>
          <p:cNvSpPr/>
          <p:nvPr/>
        </p:nvSpPr>
        <p:spPr>
          <a:xfrm>
            <a:off x="1130400" y="33670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" name="TextBox 64"/>
          <p:cNvSpPr/>
          <p:nvPr/>
        </p:nvSpPr>
        <p:spPr>
          <a:xfrm>
            <a:off x="2801880" y="336240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" name="TextBox 68"/>
          <p:cNvSpPr/>
          <p:nvPr/>
        </p:nvSpPr>
        <p:spPr>
          <a:xfrm>
            <a:off x="2333520" y="213660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4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8" name="TextBox 68"/>
          <p:cNvSpPr/>
          <p:nvPr/>
        </p:nvSpPr>
        <p:spPr>
          <a:xfrm>
            <a:off x="611280" y="90648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1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9" name="Straight Connector 67"/>
          <p:cNvSpPr/>
          <p:nvPr/>
        </p:nvSpPr>
        <p:spPr>
          <a:xfrm>
            <a:off x="2340000" y="2128680"/>
            <a:ext cx="115092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0" name="Straight Connector 68"/>
          <p:cNvSpPr/>
          <p:nvPr/>
        </p:nvSpPr>
        <p:spPr>
          <a:xfrm>
            <a:off x="3492360" y="1768320"/>
            <a:ext cx="57960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1" name="Straight Connector 71"/>
          <p:cNvSpPr/>
          <p:nvPr/>
        </p:nvSpPr>
        <p:spPr>
          <a:xfrm flipV="1">
            <a:off x="3497400" y="1767960"/>
            <a:ext cx="0" cy="35244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" name="TextBox 68"/>
          <p:cNvSpPr/>
          <p:nvPr/>
        </p:nvSpPr>
        <p:spPr>
          <a:xfrm>
            <a:off x="2333520" y="92700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3) Dependent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3" name="Multiply 73"/>
          <p:cNvSpPr/>
          <p:nvPr/>
        </p:nvSpPr>
        <p:spPr>
          <a:xfrm>
            <a:off x="833400" y="2457360"/>
            <a:ext cx="1368360" cy="1071720"/>
          </a:xfrm>
          <a:custGeom>
            <a:avLst/>
            <a:gdLst/>
            <a:ahLst/>
            <a:rect l="l" t="t" r="r" b="b"/>
            <a:pathLst>
              <a:path w="1368425" h="1071563">
                <a:moveTo>
                  <a:pt x="308195" y="283500"/>
                </a:moveTo>
                <a:lnTo>
                  <a:pt x="349128" y="231226"/>
                </a:lnTo>
                <a:lnTo>
                  <a:pt x="684213" y="493618"/>
                </a:lnTo>
                <a:lnTo>
                  <a:pt x="1019297" y="231226"/>
                </a:lnTo>
                <a:lnTo>
                  <a:pt x="1060230" y="283500"/>
                </a:lnTo>
                <a:lnTo>
                  <a:pt x="738057" y="535782"/>
                </a:lnTo>
                <a:lnTo>
                  <a:pt x="1060230" y="788063"/>
                </a:lnTo>
                <a:lnTo>
                  <a:pt x="1019297" y="840337"/>
                </a:lnTo>
                <a:lnTo>
                  <a:pt x="684213" y="577945"/>
                </a:lnTo>
                <a:lnTo>
                  <a:pt x="349128" y="840337"/>
                </a:lnTo>
                <a:lnTo>
                  <a:pt x="308195" y="788063"/>
                </a:lnTo>
                <a:lnTo>
                  <a:pt x="630368" y="535782"/>
                </a:lnTo>
                <a:lnTo>
                  <a:pt x="308195" y="2835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7812000" y="907920"/>
            <a:ext cx="577800" cy="843120"/>
          </a:xfrm>
          <a:prstGeom prst="rect">
            <a:avLst/>
          </a:prstGeom>
          <a:solidFill>
            <a:srgbClr val="00b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" name="Rectangle 75"/>
          <p:cNvSpPr/>
          <p:nvPr/>
        </p:nvSpPr>
        <p:spPr>
          <a:xfrm>
            <a:off x="6654960" y="903240"/>
            <a:ext cx="1155600" cy="1225440"/>
          </a:xfrm>
          <a:prstGeom prst="rect">
            <a:avLst/>
          </a:prstGeom>
          <a:solidFill>
            <a:srgbClr val="00b05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" name="Rectangle 76"/>
          <p:cNvSpPr/>
          <p:nvPr/>
        </p:nvSpPr>
        <p:spPr>
          <a:xfrm>
            <a:off x="4925880" y="903240"/>
            <a:ext cx="1733760" cy="2459160"/>
          </a:xfrm>
          <a:prstGeom prst="rect">
            <a:avLst/>
          </a:prstGeom>
          <a:solidFill>
            <a:srgbClr val="92d050">
              <a:alpha val="5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" name="Rectangle 77"/>
          <p:cNvSpPr/>
          <p:nvPr/>
        </p:nvSpPr>
        <p:spPr>
          <a:xfrm>
            <a:off x="4925880" y="912960"/>
            <a:ext cx="172260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" name="Rectangle 78"/>
          <p:cNvSpPr/>
          <p:nvPr/>
        </p:nvSpPr>
        <p:spPr>
          <a:xfrm>
            <a:off x="6654960" y="912960"/>
            <a:ext cx="1726920" cy="244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" name="TextBox 63"/>
          <p:cNvSpPr/>
          <p:nvPr/>
        </p:nvSpPr>
        <p:spPr>
          <a:xfrm>
            <a:off x="5445000" y="33670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" name="TextBox 64"/>
          <p:cNvSpPr/>
          <p:nvPr/>
        </p:nvSpPr>
        <p:spPr>
          <a:xfrm>
            <a:off x="7116840" y="336240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Tile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" name="TextBox 68"/>
          <p:cNvSpPr/>
          <p:nvPr/>
        </p:nvSpPr>
        <p:spPr>
          <a:xfrm>
            <a:off x="6648480" y="213660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3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" name="TextBox 68"/>
          <p:cNvSpPr/>
          <p:nvPr/>
        </p:nvSpPr>
        <p:spPr>
          <a:xfrm>
            <a:off x="4925880" y="90792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1)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" name="Straight Connector 84"/>
          <p:cNvSpPr/>
          <p:nvPr/>
        </p:nvSpPr>
        <p:spPr>
          <a:xfrm>
            <a:off x="6654960" y="2128680"/>
            <a:ext cx="115092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" name="Straight Connector 85"/>
          <p:cNvSpPr/>
          <p:nvPr/>
        </p:nvSpPr>
        <p:spPr>
          <a:xfrm>
            <a:off x="7807320" y="1768320"/>
            <a:ext cx="57960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" name="Straight Connector 86"/>
          <p:cNvSpPr/>
          <p:nvPr/>
        </p:nvSpPr>
        <p:spPr>
          <a:xfrm flipV="1">
            <a:off x="7812000" y="1767960"/>
            <a:ext cx="0" cy="35244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" name="TextBox 68"/>
          <p:cNvSpPr/>
          <p:nvPr/>
        </p:nvSpPr>
        <p:spPr>
          <a:xfrm>
            <a:off x="6648480" y="92700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(2) Dependent Slic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" name="Multiply 88"/>
          <p:cNvSpPr/>
          <p:nvPr/>
        </p:nvSpPr>
        <p:spPr>
          <a:xfrm>
            <a:off x="6799320" y="2355840"/>
            <a:ext cx="1368360" cy="1073160"/>
          </a:xfrm>
          <a:custGeom>
            <a:avLst/>
            <a:gdLst/>
            <a:ahLst/>
            <a:rect l="l" t="t" r="r" b="b"/>
            <a:pathLst>
              <a:path w="1368425" h="1073150">
                <a:moveTo>
                  <a:pt x="308145" y="283905"/>
                </a:moveTo>
                <a:lnTo>
                  <a:pt x="349178" y="231583"/>
                </a:lnTo>
                <a:lnTo>
                  <a:pt x="684213" y="494325"/>
                </a:lnTo>
                <a:lnTo>
                  <a:pt x="1019247" y="231583"/>
                </a:lnTo>
                <a:lnTo>
                  <a:pt x="1060280" y="283905"/>
                </a:lnTo>
                <a:lnTo>
                  <a:pt x="738088" y="536575"/>
                </a:lnTo>
                <a:lnTo>
                  <a:pt x="1060280" y="789245"/>
                </a:lnTo>
                <a:lnTo>
                  <a:pt x="1019247" y="841567"/>
                </a:lnTo>
                <a:lnTo>
                  <a:pt x="684213" y="578825"/>
                </a:lnTo>
                <a:lnTo>
                  <a:pt x="349178" y="841567"/>
                </a:lnTo>
                <a:lnTo>
                  <a:pt x="308145" y="789245"/>
                </a:lnTo>
                <a:lnTo>
                  <a:pt x="630337" y="536575"/>
                </a:lnTo>
                <a:lnTo>
                  <a:pt x="308145" y="28390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Semih Esenlik</cp:lastModifiedBy>
  <dcterms:modified xsi:type="dcterms:W3CDTF">2012-10-12T06:07:14Z</dcterms:modified>
  <cp:revision>2529</cp:revision>
  <dc:subject/>
  <dc:title>Template</dc:title>
</cp:coreProperties>
</file>