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B858-5B88-4845-9803-92AB47E31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99CD-21B6-453F-A569-58F40C342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C460-2662-428A-83B6-AA692F7C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0220-A0C3-47C5-B7F4-B19839ABD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8C55-9B9B-4A7B-B4E0-D92CF53E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1666-B072-4F5B-9DF5-180C05E5F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35A2-CD34-4227-A814-EC1CE9947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191A-25C9-486E-BD08-E44F44DB0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D43F-703A-4EA0-A430-04DF0A2BC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F67C-4066-420A-9280-83DBB0459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775F-491F-4786-A4A4-43283101A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D571-58F3-4E77-B435-3A135F4DF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6200-0B09-4EC4-AD9D-6324C0736B78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47640" y="1233360"/>
            <a:ext cx="788508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M software implementation and source code for JCTVC-K0133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K013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0 Oct. – 19 Oct. 201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A0E4-3DE6-4DA8-A161-B875FAFC4E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odification to H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620640"/>
            <a:ext cx="8821800" cy="58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dded/modified codes are under the control of macro #define DUAL_CODER 1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ource code files added to subfolder TLibComm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10000"/>
              </a:lnSpc>
              <a:spcBef>
                <a:spcPts val="901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TComDictCoder.cp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10000"/>
              </a:lnSpc>
              <a:spcBef>
                <a:spcPts val="901"/>
              </a:spcBef>
              <a:buClr>
                <a:srgbClr val="40458c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TComDictCoder.h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calls to encode a CU using Dict-coder are added to TEncSlice::compressSlice() in TEncSlice.cp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tream writing by CABAC is added to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cSlice::encodeSlice() in TEncSlice.cpp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 code added to decompressSlice() in class TDecSli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6D1C-A2DF-4545-BCCB-28A1A9155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Usage of the modified H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765000"/>
            <a:ext cx="80294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ncoding parameters are add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宋体"/>
              </a:rPr>
              <a:t>DualCoder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  <a:ea typeface="宋体"/>
              </a:rPr>
              <a:t>DictionaryCoderLevel</a:t>
            </a: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g file setting, example 1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DualCoderMode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: 1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#enable dual-code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DictionaryCoderLevel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: 4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#set dict level to 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g file setting, example 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DualCoderMode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: 0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#disable dual-code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A743-FE4B-4694-BC97-FFB4487672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Modification to H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7280" y="620640"/>
            <a:ext cx="8461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er implements 7 dictionary size options (informative)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" y="1736640"/>
          <a:ext cx="8353440" cy="4824360"/>
        </p:xfrm>
        <a:graphic>
          <a:graphicData uri="http://schemas.openxmlformats.org/drawingml/2006/table">
            <a:tbl>
              <a:tblPr/>
              <a:tblGrid>
                <a:gridCol w="1800360"/>
                <a:gridCol w="2193840"/>
                <a:gridCol w="2406600"/>
                <a:gridCol w="195264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ionary size option #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ionary size (KB)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h tabel size (KB)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h value bits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92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56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9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44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213560" y="464616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17E1-F070-4EA6-94B4-C09FF9434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620640"/>
            <a:ext cx="85327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creen capture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-8.0-dev-ahg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used as the anch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132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2920" y="1628640"/>
          <a:ext cx="8821800" cy="4768560"/>
        </p:xfrm>
        <a:graphic>
          <a:graphicData uri="http://schemas.openxmlformats.org/drawingml/2006/table">
            <a:tbl>
              <a:tblPr/>
              <a:tblGrid>
                <a:gridCol w="1152720"/>
                <a:gridCol w="584280"/>
                <a:gridCol w="763560"/>
                <a:gridCol w="817560"/>
                <a:gridCol w="866520"/>
                <a:gridCol w="868680"/>
                <a:gridCol w="761760"/>
                <a:gridCol w="763560"/>
                <a:gridCol w="714600"/>
                <a:gridCol w="714240"/>
                <a:gridCol w="814320"/>
              </a:tblGrid>
              <a:tr h="213480">
                <a:tc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I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P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ption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1_CAD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avefor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5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6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6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6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7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7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7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2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5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8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2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7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9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2_CAD_waveform_Street_Campu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3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4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7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5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8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4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5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3_PCB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9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5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4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5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9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0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0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5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4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0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4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4_PCB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hemati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8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0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4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9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8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9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5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1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2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6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8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7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83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6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5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7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9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5_ppt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oc_xl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6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7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3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8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7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2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8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5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9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7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9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6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6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6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9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5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45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0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6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59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63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3480">
                <a:tc rowSpan="3">
                  <a:txBody>
                    <a:bodyPr lIns="72000" rIns="72000" tIns="0" bIns="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6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1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44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3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4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3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5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7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1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1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4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6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5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3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8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3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5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63388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JCTVC-K0134-r2.xls for more dictionary size op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78AC-1661-4FCC-A6C8-EE7E9C703D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000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ubjective Quality Compari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5680" y="620640"/>
            <a:ext cx="6591240" cy="5029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95280" y="64008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brid coder: 598kbp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661000"/>
            <a:ext cx="38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&amp; circles are broken, lose details, distorted, or discolore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871640" y="1844280"/>
            <a:ext cx="503280" cy="3924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82920" y="1413000"/>
            <a:ext cx="1008000" cy="4356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2000" y="587700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stor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700360" y="2960280"/>
            <a:ext cx="1150920" cy="2808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4560" y="5408280"/>
            <a:ext cx="75564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06560" y="4616280"/>
            <a:ext cx="936720" cy="1152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5445000"/>
            <a:ext cx="71280" cy="324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06200" y="5408280"/>
            <a:ext cx="360360" cy="360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96000" y="6400800"/>
            <a:ext cx="29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al-coder: 550kbp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BA64-4FA9-46CD-8649-B3D8E570F5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4000" y="692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341360"/>
            <a:ext cx="799308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+hybrid dual-coder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ed to H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d by #define</a:t>
            </a:r>
            <a:r>
              <a:rPr b="0" lang="en-CA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_CODER 1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BD-rate redu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subjective improv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check by JCTVC-K0329 (TI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adopt the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code to H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E755-26EA-4F41-A8DA-B1CFCDCB8B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04EF-4F14-427C-BB49-77640F160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2-10-16T15:48:26Z</dcterms:modified>
  <cp:revision>1346</cp:revision>
  <dc:subject/>
  <dc:title>Slide 1</dc:title>
</cp:coreProperties>
</file>