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B4E81-A9BA-4218-99EC-AA80061A2B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4F27A-BC11-4B97-9D93-EB2176FA1B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0DA86-2D24-43C2-B8B4-A3DC6B658C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416CC-9920-4B80-8967-F67ED5C6E2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63AAE-EB95-4648-AFC0-C39C3416E9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2EE77-7F4C-4AC6-B748-F016438723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4A02C-F564-4BE2-BABD-521608C5CA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2FC3B-F4D9-41AF-B6A0-2986CAE7F1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E6E6A-9DB4-495A-83F0-51C886FEA0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DE885-FD16-4CA9-952D-D0606E9878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3A045-0789-44D6-ACC7-0E3670031F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D67B5-60D1-421E-A972-39660A13BE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304920"/>
              <a:ext cx="9144000" cy="6400800"/>
              <a:chOff x="0" y="304920"/>
              <a:chExt cx="9144000" cy="64008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3049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9144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12193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15238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18288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21337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24382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27432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0481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526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6576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39625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42670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45720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48769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1814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4864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7913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60958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64008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67057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" name=""/>
            <p:cNvGrpSpPr/>
            <p:nvPr/>
          </p:nvGrpSpPr>
          <p:grpSpPr>
            <a:xfrm>
              <a:off x="304920" y="0"/>
              <a:ext cx="8534160" cy="6858000"/>
              <a:chOff x="304920" y="0"/>
              <a:chExt cx="8534160" cy="6858000"/>
            </a:xfrm>
          </p:grpSpPr>
          <p:sp>
            <p:nvSpPr>
              <p:cNvPr id="25" name=""/>
              <p:cNvSpPr/>
              <p:nvPr/>
            </p:nvSpPr>
            <p:spPr>
              <a:xfrm>
                <a:off x="3049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094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9144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2193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15238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8288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21337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24382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7432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30481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33526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36576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39625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42670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45720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48769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1814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54864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7913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60958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4008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7057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0102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52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6201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9246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2296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5345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8390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" name=""/>
          <p:cNvSpPr/>
          <p:nvPr/>
        </p:nvSpPr>
        <p:spPr>
          <a:xfrm>
            <a:off x="3352680" y="0"/>
            <a:ext cx="579132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-76320" y="0"/>
            <a:ext cx="1828800" cy="5144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sldNum" idx="1"/>
          </p:nvPr>
        </p:nvSpPr>
        <p:spPr>
          <a:xfrm>
            <a:off x="7092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90584-9E84-4BE4-B076-95DA4F34B6AA}" type="slidenum">
              <a:rPr b="0" lang="zh-CN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0" y="512640"/>
            <a:ext cx="9144000" cy="131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7059600" y="0"/>
            <a:ext cx="2084400" cy="5223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-76320" y="0"/>
            <a:ext cx="1828800" cy="5144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7772400" y="25560"/>
            <a:ext cx="126828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华文行楷"/>
              </a:rPr>
              <a:t>VLSI</a:t>
            </a: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华文行楷"/>
              </a:rPr>
              <a:t>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华文行楷"/>
              <a:ea typeface="华文行楷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47640" y="1233360"/>
            <a:ext cx="7885080" cy="20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Full-chroma (YUV444) Dictionary+hybrid Dual-coder Extension of HEVC</a:t>
            </a:r>
            <a:endParaRPr b="0" lang="en-US" sz="3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11280" y="3808080"/>
            <a:ext cx="7921440" cy="17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alibri"/>
              </a:rPr>
              <a:t>JCTVC-K0133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alibri"/>
              </a:rPr>
              <a:t>10 Oct. – 19 Oct. 2012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alibri"/>
              </a:rPr>
              <a:t>Tao Li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6C8CA-35C5-4EF1-A71E-90C74002768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47640" y="0"/>
            <a:ext cx="5824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CABAC Parsing Proces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503280" y="728640"/>
          <a:ext cx="8101080" cy="3429000"/>
        </p:xfrm>
        <a:graphic>
          <a:graphicData uri="http://schemas.openxmlformats.org/drawingml/2006/table">
            <a:tbl>
              <a:tblPr/>
              <a:tblGrid>
                <a:gridCol w="2124000"/>
                <a:gridCol w="828720"/>
                <a:gridCol w="1800360"/>
                <a:gridCol w="1260360"/>
                <a:gridCol w="1042920"/>
                <a:gridCol w="1044720"/>
              </a:tblGrid>
              <a:tr h="21420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Malgun Gothic"/>
                        </a:rPr>
                        <a:t>Syntax element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Malgun Gothic"/>
                        </a:rPr>
                        <a:t>initType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Malgun Gothic"/>
                        </a:rPr>
                        <a:t>Type of binarization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Malgun Gothic"/>
                        </a:rPr>
                        <a:t>maxBinIdxCtx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Malgun Gothic"/>
                        </a:rPr>
                        <a:t>ctxIdxTable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Malgun Gothic"/>
                        </a:rPr>
                        <a:t>ctxIdxOffset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 rowSpan="3"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Malgun Gothic"/>
                        </a:rPr>
                        <a:t>cu_coded_by_dict_coder_flag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Malgun Gothic"/>
                        </a:rPr>
                        <a:t>FL, cMax = 1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PMingLiU"/>
                        </a:rPr>
                        <a:t>0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Malgun Gothic"/>
                        </a:rPr>
                        <a:t>Table 2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Malgun Gothic"/>
                        </a:rPr>
                        <a:t>0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PMingLiU"/>
                        </a:rPr>
                        <a:t>0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Malgun Gothic"/>
                        </a:rPr>
                        <a:t>Table 2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PMingLiU"/>
                        </a:rPr>
                        <a:t>1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PMingLiU"/>
                        </a:rPr>
                        <a:t>0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Malgun Gothic"/>
                        </a:rPr>
                        <a:t>Table 2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PMingLiU"/>
                        </a:rPr>
                        <a:t>2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 rowSpan="3"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Malgun Gothic"/>
                        </a:rPr>
                        <a:t>matching_string_flag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Malgun Gothic"/>
                        </a:rPr>
                        <a:t>FL, cMax = 1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PMingLiU"/>
                        </a:rPr>
                        <a:t>0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Malgun Gothic"/>
                        </a:rPr>
                        <a:t>Table 3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Malgun Gothic"/>
                        </a:rPr>
                        <a:t>0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PMingLiU"/>
                        </a:rPr>
                        <a:t>0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Malgun Gothic"/>
                        </a:rPr>
                        <a:t>Table 3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PMingLiU"/>
                        </a:rPr>
                        <a:t>1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PMingLiU"/>
                        </a:rPr>
                        <a:t>0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Malgun Gothic"/>
                        </a:rPr>
                        <a:t>Table 3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PMingLiU"/>
                        </a:rPr>
                        <a:t>2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 rowSpan="3"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Malgun Gothic"/>
                        </a:rPr>
                        <a:t>matching_string_distance_use_recent_8_flag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Malgun Gothic"/>
                        </a:rPr>
                        <a:t>FL, cMax = 1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PMingLiU"/>
                        </a:rPr>
                        <a:t>0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Malgun Gothic"/>
                        </a:rPr>
                        <a:t>Table 4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Malgun Gothic"/>
                        </a:rPr>
                        <a:t>0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PMingLiU"/>
                        </a:rPr>
                        <a:t>0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Malgun Gothic"/>
                        </a:rPr>
                        <a:t>Table 4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PMingLiU"/>
                        </a:rPr>
                        <a:t>1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PMingLiU"/>
                        </a:rPr>
                        <a:t>0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Malgun Gothic"/>
                        </a:rPr>
                        <a:t>Table 4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PMingLiU"/>
                        </a:rPr>
                        <a:t>2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 rowSpan="3"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matching_string_distance_recent_8_idx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Malgun Gothic"/>
                        </a:rPr>
                        <a:t>FL, cMax = </a:t>
                      </a: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Malgun Gothic"/>
                        </a:rPr>
                        <a:t>Table 5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Malgun Gothic"/>
                        </a:rPr>
                        <a:t>0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Malgun Gothic"/>
                        </a:rPr>
                        <a:t>Table 5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Malgun Gothic"/>
                        </a:rPr>
                        <a:t>Table 5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 rowSpan="3"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matching_string_distance_minus1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Malgun Gothic"/>
                        </a:rPr>
                        <a:t>refix</a:t>
                      </a: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:</a:t>
                      </a: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Malgun Gothic"/>
                        </a:rPr>
                        <a:t> FL, cMax = </a:t>
                      </a: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suffix: </a:t>
                      </a: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Malgun Gothic"/>
                        </a:rPr>
                        <a:t>FL, cMax = </a:t>
                      </a: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(1&lt;&lt; max(p</a:t>
                      </a: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Malgun Gothic"/>
                        </a:rPr>
                        <a:t>refix</a:t>
                      </a: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,1)) - 1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Malgun Gothic"/>
                        </a:rPr>
                        <a:t>Table 6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Malgun Gothic"/>
                        </a:rPr>
                        <a:t>0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Malgun Gothic"/>
                        </a:rPr>
                        <a:t>Table 6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26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Malgun Gothic"/>
                        </a:rPr>
                        <a:t>Table 6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52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2" name=""/>
          <p:cNvSpPr/>
          <p:nvPr/>
        </p:nvSpPr>
        <p:spPr>
          <a:xfrm>
            <a:off x="0" y="424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503280" y="4149720"/>
          <a:ext cx="8101080" cy="1928880"/>
        </p:xfrm>
        <a:graphic>
          <a:graphicData uri="http://schemas.openxmlformats.org/drawingml/2006/table">
            <a:tbl>
              <a:tblPr/>
              <a:tblGrid>
                <a:gridCol w="2124000"/>
                <a:gridCol w="828720"/>
                <a:gridCol w="1800360"/>
                <a:gridCol w="1260360"/>
                <a:gridCol w="1042920"/>
                <a:gridCol w="1044720"/>
              </a:tblGrid>
              <a:tr h="213480">
                <a:tc rowSpan="3"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matching_string_length_minus2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Malgun Gothic"/>
                        </a:rPr>
                        <a:t>refix</a:t>
                      </a: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:</a:t>
                      </a: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Malgun Gothic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TU</a:t>
                      </a: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Malgun Gothic"/>
                        </a:rPr>
                        <a:t>, cMax = </a:t>
                      </a: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suffix: </a:t>
                      </a: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Malgun Gothic"/>
                        </a:rPr>
                        <a:t>FL, cMax = </a:t>
                      </a: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(p</a:t>
                      </a: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Malgun Gothic"/>
                        </a:rPr>
                        <a:t>refix</a:t>
                      </a: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 &lt; 2)? 7:255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Malgun Gothic"/>
                        </a:rPr>
                        <a:t>Table 7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Malgun Gothic"/>
                        </a:rPr>
                        <a:t>0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Malgun Gothic"/>
                        </a:rPr>
                        <a:t>Table 7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Malgun Gothic"/>
                        </a:rPr>
                        <a:t>Table 7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32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rowSpan="3"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unmatchable_sample_residual_abs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Malgun Gothic"/>
                        </a:rPr>
                        <a:t>FL, cMax = </a:t>
                      </a: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255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Malgun Gothic"/>
                        </a:rPr>
                        <a:t>Table 8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Malgun Gothic"/>
                        </a:rPr>
                        <a:t>0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Malgun Gothic"/>
                        </a:rPr>
                        <a:t>Table 8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Malgun Gothic"/>
                        </a:rPr>
                        <a:t>Table 8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rowSpan="3"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Malgun Gothic"/>
                        </a:rPr>
                        <a:t>unmatchable_sample_residual_sign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Malgun Gothic"/>
                        </a:rPr>
                        <a:t>FL, cMax = 1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PMingLiU"/>
                        </a:rPr>
                        <a:t>0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Malgun Gothic"/>
                        </a:rPr>
                        <a:t>Table 9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Malgun Gothic"/>
                        </a:rPr>
                        <a:t>0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PMingLiU"/>
                        </a:rPr>
                        <a:t>0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Malgun Gothic"/>
                        </a:rPr>
                        <a:t>Table 9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PMingLiU"/>
                        </a:rPr>
                        <a:t>1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PMingLiU"/>
                        </a:rPr>
                        <a:t>0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Malgun Gothic"/>
                        </a:rPr>
                        <a:t>Table 9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PMingLiU"/>
                        </a:rPr>
                        <a:t>2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326BE-FD48-491F-B360-82539658981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547640" y="0"/>
            <a:ext cx="5824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CABAC Parsing Proces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424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79280" y="620640"/>
          <a:ext cx="8713800" cy="6143760"/>
        </p:xfrm>
        <a:graphic>
          <a:graphicData uri="http://schemas.openxmlformats.org/drawingml/2006/table">
            <a:tbl>
              <a:tblPr/>
              <a:tblGrid>
                <a:gridCol w="4140360"/>
                <a:gridCol w="865080"/>
                <a:gridCol w="792360"/>
                <a:gridCol w="755640"/>
                <a:gridCol w="755640"/>
                <a:gridCol w="755640"/>
                <a:gridCol w="649080"/>
              </a:tblGrid>
              <a:tr h="2746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ntax element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nIdx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=5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_coded_by_dict_coder_flag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ching_string_flag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ching_string_distance_use_recent_8_flag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ching_string_distance_recent_8_idx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ching_string_distance_minus1 (prefix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ching_string_distance_minus1 (suffix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.2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txIdxInc = 5 + binIdx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8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ching_string_length_minus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prefix)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ching_string_length_minus2 (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ffix) when prefix = 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ching_string_length_minus2 (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ffix) when prefix = 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ching_string_length_minus2 (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ffix) when prefix = 2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.7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txIdxInc = 8 + binIdx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matchable_sample_residual_abs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.7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txIdxInc = binIdx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5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matchable_sample_residual_sign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PMingLiU"/>
                        </a:rPr>
                        <a:t>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7" name=""/>
          <p:cNvSpPr/>
          <p:nvPr/>
        </p:nvSpPr>
        <p:spPr>
          <a:xfrm>
            <a:off x="0" y="553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1C73B-09B0-4CEF-8A2B-BB61140AAEE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250920" y="512640"/>
            <a:ext cx="7021440" cy="10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47840" indent="-44784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screen capture sequenc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447840" indent="-44784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chor</a:t>
            </a:r>
            <a:r>
              <a:rPr b="1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HM-8.0-dev-ahg7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547640" y="0"/>
            <a:ext cx="5824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Experimental Result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741320" y="1515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142920" y="1521000"/>
          <a:ext cx="8858160" cy="4911480"/>
        </p:xfrm>
        <a:graphic>
          <a:graphicData uri="http://schemas.openxmlformats.org/drawingml/2006/table">
            <a:tbl>
              <a:tblPr/>
              <a:tblGrid>
                <a:gridCol w="1214280"/>
                <a:gridCol w="766800"/>
                <a:gridCol w="755640"/>
                <a:gridCol w="755640"/>
                <a:gridCol w="792360"/>
                <a:gridCol w="757080"/>
                <a:gridCol w="755640"/>
                <a:gridCol w="755640"/>
                <a:gridCol w="766800"/>
                <a:gridCol w="768240"/>
                <a:gridCol w="770040"/>
              </a:tblGrid>
              <a:tr h="3070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quence name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ctionary size option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I_main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P_main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_main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D-rate (cubic)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D-rate (cubic)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D-rate (cubic)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1_CAD_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aveform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71.9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74.2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74.7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64.2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67.5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67.4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72.1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74.7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75.4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2_CAD_waveform_Street_Campus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62.3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70.2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70.9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40.1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68.0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69.3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54.9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71.9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72.8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3_PCB_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yout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79.9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82.4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84.2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60.7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64.1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63.4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73.3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75.9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76.7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4_PCB_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hematic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76.8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81.0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82.8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59.3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63.9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62.8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72.7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76.6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78.0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5_ppt_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c_xls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45.6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49.7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57.0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34.1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39.6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44.7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46.7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50.6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56.0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67.3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71.5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73.9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51.7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60.6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61.5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64.0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69.9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71.8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c Time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c Time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2" name=""/>
          <p:cNvSpPr/>
          <p:nvPr/>
        </p:nvSpPr>
        <p:spPr>
          <a:xfrm>
            <a:off x="0" y="633888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47840" indent="-447840">
              <a:spcBef>
                <a:spcPts val="700"/>
              </a:spcBef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JCTVC-K0134-r2.xls for more dictionary size option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EDEBB-4D18-4BF7-A826-2DD2BC097BA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224000" y="584280"/>
            <a:ext cx="6696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16000" y="1038240"/>
            <a:ext cx="8712000" cy="55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ctionary+hybrid dual-coder</a:t>
            </a: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straightforward yet very effective extension of HEVC for SCC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55680" indent="-35568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ally just adding three new syntax elements in cu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55680" indent="-35568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ificant BD-rate reduction and subjective improvemen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55680" indent="-35568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ss-check by JCTVC-K0329 (TI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55680" indent="-35568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3 complete meeting cycles, quite mature now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55680" indent="-35568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 to adopt the </a:t>
            </a:r>
            <a:r>
              <a:rPr b="1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ctionary+hybrid dual-coder extensio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55680" indent="-35568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 to have discontinuous-tone content oriented test-set of sequences and test condition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26A15-9719-455C-BEF5-1D4E361BE92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2637000"/>
            <a:ext cx="91440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40458c"/>
                </a:solidFill>
                <a:latin typeface="Times New Roman"/>
              </a:rPr>
              <a:t>THANK  YOU</a:t>
            </a:r>
            <a:endParaRPr b="0" lang="en-US" sz="8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46814-4831-4FEF-88EB-51D8DEDC958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42920" y="1015920"/>
            <a:ext cx="8856720" cy="41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47840" indent="-447840">
              <a:spcBef>
                <a:spcPts val="1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een picture has two types of content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076400" indent="-44928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ontinuous-tone content + Discontinuous-tone conten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47840" indent="-447840">
              <a:spcBef>
                <a:spcPts val="1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brid coding is not discontinuous-tone oriented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076400" indent="-44928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ven 444 has bad quality (due to high QP) at low bit-rat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47840" indent="-447840">
              <a:spcBef>
                <a:spcPts val="1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ctionary coder can do a much better job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1076400" indent="-44928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Using a super-large predictor set (dictionary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1076400" indent="-44928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ash table based quick string search can code the picture at much lower bitrat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24000" y="584280"/>
            <a:ext cx="6696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5121360"/>
            <a:ext cx="2684520" cy="8096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771640" y="5121360"/>
            <a:ext cx="6591600" cy="5029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3E04B-3607-416C-A98C-DB4EB374E9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511280" y="0"/>
            <a:ext cx="582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Dual-coder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19280" y="2744640"/>
            <a:ext cx="151308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dictionary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58800" y="101592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ginal Input CU 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87640" y="3933720"/>
            <a:ext cx="255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reference/predictio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6200" y="2203560"/>
            <a:ext cx="1563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5223960" y="3333600"/>
            <a:ext cx="146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9040" y="4921200"/>
            <a:ext cx="108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9040" y="1393920"/>
            <a:ext cx="1440" cy="352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86400" y="2444760"/>
            <a:ext cx="1928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84840" y="2363760"/>
            <a:ext cx="0" cy="9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32640" y="2392200"/>
            <a:ext cx="104760" cy="16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40040" y="1717560"/>
            <a:ext cx="3546360" cy="1051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88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ctionary-entropy Coder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tring-matching, CABAC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01880" y="3252960"/>
            <a:ext cx="3322440" cy="647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52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al-purpose Constructed Pixel Buffer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4195800" y="2760840"/>
            <a:ext cx="0" cy="48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415280" y="1123920"/>
            <a:ext cx="312840" cy="4283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D Cost Based Selector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742160" y="3284640"/>
            <a:ext cx="933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75560" y="2363760"/>
            <a:ext cx="12524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ual-coder Bitstream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6684840" y="3817440"/>
            <a:ext cx="0" cy="80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49320" y="4921200"/>
            <a:ext cx="2811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684840" y="2685960"/>
            <a:ext cx="338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486400" y="1555920"/>
            <a:ext cx="1406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Bitstream b</a:t>
            </a:r>
            <a:r>
              <a:rPr b="0" lang="zh-CN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9040" y="1393920"/>
            <a:ext cx="672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945480" y="5192640"/>
            <a:ext cx="323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86400" y="1960560"/>
            <a:ext cx="1928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11720" y="5273640"/>
            <a:ext cx="1303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684840" y="3979800"/>
            <a:ext cx="333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042320" y="1341360"/>
            <a:ext cx="233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85960" y="4384800"/>
            <a:ext cx="4329000" cy="10508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88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ditional Hybrid Coder (Prediction, Transform, Quantization, CABAC, etc.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4195800" y="3890520"/>
            <a:ext cx="0" cy="48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36480" y="2122560"/>
            <a:ext cx="104760" cy="16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62160" y="2687760"/>
            <a:ext cx="0" cy="1374480"/>
          </a:xfrm>
          <a:prstGeom prst="line">
            <a:avLst/>
          </a:prstGeom>
          <a:ln w="7632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9040" y="2336760"/>
            <a:ext cx="10936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oder 1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9040" y="4033800"/>
            <a:ext cx="10936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oder 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03280" y="5950080"/>
            <a:ext cx="208080" cy="287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52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41240" y="5919840"/>
            <a:ext cx="33260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=New dict-entropy coder added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41680" y="5950080"/>
            <a:ext cx="209520" cy="2808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52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02320" y="5913360"/>
            <a:ext cx="44416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Traditional hybrid coder used w/o chang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5223960" y="3817800"/>
            <a:ext cx="146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11720" y="4546440"/>
            <a:ext cx="1303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32640" y="4465800"/>
            <a:ext cx="104760" cy="161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64280" y="4873680"/>
            <a:ext cx="990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bitstream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81640" y="3333600"/>
            <a:ext cx="192888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ucted pixel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5400000">
            <a:off x="-303480" y="297504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UV 444 Inpu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76720" y="648972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407AD-3F36-43E2-93A0-5BB1EE0707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595520" y="1027080"/>
            <a:ext cx="37321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u_coded_by_dict_coder_flag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39800" y="4076640"/>
            <a:ext cx="2192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MS Mincho"/>
              </a:rPr>
              <a:t>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9240" y="3576600"/>
            <a:ext cx="103824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ual-code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Bitstream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863640" y="2923920"/>
            <a:ext cx="0" cy="4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63640" y="1052640"/>
            <a:ext cx="691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3451320"/>
            <a:ext cx="1311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85800" y="1951200"/>
            <a:ext cx="32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6778800" y="3076560"/>
            <a:ext cx="599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85800" y="4700520"/>
            <a:ext cx="32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378560" y="3576600"/>
            <a:ext cx="0" cy="11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105680" y="1951200"/>
            <a:ext cx="5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378560" y="1951200"/>
            <a:ext cx="0" cy="11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5356080" y="2325600"/>
            <a:ext cx="0" cy="62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356080" y="3700080"/>
            <a:ext cx="0" cy="625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105680" y="4700520"/>
            <a:ext cx="554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53240" y="1569960"/>
            <a:ext cx="258840" cy="3505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2-to-1 Mux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03280" y="1450800"/>
            <a:ext cx="700200" cy="1473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80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Cod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Type Parser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926480" y="3073320"/>
            <a:ext cx="92844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863640" y="1052640"/>
            <a:ext cx="0" cy="41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1476360" y="1052640"/>
            <a:ext cx="0" cy="64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311120" y="1701720"/>
            <a:ext cx="274680" cy="3373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1-to-2 Demux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7775640" y="1052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39800" y="1951200"/>
            <a:ext cx="238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MS Mincho"/>
              </a:rPr>
              <a:t>1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6778800" y="3576600"/>
            <a:ext cx="599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17560" y="3355920"/>
            <a:ext cx="117360" cy="10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420920" y="1015920"/>
            <a:ext cx="126720" cy="10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324560" y="1881360"/>
            <a:ext cx="127080" cy="107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308720" y="4616280"/>
            <a:ext cx="142920" cy="1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913040" y="1576440"/>
            <a:ext cx="5192640" cy="749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88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ctionary-entrop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Decod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String-construction, CABAC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913040" y="4325760"/>
            <a:ext cx="5192640" cy="749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88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ditional Hybri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Decod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CABAC, DQ, IT, MC, etc.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276720" y="3824280"/>
            <a:ext cx="24858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For refere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predictio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60720" y="2951280"/>
            <a:ext cx="3718080" cy="749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88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ual-purpose Constructed Pixel Buffer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105680" y="3951360"/>
            <a:ext cx="2779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MS Mincho"/>
              </a:rPr>
              <a:t>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105680" y="2325600"/>
            <a:ext cx="2062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MS Mincho"/>
              </a:rPr>
              <a:t>1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340000" y="2637000"/>
            <a:ext cx="0" cy="1223640"/>
          </a:xfrm>
          <a:prstGeom prst="line">
            <a:avLst/>
          </a:prstGeom>
          <a:ln w="7632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19280" y="2325600"/>
            <a:ext cx="1332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Decoder 1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55640" y="3825720"/>
            <a:ext cx="1295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Decoder 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780000" y="2384280"/>
            <a:ext cx="16128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dictionary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30040" y="5943600"/>
            <a:ext cx="208080" cy="287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52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68360" y="5913360"/>
            <a:ext cx="35272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=New dict-entropy decoder added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168800" y="5943600"/>
            <a:ext cx="209520" cy="2811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52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429080" y="5907240"/>
            <a:ext cx="4714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Traditional hybrid decoder used w/o chang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812000" y="3076560"/>
            <a:ext cx="1332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onstructe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Õ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11280" y="0"/>
            <a:ext cx="5824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Dual-coder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76720" y="648972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1FA39-CE8D-4F84-932E-6F4000A548F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47640" y="0"/>
            <a:ext cx="5824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Dual-coder Bitstream Syntax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187280" y="728640"/>
          <a:ext cx="7164360" cy="4802040"/>
        </p:xfrm>
        <a:graphic>
          <a:graphicData uri="http://schemas.openxmlformats.org/drawingml/2006/table">
            <a:tbl>
              <a:tblPr/>
              <a:tblGrid>
                <a:gridCol w="5292720"/>
                <a:gridCol w="187164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q_parameter_set_rbsp( ) {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Descriptor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deo_parameter_set_id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(4)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snip ……&gt;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CA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ual_coder_mode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(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)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g2_max_pic_order_cnt_lsb_minus4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e(v)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snip ……&gt;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bsp_trailing_bits( )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}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7181C-9504-4EAA-A55C-9CA33134B51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547640" y="0"/>
            <a:ext cx="5824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Dual-coder Bitstream Syntax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42920" y="1268280"/>
          <a:ext cx="8893080" cy="4348080"/>
        </p:xfrm>
        <a:graphic>
          <a:graphicData uri="http://schemas.openxmlformats.org/drawingml/2006/table">
            <a:tbl>
              <a:tblPr/>
              <a:tblGrid>
                <a:gridCol w="7410240"/>
                <a:gridCol w="1482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ding_unit( x0, y0, log2CbSize ) {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Descriptor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(</a:t>
                      </a: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al_coder_mode =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0)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{the traditional HEVC hybrid coder syntax is used w/o any change}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se {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_coded_by_dict_coder_flag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e(v)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(cu_coded_by_dict_coder_flag = = 0) //HYBRID_CODER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{the traditional HEVC hybrid coder syntax is used w/o any change}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se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ctionary_entropy_coder( x0, y0, log2CbSize )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}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}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BF98D-E531-47B8-90B7-495BF4B7280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547640" y="0"/>
            <a:ext cx="5824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Dual-coder Bitstream Syntax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657360" y="623880"/>
          <a:ext cx="8280360" cy="6129360"/>
        </p:xfrm>
        <a:graphic>
          <a:graphicData uri="http://schemas.openxmlformats.org/drawingml/2006/table">
            <a:tbl>
              <a:tblPr/>
              <a:tblGrid>
                <a:gridCol w="7235640"/>
                <a:gridCol w="1044720"/>
              </a:tblGrid>
              <a:tr h="21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ctionary_entropy_coder( x0, y0, log2CbSize ) {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Descriptor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coded_sample_count = 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SamplesInCU = (3 &lt;&lt; (log2CbSize &lt;&lt; 1))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decoded_sample_count &lt; NumSamplesInCU) {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ching_string_flag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e(v)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(matching_string_flag = = 1) {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ching_string_distance_use_recent_8_flag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e(v)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(matching_string_distance_use_recent_8_flag = = 1) {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ching_string_distance_recent_8_idx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e(v)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ching_string_distance_minus1 = Recent8Distances[matching_string_distance_recent_8_idx]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03200"/>
                          <a:tab algn="l" pos="457200"/>
                          <a:tab algn="l" pos="549360"/>
                          <a:tab algn="l" pos="685800"/>
                          <a:tab algn="l" pos="822240"/>
                          <a:tab algn="l" pos="91440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	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	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	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for( i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=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matching_string_distance_recent_8_idx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; i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 0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; i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)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28600"/>
                          <a:tab algn="l" pos="274680"/>
                          <a:tab algn="l" pos="457200"/>
                          <a:tab algn="l" pos="679320"/>
                          <a:tab algn="l" pos="685800"/>
                          <a:tab algn="l" pos="727200"/>
                          <a:tab algn="l" pos="822240"/>
                          <a:tab algn="l" pos="91440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	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	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	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	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ent8Distances[i] = Recent8Distances[i-1]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28600"/>
                          <a:tab algn="l" pos="274680"/>
                          <a:tab algn="l" pos="457200"/>
                          <a:tab algn="l" pos="546120"/>
                          <a:tab algn="l" pos="593640"/>
                          <a:tab algn="l" pos="685800"/>
                          <a:tab algn="l" pos="822240"/>
                          <a:tab algn="l" pos="91440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	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	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	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	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ent8Distances[0] = matching_string_distance_minus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}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se {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ching_string_distance_minus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e(v)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03200"/>
                          <a:tab algn="l" pos="457200"/>
                          <a:tab algn="l" pos="549360"/>
                          <a:tab algn="l" pos="685800"/>
                          <a:tab algn="l" pos="822240"/>
                          <a:tab algn="l" pos="91440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	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	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	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for( i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=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7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; i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 0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; i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)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28600"/>
                          <a:tab algn="l" pos="274680"/>
                          <a:tab algn="l" pos="457200"/>
                          <a:tab algn="l" pos="679320"/>
                          <a:tab algn="l" pos="685800"/>
                          <a:tab algn="l" pos="727200"/>
                          <a:tab algn="l" pos="822240"/>
                          <a:tab algn="l" pos="91440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	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	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	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	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ent8Distances[i] = Recent8Distances[i-1]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28600"/>
                          <a:tab algn="l" pos="274680"/>
                          <a:tab algn="l" pos="457200"/>
                          <a:tab algn="l" pos="546120"/>
                          <a:tab algn="l" pos="593640"/>
                          <a:tab algn="l" pos="685800"/>
                          <a:tab algn="l" pos="822240"/>
                          <a:tab algn="l" pos="91440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	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	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	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	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ent8Distances[0] = matching_string_distance_minus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}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ching_string_length_minus2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e(v)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coded_sample_count += (matching_string_length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nus2 + 2)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}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se {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matchable_sample_residual_ab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e(v)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matchable_sample_residual_sign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e(v)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coded_sample_count += 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}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}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}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8DA51-0EA7-4BC3-97D3-C7FA7AF480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547640" y="0"/>
            <a:ext cx="5824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Dual-coder Bitstream Semantic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16000" y="667080"/>
            <a:ext cx="878508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cu_coded_by_dict_coder_flag </a:t>
            </a: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equal to 0 specifies that the cu is coded by the hybrid coder, cu_coded_by_dict_coder_flag equal to 1 specifies that the cu is coded by the dictionary coder 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matching_string_flag</a:t>
            </a: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 specifies whether the succeeding dictionary coding element is a matching string or an unmatchable (luma or chroma) sample residual.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If matching_string_flag = 1, the succeeding dictionary coding element is a matching string, otherwise, the succeeding dictionary coding element is an unmatchable (luma or chroma) sample residual.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matching_string_distance_minus1</a:t>
            </a: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 + 1 specifies the distances between the first sample of current sample-string to be decoded/constructed and the first sample of matching sample-string previously decoded/constructed in the dictionary, which is actually DPB and the current decoded picture reordered in a “dictionary-scan” format defined as a column-wise-packed-pixel cu-by-cu format. The value of matching_string_distance_minus1 shall be in the range of 0 to 4194303, inclusiv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matching_string_length_minus2 </a:t>
            </a: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+ 2 specifies the length of the matching sample-string. The value of matching_string_length_minus2 shall be in the range of 0 to 271, inclusive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unmatchable_sample_residual_abs</a:t>
            </a: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 is the absolute difference between the unmatchable sample (y or u or v component of a pixel) to be decoded and its predictor that is the same component (y or u or v) of the previous pixel in the dictionary. The value of unmatchable_sample_residual_abs shall be in the range of 0 to (256&lt;&l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bit_depth_luma_minus8) – 1 for luma component or (256&lt;&l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bit_depth_chroma_minus8) – 1 for chroma component, inclusive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unmatchable_sample_residual_sign</a:t>
            </a: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 specifies the sign of an unmatchable sample residual. If unmatchable_sample_residual_sign is equal to 0, the corresponding unmatchable sample residual has a positive value. Otherwise (unmatchable_sample_residual_sign is equal to 1), the corresponding unmatchable sample residual has a negative value.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880DA-C3AB-4B23-AE6A-78A0F589455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547640" y="0"/>
            <a:ext cx="5824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CABAC Parsing Proces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50920" y="765000"/>
          <a:ext cx="8713800" cy="5289840"/>
        </p:xfrm>
        <a:graphic>
          <a:graphicData uri="http://schemas.openxmlformats.org/drawingml/2006/table">
            <a:tbl>
              <a:tblPr/>
              <a:tblGrid>
                <a:gridCol w="1008000"/>
                <a:gridCol w="4249800"/>
                <a:gridCol w="1008000"/>
                <a:gridCol w="792000"/>
                <a:gridCol w="827280"/>
                <a:gridCol w="828720"/>
              </a:tblGrid>
              <a:tr h="453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ntax element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txIdxTable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itType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ding_unit()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_coded_by_dict_coder_flag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le 2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ching_string_flag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le 3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ching_string_distance_use_recent_8_flag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le 4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ching_string_distance_recent_8_idx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le 5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.2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.5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.8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ching_string_distance_minus1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le 6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.25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..51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..77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ching_string_length_minus2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le 7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.15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..31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..47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matchable_sample_residual_abs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le 8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.7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.15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..23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matchable_sample_residual_signe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le 9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74DBA-2392-406B-A910-25DAF76F66D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7T03:13:52Z</dcterms:created>
  <dc:creator>tao lin</dc:creator>
  <dc:description/>
  <dc:language>en-US</dc:language>
  <cp:lastModifiedBy>u</cp:lastModifiedBy>
  <dcterms:modified xsi:type="dcterms:W3CDTF">2012-10-16T16:02:15Z</dcterms:modified>
  <cp:revision>1328</cp:revision>
  <dc:subject/>
  <dc:title>Slide 1</dc:title>
</cp:coreProperties>
</file>