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34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47F1-EFD2-4037-BE6C-A0E1D6F3357C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5F6D-AAD3-4BE6-966C-CF853FA5AD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1427-7864-447C-87CB-CB41F36058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C453-E2B2-4089-81F9-6883640D393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7EA3-93FD-48CD-B4E3-6EDFCF0C13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50F6-ED0D-4EFF-B1EA-2F1D2EBBBAB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3358-51D7-4E81-BAF3-20F75F0B7C9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90B-9BDC-4670-AB0C-A9D7A0C345F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78B9-51D8-45A1-9850-E62F8E8A6C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6FC4-8A10-4314-9AFC-F6C2E2E998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ACAC-1B49-4A91-9C8A-5416163756C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AFD2-A230-4AD2-B438-799A6A79EA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8C41-BD5D-443D-9DC5-A4998A86F9B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2517-AE02-41D1-BFE9-DFF81AC13E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BC1A-7874-43B2-A598-622C49E43D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92E8-B01F-4A66-B8CF-3C76AD0C03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4C5F-0642-4D16-832B-34DEC2F0D4E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C24F-FFE4-419D-86FE-32EEF26FD0D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10D4-166D-4618-AD4B-D3B3DDA5FC0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3DDB-14C2-4EC9-A86C-ADEA955CFF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3280" y="388224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224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120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328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224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120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20920" y="304560"/>
            <a:ext cx="6261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3280" y="388224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224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1200" y="152388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7328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224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1200" y="3882240"/>
            <a:ext cx="244620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20920" y="304560"/>
            <a:ext cx="6261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88224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328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0728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3280" y="3882240"/>
            <a:ext cx="7597440" cy="215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22840" indent="-222840">
              <a:spcBef>
                <a:spcPts val="350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2920" indent="-22140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5520" indent="-1339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93400" indent="-1411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483200" indent="-1411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483200" indent="-14112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483200" indent="-14112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27080" y="152280"/>
            <a:ext cx="8875800" cy="6477120"/>
          </a:xfrm>
          <a:custGeom>
            <a:avLst/>
            <a:gdLst/>
            <a:ahLst/>
            <a:rect l="l" t="t" r="r" b="b"/>
            <a:pathLst>
              <a:path w="6010" h="4050">
                <a:moveTo>
                  <a:pt x="6009" y="4050"/>
                </a:moveTo>
                <a:lnTo>
                  <a:pt x="6010" y="3"/>
                </a:lnTo>
                <a:lnTo>
                  <a:pt x="0" y="0"/>
                </a:lnTo>
                <a:lnTo>
                  <a:pt x="0" y="4048"/>
                </a:lnTo>
                <a:lnTo>
                  <a:pt x="6009" y="4050"/>
                </a:lnTo>
                <a:close/>
              </a:path>
            </a:pathLst>
          </a:custGeom>
          <a:noFill/>
          <a:ln w="12600">
            <a:solidFill>
              <a:srgbClr val="163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52440" y="6453360"/>
            <a:ext cx="2995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63e7d"/>
                </a:solidFill>
                <a:latin typeface="Arial"/>
              </a:rPr>
              <a:t>RAI - Centro Ricerche e Innovazione Tecnolog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8088480" y="6477120"/>
            <a:ext cx="5634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D01567-D0C1-4EE9-896F-0158E932887B}" type="slidenum">
              <a:rPr b="0" lang="en-GB" sz="1200" spc="-1" strike="noStrike">
                <a:solidFill>
                  <a:srgbClr val="000000"/>
                </a:solidFill>
                <a:latin typeface="Univers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320920" y="990720"/>
            <a:ext cx="6261120" cy="0"/>
          </a:xfrm>
          <a:prstGeom prst="line">
            <a:avLst/>
          </a:prstGeom>
          <a:ln w="38160">
            <a:solidFill>
              <a:srgbClr val="163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Rai"/>
          <p:cNvPicPr/>
          <p:nvPr/>
        </p:nvPicPr>
        <p:blipFill>
          <a:blip r:embed="rId2"/>
          <a:stretch/>
        </p:blipFill>
        <p:spPr>
          <a:xfrm>
            <a:off x="343080" y="279360"/>
            <a:ext cx="699840" cy="7002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2"/>
          <p:cNvSpPr/>
          <p:nvPr/>
        </p:nvSpPr>
        <p:spPr>
          <a:xfrm>
            <a:off x="127080" y="152280"/>
            <a:ext cx="8875800" cy="6477120"/>
          </a:xfrm>
          <a:custGeom>
            <a:avLst/>
            <a:gdLst/>
            <a:ahLst/>
            <a:rect l="l" t="t" r="r" b="b"/>
            <a:pathLst>
              <a:path w="6010" h="4050">
                <a:moveTo>
                  <a:pt x="6009" y="4050"/>
                </a:moveTo>
                <a:lnTo>
                  <a:pt x="6010" y="3"/>
                </a:lnTo>
                <a:lnTo>
                  <a:pt x="0" y="0"/>
                </a:lnTo>
                <a:lnTo>
                  <a:pt x="0" y="4048"/>
                </a:lnTo>
                <a:lnTo>
                  <a:pt x="6009" y="4050"/>
                </a:lnTo>
                <a:close/>
              </a:path>
            </a:pathLst>
          </a:custGeom>
          <a:noFill/>
          <a:ln w="12600">
            <a:solidFill>
              <a:srgbClr val="163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Rai"/>
          <p:cNvPicPr/>
          <p:nvPr/>
        </p:nvPicPr>
        <p:blipFill>
          <a:blip r:embed="rId2"/>
          <a:stretch/>
        </p:blipFill>
        <p:spPr>
          <a:xfrm>
            <a:off x="343080" y="279360"/>
            <a:ext cx="699840" cy="7002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22840" indent="-222840">
              <a:spcBef>
                <a:spcPts val="3501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2920" indent="-22140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5520" indent="-1339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93400" indent="-1411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483200" indent="-141120">
              <a:spcBef>
                <a:spcPts val="350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483200" indent="-14112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483200" indent="-14112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ech.ebu.ch/docs/tech-i/ebu_tech-i_013.pdf" TargetMode="External"/><Relationship Id="rId2" Type="http://schemas.openxmlformats.org/officeDocument/2006/relationships/hyperlink" Target="http://tech.ebu.ch/docs/tech-i/ebu_tech-i_013.pdf" TargetMode="External"/><Relationship Id="rId3" Type="http://schemas.openxmlformats.org/officeDocument/2006/relationships/hyperlink" Target="http://tech.ebu.ch/docs/tech-i/ebu_tech-i_013.pdf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tp://vqeg.its.bldrdoc.gov/HDTV/SVT_MultiFormat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JCTVC-K0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nghai 10–19 October 201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Tahoma"/>
              </a:rPr>
              <a:t>Comparison of Compression Performance of HEVC with AVC at different resolutions</a:t>
            </a:r>
            <a:r>
              <a:rPr b="1" lang="it-IT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773280" y="1523880"/>
            <a:ext cx="759744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48400" indent="-248400">
              <a:spcBef>
                <a:spcPts val="2500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urther comparisons (objective and subjective) using the material available from the recent 4K EBU shooting</a:t>
            </a:r>
            <a:r>
              <a:rPr b="0" lang="hu-HU" sz="2000" spc="-1" strike="noStrike" u="sng">
                <a:solidFill>
                  <a:srgbClr val="3de8ff"/>
                </a:solidFill>
                <a:uFillTx/>
                <a:latin typeface="Arial"/>
                <a:hlinkClick r:id="rId1"/>
              </a:rPr>
              <a:t>http</a:t>
            </a:r>
            <a:r>
              <a:rPr b="0" lang="hu-HU" sz="2000" spc="-1" strike="noStrike" u="sng">
                <a:solidFill>
                  <a:srgbClr val="3de8ff"/>
                </a:solidFill>
                <a:uFillTx/>
                <a:latin typeface="Arial"/>
                <a:hlinkClick r:id="rId2"/>
              </a:rPr>
              <a:t>://tech.ebu.ch/docs/tech-i/ebu_tech-i_013.</a:t>
            </a:r>
            <a:r>
              <a:rPr b="0" lang="hu-HU" sz="2000" spc="-1" strike="noStrike" u="sng">
                <a:solidFill>
                  <a:srgbClr val="3de8ff"/>
                </a:solidFill>
                <a:uFillTx/>
                <a:latin typeface="Arial"/>
                <a:hlinkClick r:id="rId3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ext steps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44" name="Immagine 6" descr="DSC_2446.jpg"/>
          <p:cNvPicPr/>
          <p:nvPr/>
        </p:nvPicPr>
        <p:blipFill>
          <a:blip r:embed="rId4"/>
          <a:stretch/>
        </p:blipFill>
        <p:spPr>
          <a:xfrm>
            <a:off x="1332000" y="4221000"/>
            <a:ext cx="3384360" cy="2243160"/>
          </a:xfrm>
          <a:prstGeom prst="rect">
            <a:avLst/>
          </a:prstGeom>
          <a:ln w="0">
            <a:noFill/>
          </a:ln>
        </p:spPr>
      </p:pic>
      <p:pic>
        <p:nvPicPr>
          <p:cNvPr id="145" name="Immagine 7" descr="DSC_2441.jpg"/>
          <p:cNvPicPr/>
          <p:nvPr/>
        </p:nvPicPr>
        <p:blipFill>
          <a:blip r:embed="rId5"/>
          <a:stretch/>
        </p:blipFill>
        <p:spPr>
          <a:xfrm>
            <a:off x="4321080" y="2700360"/>
            <a:ext cx="3706920" cy="2457360"/>
          </a:xfrm>
          <a:prstGeom prst="rect">
            <a:avLst/>
          </a:prstGeom>
          <a:ln w="0">
            <a:noFill/>
          </a:ln>
        </p:spPr>
      </p:pic>
      <p:pic>
        <p:nvPicPr>
          <p:cNvPr id="146" name="Immagine 4" descr="Schermata 2012-10-04 a 16.35.50.png"/>
          <p:cNvPicPr/>
          <p:nvPr/>
        </p:nvPicPr>
        <p:blipFill>
          <a:blip r:embed="rId6"/>
          <a:stretch/>
        </p:blipFill>
        <p:spPr>
          <a:xfrm>
            <a:off x="468360" y="2664000"/>
            <a:ext cx="3108240" cy="2133360"/>
          </a:xfrm>
          <a:prstGeom prst="rect">
            <a:avLst/>
          </a:prstGeom>
          <a:ln w="0">
            <a:noFill/>
          </a:ln>
        </p:spPr>
      </p:pic>
      <p:pic>
        <p:nvPicPr>
          <p:cNvPr id="147" name="Immagine 3" descr="Schermata 2012-10-04 a 16.36.04.png"/>
          <p:cNvPicPr/>
          <p:nvPr/>
        </p:nvPicPr>
        <p:blipFill>
          <a:blip r:embed="rId7"/>
          <a:stretch/>
        </p:blipFill>
        <p:spPr>
          <a:xfrm>
            <a:off x="5724360" y="4290840"/>
            <a:ext cx="292104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olo 1"/>
          <p:cNvSpPr/>
          <p:nvPr/>
        </p:nvSpPr>
        <p:spPr>
          <a:xfrm>
            <a:off x="1441440" y="3086280"/>
            <a:ext cx="626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olo 1"/>
          <p:cNvSpPr/>
          <p:nvPr/>
        </p:nvSpPr>
        <p:spPr>
          <a:xfrm>
            <a:off x="1441440" y="4759200"/>
            <a:ext cx="626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 A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co.arena@rai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olo 1"/>
          <p:cNvSpPr/>
          <p:nvPr/>
        </p:nvSpPr>
        <p:spPr>
          <a:xfrm>
            <a:off x="1441440" y="3086280"/>
            <a:ext cx="626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dditional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52" name="Immagine 4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54" name="Immagine 2" descr=""/>
          <p:cNvPicPr/>
          <p:nvPr/>
        </p:nvPicPr>
        <p:blipFill>
          <a:blip r:embed="rId1"/>
          <a:stretch/>
        </p:blipFill>
        <p:spPr>
          <a:xfrm>
            <a:off x="160200" y="1125360"/>
            <a:ext cx="8732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56" name="Immagine 3" descr=""/>
          <p:cNvPicPr/>
          <p:nvPr/>
        </p:nvPicPr>
        <p:blipFill>
          <a:blip r:embed="rId1"/>
          <a:stretch/>
        </p:blipFill>
        <p:spPr>
          <a:xfrm>
            <a:off x="204840" y="1125360"/>
            <a:ext cx="8723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58" name="Immagine 2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60" name="Immagine 2" descr=""/>
          <p:cNvPicPr/>
          <p:nvPr/>
        </p:nvPicPr>
        <p:blipFill>
          <a:blip r:embed="rId1"/>
          <a:stretch/>
        </p:blipFill>
        <p:spPr>
          <a:xfrm>
            <a:off x="144360" y="1027080"/>
            <a:ext cx="88203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62" name="Immagine 2" descr=""/>
          <p:cNvPicPr/>
          <p:nvPr/>
        </p:nvPicPr>
        <p:blipFill>
          <a:blip r:embed="rId1"/>
          <a:stretch/>
        </p:blipFill>
        <p:spPr>
          <a:xfrm>
            <a:off x="179280" y="1036800"/>
            <a:ext cx="875844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64" name="Immagine 3" descr=""/>
          <p:cNvPicPr/>
          <p:nvPr/>
        </p:nvPicPr>
        <p:blipFill>
          <a:blip r:embed="rId1"/>
          <a:stretch/>
        </p:blipFill>
        <p:spPr>
          <a:xfrm>
            <a:off x="136440" y="1111320"/>
            <a:ext cx="87566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Tes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terials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3de8ff"/>
                </a:solidFill>
                <a:uFillTx/>
                <a:latin typeface="Arial"/>
                <a:hlinkClick r:id="rId1"/>
              </a:rPr>
              <a:t>ftp://vqeg.its.bldrdoc.gov/HDTV/SVT_MultiForma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lutions and fram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p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0i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0p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60p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seconds per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:2:0 YCbCr color sampling with 8 bits per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66" name="Immagine 3" descr=""/>
          <p:cNvPicPr/>
          <p:nvPr/>
        </p:nvPicPr>
        <p:blipFill>
          <a:blip r:embed="rId1"/>
          <a:stretch/>
        </p:blipFill>
        <p:spPr>
          <a:xfrm>
            <a:off x="179280" y="1114560"/>
            <a:ext cx="87487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magine 2" descr=""/>
          <p:cNvPicPr/>
          <p:nvPr/>
        </p:nvPicPr>
        <p:blipFill>
          <a:blip r:embed="rId1"/>
          <a:stretch/>
        </p:blipFill>
        <p:spPr>
          <a:xfrm>
            <a:off x="185760" y="1052640"/>
            <a:ext cx="8732880" cy="5329080"/>
          </a:xfrm>
          <a:prstGeom prst="rect">
            <a:avLst/>
          </a:prstGeom>
          <a:ln w="0">
            <a:noFill/>
          </a:ln>
        </p:spPr>
      </p:pic>
      <p:sp>
        <p:nvSpPr>
          <p:cNvPr id="168" name="Titolo 1"/>
          <p:cNvSpPr/>
          <p:nvPr/>
        </p:nvSpPr>
        <p:spPr>
          <a:xfrm>
            <a:off x="2320920" y="30492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70" name="Immagine 3" descr=""/>
          <p:cNvPicPr/>
          <p:nvPr/>
        </p:nvPicPr>
        <p:blipFill>
          <a:blip r:embed="rId1"/>
          <a:stretch/>
        </p:blipFill>
        <p:spPr>
          <a:xfrm>
            <a:off x="179280" y="1123920"/>
            <a:ext cx="87854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72" name="Immagine 2" descr=""/>
          <p:cNvPicPr/>
          <p:nvPr/>
        </p:nvPicPr>
        <p:blipFill>
          <a:blip r:embed="rId1"/>
          <a:stretch/>
        </p:blipFill>
        <p:spPr>
          <a:xfrm>
            <a:off x="136440" y="1052640"/>
            <a:ext cx="88282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74" name="Immagine 2" descr=""/>
          <p:cNvPicPr/>
          <p:nvPr/>
        </p:nvPicPr>
        <p:blipFill>
          <a:blip r:embed="rId1"/>
          <a:stretch/>
        </p:blipFill>
        <p:spPr>
          <a:xfrm>
            <a:off x="179280" y="1058760"/>
            <a:ext cx="87854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tolo 1"/>
          <p:cNvSpPr/>
          <p:nvPr/>
        </p:nvSpPr>
        <p:spPr>
          <a:xfrm>
            <a:off x="2320920" y="30492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magine 2" descr=""/>
          <p:cNvPicPr/>
          <p:nvPr/>
        </p:nvPicPr>
        <p:blipFill>
          <a:blip r:embed="rId1"/>
          <a:stretch/>
        </p:blipFill>
        <p:spPr>
          <a:xfrm>
            <a:off x="179280" y="1112760"/>
            <a:ext cx="875196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78" name="Immagine 2" descr=""/>
          <p:cNvPicPr/>
          <p:nvPr/>
        </p:nvPicPr>
        <p:blipFill>
          <a:blip r:embed="rId1"/>
          <a:stretch/>
        </p:blipFill>
        <p:spPr>
          <a:xfrm>
            <a:off x="179280" y="1087560"/>
            <a:ext cx="87948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0" name="Immagin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328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2" name="Immagine 2" descr=""/>
          <p:cNvPicPr/>
          <p:nvPr/>
        </p:nvPicPr>
        <p:blipFill>
          <a:blip r:embed="rId1"/>
          <a:stretch/>
        </p:blipFill>
        <p:spPr>
          <a:xfrm>
            <a:off x="179280" y="1074600"/>
            <a:ext cx="8713800" cy="53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tolo 1"/>
          <p:cNvSpPr/>
          <p:nvPr/>
        </p:nvSpPr>
        <p:spPr>
          <a:xfrm>
            <a:off x="2320920" y="30492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magine 2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32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Tahoma"/>
              </a:rPr>
              <a:t>Test materials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95" name="Gruppo 52"/>
          <p:cNvGrpSpPr/>
          <p:nvPr/>
        </p:nvGrpSpPr>
        <p:grpSpPr>
          <a:xfrm>
            <a:off x="4643280" y="1844640"/>
            <a:ext cx="4392720" cy="3676680"/>
            <a:chOff x="4643280" y="1844640"/>
            <a:chExt cx="4392720" cy="3676680"/>
          </a:xfrm>
        </p:grpSpPr>
        <p:grpSp>
          <p:nvGrpSpPr>
            <p:cNvPr id="96" name="Gruppo 48"/>
            <p:cNvGrpSpPr/>
            <p:nvPr/>
          </p:nvGrpSpPr>
          <p:grpSpPr>
            <a:xfrm>
              <a:off x="4643280" y="1844640"/>
              <a:ext cx="4392720" cy="1803960"/>
              <a:chOff x="4643280" y="1844640"/>
              <a:chExt cx="4392720" cy="1803960"/>
            </a:xfrm>
          </p:grpSpPr>
          <p:grpSp>
            <p:nvGrpSpPr>
              <p:cNvPr id="97" name="Gruppo 47"/>
              <p:cNvGrpSpPr/>
              <p:nvPr/>
            </p:nvGrpSpPr>
            <p:grpSpPr>
              <a:xfrm>
                <a:off x="4643280" y="1844640"/>
                <a:ext cx="2870640" cy="1803960"/>
                <a:chOff x="4643280" y="1844640"/>
                <a:chExt cx="2870640" cy="1803960"/>
              </a:xfrm>
            </p:grpSpPr>
            <p:pic>
              <p:nvPicPr>
                <p:cNvPr id="98" name="Immagine 8" descr="3_frame-00092.bmp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078880" y="2276640"/>
                  <a:ext cx="2435040" cy="137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CasellaDiTesto 14"/>
                <p:cNvSpPr/>
                <p:nvPr/>
              </p:nvSpPr>
              <p:spPr>
                <a:xfrm>
                  <a:off x="5657760" y="1844640"/>
                  <a:ext cx="127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0000"/>
                      </a:solidFill>
                      <a:latin typeface="Arial"/>
                    </a:rPr>
                    <a:t>DuksTakeOf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" name="CasellaDiTesto 3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43280" y="2578680"/>
                  <a:ext cx="407520" cy="76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1" name="CasellaDiTesto 38"/>
              <p:cNvSpPr/>
              <p:nvPr/>
            </p:nvSpPr>
            <p:spPr>
              <a:xfrm>
                <a:off x="7596000" y="2639520"/>
                <a:ext cx="1440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igh motion Colour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cal textu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uppo 51"/>
            <p:cNvGrpSpPr/>
            <p:nvPr/>
          </p:nvGrpSpPr>
          <p:grpSpPr>
            <a:xfrm>
              <a:off x="4643280" y="3717360"/>
              <a:ext cx="4392720" cy="1803960"/>
              <a:chOff x="4643280" y="3717360"/>
              <a:chExt cx="4392720" cy="1803960"/>
            </a:xfrm>
          </p:grpSpPr>
          <p:grpSp>
            <p:nvGrpSpPr>
              <p:cNvPr id="103" name="Gruppo 50"/>
              <p:cNvGrpSpPr/>
              <p:nvPr/>
            </p:nvGrpSpPr>
            <p:grpSpPr>
              <a:xfrm>
                <a:off x="4643280" y="3717360"/>
                <a:ext cx="2870640" cy="1803960"/>
                <a:chOff x="4643280" y="3717360"/>
                <a:chExt cx="2870640" cy="1803960"/>
              </a:xfrm>
            </p:grpSpPr>
            <p:pic>
              <p:nvPicPr>
                <p:cNvPr id="104" name="Immagine 10" descr="5_frame-00480.bmp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78880" y="4149360"/>
                  <a:ext cx="2435040" cy="137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CasellaDiTesto 16"/>
                <p:cNvSpPr/>
                <p:nvPr/>
              </p:nvSpPr>
              <p:spPr>
                <a:xfrm>
                  <a:off x="5573520" y="3717360"/>
                  <a:ext cx="1445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0000"/>
                      </a:solidFill>
                      <a:latin typeface="Arial"/>
                    </a:rPr>
                    <a:t>OldTownCros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6" name="CasellaDiTesto 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643280" y="4578120"/>
                  <a:ext cx="407520" cy="51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CasellaDiTesto 39"/>
              <p:cNvSpPr/>
              <p:nvPr/>
            </p:nvSpPr>
            <p:spPr>
              <a:xfrm>
                <a:off x="7596000" y="4512240"/>
                <a:ext cx="14400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low mo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ery textured Noi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uppo 49"/>
          <p:cNvGrpSpPr/>
          <p:nvPr/>
        </p:nvGrpSpPr>
        <p:grpSpPr>
          <a:xfrm>
            <a:off x="108000" y="907920"/>
            <a:ext cx="4392720" cy="5548320"/>
            <a:chOff x="108000" y="907920"/>
            <a:chExt cx="4392720" cy="5548320"/>
          </a:xfrm>
        </p:grpSpPr>
        <p:grpSp>
          <p:nvGrpSpPr>
            <p:cNvPr id="109" name="Gruppo 46"/>
            <p:cNvGrpSpPr/>
            <p:nvPr/>
          </p:nvGrpSpPr>
          <p:grpSpPr>
            <a:xfrm>
              <a:off x="108000" y="907920"/>
              <a:ext cx="4104720" cy="1803600"/>
              <a:chOff x="108000" y="907920"/>
              <a:chExt cx="4104720" cy="1803600"/>
            </a:xfrm>
          </p:grpSpPr>
          <p:grpSp>
            <p:nvGrpSpPr>
              <p:cNvPr id="110" name="Gruppo 45"/>
              <p:cNvGrpSpPr/>
              <p:nvPr/>
            </p:nvGrpSpPr>
            <p:grpSpPr>
              <a:xfrm>
                <a:off x="108000" y="907920"/>
                <a:ext cx="2870640" cy="1803600"/>
                <a:chOff x="108000" y="907920"/>
                <a:chExt cx="2870640" cy="1803600"/>
              </a:xfrm>
            </p:grpSpPr>
            <p:sp>
              <p:nvSpPr>
                <p:cNvPr id="111" name="CasellaDiTesto 18"/>
                <p:cNvSpPr/>
                <p:nvPr/>
              </p:nvSpPr>
              <p:spPr>
                <a:xfrm>
                  <a:off x="1221840" y="907920"/>
                  <a:ext cx="1078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0000"/>
                      </a:solidFill>
                      <a:latin typeface="Arial"/>
                    </a:rPr>
                    <a:t>CrowdRu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2" name="Immagine 17" descr="1_frame-00004.bmp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3600" y="1339920"/>
                  <a:ext cx="243504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CasellaDiTesto 2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8000" y="1639440"/>
                  <a:ext cx="407880" cy="76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4" name="CasellaDiTesto 36"/>
              <p:cNvSpPr/>
              <p:nvPr/>
            </p:nvSpPr>
            <p:spPr>
              <a:xfrm>
                <a:off x="3204720" y="1610280"/>
                <a:ext cx="1008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px motion Texture Colour Noi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uppo 44"/>
            <p:cNvGrpSpPr/>
            <p:nvPr/>
          </p:nvGrpSpPr>
          <p:grpSpPr>
            <a:xfrm>
              <a:off x="108000" y="2780280"/>
              <a:ext cx="4392720" cy="1788840"/>
              <a:chOff x="108000" y="2780280"/>
              <a:chExt cx="4392720" cy="1788840"/>
            </a:xfrm>
          </p:grpSpPr>
          <p:grpSp>
            <p:nvGrpSpPr>
              <p:cNvPr id="116" name="Gruppo 43"/>
              <p:cNvGrpSpPr/>
              <p:nvPr/>
            </p:nvGrpSpPr>
            <p:grpSpPr>
              <a:xfrm>
                <a:off x="108000" y="2780280"/>
                <a:ext cx="2870640" cy="1788840"/>
                <a:chOff x="108000" y="2780280"/>
                <a:chExt cx="2870640" cy="1788840"/>
              </a:xfrm>
            </p:grpSpPr>
            <p:pic>
              <p:nvPicPr>
                <p:cNvPr id="117" name="Immagine 11" descr="4_frame-00037.bmp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43600" y="3197520"/>
                  <a:ext cx="243504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CasellaDiTesto 13"/>
                <p:cNvSpPr/>
                <p:nvPr/>
              </p:nvSpPr>
              <p:spPr>
                <a:xfrm>
                  <a:off x="1294920" y="2780280"/>
                  <a:ext cx="932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0000"/>
                      </a:solidFill>
                      <a:latin typeface="Arial"/>
                    </a:rPr>
                    <a:t>InToTre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9" name="CasellaDiTesto 3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08000" y="3627000"/>
                  <a:ext cx="407880" cy="511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0" name="CasellaDiTesto 37"/>
              <p:cNvSpPr/>
              <p:nvPr/>
            </p:nvSpPr>
            <p:spPr>
              <a:xfrm>
                <a:off x="3060720" y="3467880"/>
                <a:ext cx="1440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low mo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Zoom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u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i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uppo 42"/>
            <p:cNvGrpSpPr/>
            <p:nvPr/>
          </p:nvGrpSpPr>
          <p:grpSpPr>
            <a:xfrm>
              <a:off x="108000" y="4652640"/>
              <a:ext cx="4392720" cy="1803600"/>
              <a:chOff x="108000" y="4652640"/>
              <a:chExt cx="4392720" cy="1803600"/>
            </a:xfrm>
          </p:grpSpPr>
          <p:grpSp>
            <p:nvGrpSpPr>
              <p:cNvPr id="122" name="Gruppo 41"/>
              <p:cNvGrpSpPr/>
              <p:nvPr/>
            </p:nvGrpSpPr>
            <p:grpSpPr>
              <a:xfrm>
                <a:off x="108000" y="4652640"/>
                <a:ext cx="2870640" cy="1803600"/>
                <a:chOff x="108000" y="4652640"/>
                <a:chExt cx="2870640" cy="1803600"/>
              </a:xfrm>
            </p:grpSpPr>
            <p:pic>
              <p:nvPicPr>
                <p:cNvPr id="123" name="Immagine 7" descr="2_frame-00365.bmp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43600" y="5084640"/>
                  <a:ext cx="243504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CasellaDiTesto 15"/>
                <p:cNvSpPr/>
                <p:nvPr/>
              </p:nvSpPr>
              <p:spPr>
                <a:xfrm>
                  <a:off x="1338480" y="4652640"/>
                  <a:ext cx="87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0000"/>
                      </a:solidFill>
                      <a:latin typeface="Arial"/>
                    </a:rPr>
                    <a:t>ParkJo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5" name="CasellaDiTesto 28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08000" y="5388840"/>
                  <a:ext cx="40788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6" name="CasellaDiTesto 40"/>
              <p:cNvSpPr/>
              <p:nvPr/>
            </p:nvSpPr>
            <p:spPr>
              <a:xfrm>
                <a:off x="3060720" y="5355000"/>
                <a:ext cx="1440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igh mo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u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a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6" name="Immagine 2" descr=""/>
          <p:cNvPicPr/>
          <p:nvPr/>
        </p:nvPicPr>
        <p:blipFill>
          <a:blip r:embed="rId1"/>
          <a:stretch/>
        </p:blipFill>
        <p:spPr>
          <a:xfrm>
            <a:off x="152280" y="1087560"/>
            <a:ext cx="881244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8" name="Immagine 4" descr=""/>
          <p:cNvPicPr/>
          <p:nvPr/>
        </p:nvPicPr>
        <p:blipFill>
          <a:blip r:embed="rId1"/>
          <a:stretch/>
        </p:blipFill>
        <p:spPr>
          <a:xfrm>
            <a:off x="144360" y="1011240"/>
            <a:ext cx="88203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90" name="Immagin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519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92" name="Immagine 2" descr=""/>
          <p:cNvPicPr/>
          <p:nvPr/>
        </p:nvPicPr>
        <p:blipFill>
          <a:blip r:embed="rId1"/>
          <a:stretch/>
        </p:blipFill>
        <p:spPr>
          <a:xfrm>
            <a:off x="144360" y="1082520"/>
            <a:ext cx="8820360" cy="53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est settings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73280" y="1523520"/>
            <a:ext cx="759744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ison between HEVC Main Profile (HM-7.0) and AVC High Profile (JM-18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mon tes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in Profile all-intra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in Profile random-acces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in Profile low-delay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aced materials was encod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mode (i.e. progressive_source_flag equal to 1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mode (i.e. progressive_source_flag equal to 0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sellaDiTesto 3"/>
          <p:cNvSpPr/>
          <p:nvPr/>
        </p:nvSpPr>
        <p:spPr>
          <a:xfrm>
            <a:off x="1116000" y="551664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oth HEVC and 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verage</a:t>
            </a: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 BD-Rate measurement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60480" y="1413000"/>
          <a:ext cx="7223040" cy="3030480"/>
        </p:xfrm>
        <a:graphic>
          <a:graphicData uri="http://schemas.openxmlformats.org/drawingml/2006/table">
            <a:tbl>
              <a:tblPr/>
              <a:tblGrid>
                <a:gridCol w="2347920"/>
                <a:gridCol w="1217520"/>
                <a:gridCol w="1219320"/>
                <a:gridCol w="1218960"/>
                <a:gridCol w="1219320"/>
              </a:tblGrid>
              <a:tr h="422280"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20480"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p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p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p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1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0840"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i25 frame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2280"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i25 field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260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 txBox="1"/>
          <p:nvPr/>
        </p:nvSpPr>
        <p:spPr>
          <a:xfrm>
            <a:off x="826560" y="5229360"/>
            <a:ext cx="75978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 measurements shows that HEVC can save from 13% to 33% in bit rate when compared with AV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对象 4"/>
              <p:cNvSpPr txBox="1"/>
              <p:nvPr/>
            </p:nvSpPr>
            <p:spPr>
              <a:xfrm>
                <a:off x="1763640" y="4649760"/>
                <a:ext cx="6077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SNR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SN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SNR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VC versus AVC at different resolutions</a:t>
            </a:r>
            <a:endParaRPr b="1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35" name="Immagine 2" descr=""/>
          <p:cNvPicPr/>
          <p:nvPr/>
        </p:nvPicPr>
        <p:blipFill>
          <a:blip r:embed="rId1"/>
          <a:stretch/>
        </p:blipFill>
        <p:spPr>
          <a:xfrm>
            <a:off x="144360" y="1027080"/>
            <a:ext cx="88203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jective evaluations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eliminary subjective expert viewings sessions performed on 720p50 video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C at about 10 Mbps in random acces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C at different bitrate ranging from 3 Mbps to 10 Mbps in random acces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999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 average bitrate saving of 40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HEVC against AVC was spo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ubjective evaluations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39" name="Segnaposto contenuto 3" descr="Schermata 2012-10-04 a 10.28.07.png"/>
          <p:cNvPicPr/>
          <p:nvPr/>
        </p:nvPicPr>
        <p:blipFill>
          <a:blip r:embed="rId1"/>
          <a:stretch/>
        </p:blipFill>
        <p:spPr>
          <a:xfrm>
            <a:off x="773280" y="1523880"/>
            <a:ext cx="75974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304560"/>
            <a:ext cx="6261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73280" y="1523880"/>
            <a:ext cx="75974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2500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rage bit rate saving for the SV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in Profile all-intra configuration, HM-7.0 can save about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in Profile random-access configuration, HM-7.0 can save about 26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4040">
              <a:spcBef>
                <a:spcPts val="451"/>
              </a:spcBef>
              <a:buClr>
                <a:srgbClr val="163e7d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in Profile low-delay configuration, HM-7.0 can save about 3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500"/>
              </a:spcBef>
              <a:buClr>
                <a:srgbClr val="163e7d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eliminary subjective expert viewings revealed an average bitrate saving of 40% for 720p50 sequen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ndom access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3:33:52Z</dcterms:created>
  <dc:creator>GA</dc:creator>
  <dc:description/>
  <dc:language>en-US</dc:language>
  <cp:lastModifiedBy>Marco Arena</cp:lastModifiedBy>
  <dcterms:modified xsi:type="dcterms:W3CDTF">2012-10-18T04:53:25Z</dcterms:modified>
  <cp:revision>167</cp:revision>
  <dc:subject/>
  <dc:title>Diapositiva 1</dc:title>
</cp:coreProperties>
</file>