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4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A2CA09-0209-437F-ACBA-BEA6ACE04488}"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6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6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E53B5-426C-44BC-A05D-B90FCA347B1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aise the importance of 10 bit, this is not part of professional profi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KNB has already indicated the importance of 10 bit support on HEV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is a unfulfilled market requir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NB and USNB request to support BT 2020 colorimetry on AVC</a:t>
            </a: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FA6AD-7E69-4655-8E2E-1C434971A6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st likely UHDTV applications will not appear using 8 bit, and there is strong on interest on 1080p 10-bit, current ITU-R BT.220 recommendation for UHDTV does not support 8-bit</a:t>
            </a: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09E544-6196-47A7-8761-9421E57BD1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nding and contouring is more apparent in the case of 8-bit content and it does become more important in the case of using </a:t>
            </a:r>
            <a:endParaRPr b="0" lang="en-US" sz="1200" spc="-1" strike="noStrike">
              <a:solidFill>
                <a:srgbClr val="000000"/>
              </a:solidFill>
              <a:latin typeface="Calibri"/>
            </a:endParaRPr>
          </a:p>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ppearing on the uncompressed content and becoming worse when using </a:t>
            </a:r>
            <a:r>
              <a:rPr b="0" lang="en-CA" sz="800" spc="-1" strike="noStrike">
                <a:solidFill>
                  <a:srgbClr val="000000"/>
                </a:solidFill>
                <a:latin typeface="Calibri"/>
              </a:rPr>
              <a:t>ITU-R BT Rec. 2020 because of the extended gamut.</a:t>
            </a:r>
            <a:endParaRPr b="0" lang="en-US" sz="8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52899-36E3-4EC4-8085-24467CEE32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BB5ED-1749-41C3-8899-0BD682C10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1A01A-D3D1-4A9C-B9DA-1EC4D93B4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880CC1-8502-4FB7-A088-4A0FC315E8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DB1D3A-A751-41C0-B0AC-81F42854D0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12C8FE-CB68-4E47-A478-8A5734BA38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F38F24-2605-4214-AACE-CDCBA3011B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7A28FE-6C29-4A41-883F-303AF1FE1C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3F2B12-E793-47B8-83F8-3FD16F4A55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30EEAC-6C29-4E9E-A45E-4A00EB5EEF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5CE7A8-E63E-4987-B0F3-32E8B06323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CE8457-F31A-4503-9C68-4214AB6F72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FF3F29-7D1C-4076-915E-4D0E484663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8495D-4316-4922-BE8B-2601EB250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70A38AF-96D9-40F7-BB73-9EB8F367DFB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5A1838-D040-49F1-BB3D-D9E1980216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CEA0C3-99B5-4299-A4FA-00466E9174C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6937F6-DA24-420E-AB10-E74623037D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02205A-EFD6-48A6-BD39-3C7086C8D0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95419C-37EE-4CBA-9E79-3EBE99A373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5AD74E-F530-41AA-B542-0BB4EADEAC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04323B-0EA2-43D9-AE1F-2EBF4F6951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ED2BF8-5C5B-4E00-B8BE-4E3C579788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256B0A-5273-4106-988A-5C61B76C647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233BC-D27E-4C37-93F2-EA5790F398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3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69F7CF5-C742-4F02-B89C-7F52DA26516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F14D062-290C-4BC8-99EC-E75BAAAA74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A4085B-A084-4E45-89F9-9F7C152C39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125AE0-A2EE-4D0A-8318-1CDB4EB25D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084B6C2-404B-4E66-8240-C6EB99BC57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5FD40C-C09E-4B7C-A29E-3496848A850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50A201-FBBE-4494-9864-78442A8DC5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999B64-55DF-451A-AE11-115BAC3186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211DE8-8BA8-4229-9100-EDC894E4F8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C3DBA1-EE47-4AA9-9259-480E2F1E36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262B3-9C78-4CD3-ACB8-FC1A769D35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DB2F92-6626-4FC2-8F9B-74799A563D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8D01D6-346A-4969-9D88-E6D1A8E7AF3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8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9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2F9220D-2C1A-481D-880C-0F419E551DA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3681A95-A16B-43E5-94B9-86CAAB4611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3F94B6D-F525-40D7-B1D5-38161487BB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01DA5E-1023-4795-B33D-A52F032F37D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1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B9C323-9B43-417C-82FA-4C1608E7AF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79CCA8-3FF5-442E-893A-EAD4809FE2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1DB9FAA-8B8E-47F8-8BAF-3390A05F43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C5FFD1-76B8-4659-87B4-74B0AB95F85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858378-2205-4816-ADA8-444DC92AC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E57B6B-163B-4C3D-B56C-D3DA7BC563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E2A044-480E-4EAF-91CE-4125C3EDA3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4888B1-E974-4BD0-BFD7-2868B0B217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3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3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C4D8DA6-6B2E-4028-8092-FC9062C28D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4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4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4748F1B-924B-4E72-8271-9E824803DC9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7CE5D-9AAB-444E-925A-81916E136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3FBA0-99B5-4692-9F97-F271F256A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A24B6-6867-4E73-961A-908BC8593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E6CCE-8778-467D-B0E2-DFD2F180E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6BEFA-8FAE-4BAE-854B-F8CA426A1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A0793-2A92-46B2-83CF-6D872F362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91BF1-FF24-49DD-B718-BFDD9ECDC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A5E62-FA07-497A-95AB-6E19B23CF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D7B84-6081-4606-9853-15D715677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3DEB5E-3CEA-4699-A5D5-695CE5E71E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DFB8F1-1909-47D0-9632-27C42C620B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C4EE5A-4A0B-4A4D-9025-B12A8FA6E3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F2E12D-0D82-4B2B-A3B8-A25B80054C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CDF22B-4FFE-4F00-A548-7149424A36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B6F9D4-14EF-47FD-A7A3-58885126BC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8DC4E-83DE-44F7-8A45-FAD0372F0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6DF15-B134-49B0-B307-5AA60F6AA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A0AB81-2FB1-4465-8B4C-09B4778180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C0DB1A-9F79-43D1-BDD8-346A6BB3C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2722E-CEC6-427D-BCAC-9B9A47FBE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5B0C6-8A24-424F-95B2-4CEE01929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99F771-DACF-492A-979C-038CCEB4C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AD61D0-C565-42D1-B1BB-1C55EC1DF5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B60CBD-1BAA-4501-A6B4-2FC7AA5998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9EF712-AE45-4190-BA3D-A9959CE1A3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8392ED-D1C1-4A3C-96C5-BFF4E9130E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09313B-712C-4E22-8999-2BD5BFB4AA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F069C-972C-4D32-BA76-77F5F9909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E5F35B-0073-4B9C-8431-0C1019588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449025-859C-4D24-B111-7C7AF277FD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EBC60-7AB8-456D-A55D-731F859329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982BC-0A6B-4405-A316-0DB3E2CBB9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7F556-67D3-4368-9C7A-11D26DC729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F9689A-6924-4684-BF07-BDDBB7DB3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0EAB9A-B49E-4C32-A520-E2254DD1DE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771948-72C7-4959-9E7E-42B204BA85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2FBB37-42C1-4786-9BC8-E91B8BF8C5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8B988D-EE7A-4B93-844F-023E59F71B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FE736-D5B1-4E11-8197-B54A05999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316D0E-9A2F-4A65-82E6-6CFF7F07A2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4B5862-EA70-441C-B347-9364E2FA5F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691CEF-E291-416D-AB41-0048CED4AD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41EF30-663F-431E-B289-1BA622B5B0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CF998C-7DCC-42E7-868E-E739A367B4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E419D-B862-4432-9EAF-08605B898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B5CE3-E40E-44F5-9912-E47EC4C150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0CAB5-A914-4AB8-BD0C-F5B862929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984845-BC59-4D4E-886B-C4A9FF7E12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55C938-094B-4971-8AC5-9B77BE69BC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A490D-516F-4122-ACF4-F6752B466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550D13-4BBF-43AA-BFC5-DA5D451B60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F4BD1C8-49B8-4228-A25A-9C9321B3FB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7"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32E22DB-8DC5-4BC5-A8C6-76AF41C22C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9"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9B64D3E-109B-420D-8BE4-5B26C6E724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1"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C4C2D1A-A725-4AED-82FA-33F0BB0287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CF5E1F4-DF47-492D-913A-1AF8927756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1E2F640-D6F3-41DE-A35A-1BFA63F6A4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2D4480-09C5-452E-BDEB-9CD4B4AA6C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2"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CF57CE3-247E-4994-8F52-8C9AB482C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6"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9F939B7-CDCC-48A7-8084-3CDF0BFDD1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A4D6D-129D-4E8C-934E-5E572CD4B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D4E0044-68AE-4133-A839-4C9C73FCC7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5C77D1B-05DB-4A03-BA46-9C27187043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9"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0"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D27BD1D-5D7B-4B43-A26E-4F84E8D66A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F6FC13-1931-402B-B545-D7E6A4403E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360377-AB9D-47BD-8B1E-F3880D88BE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9B59C0-4B1E-4C0F-A5DA-D4F1D71B47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B60A54-FCED-4CD7-9BF7-5E6784AEAB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F67139-9EAF-4F8F-9717-0FAA51AF4E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05DEBD-3D84-4076-AD61-A342AD3D5A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37E57B-3618-4E23-85D0-CFE763E10A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D4DDE-CF47-4E45-9153-BB4B36CF4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2FC400-348A-4A86-BFCD-BD70C522B7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7EEDFA-D5BD-427F-B3D7-038085B24D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8EC03D-CFA4-4DCA-B77E-650A74B081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74DE66-6349-4CD3-95E2-639EAB5523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32900A-045D-4A39-82D1-3863B40E3B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C54D59-5CCA-45A6-9BBA-00B7381A9F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8D936B-67B5-4A8E-8FDF-43F79D374D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0FCE26-3B73-43BC-B13E-8674B0BF10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16C830-824B-42C6-811E-32B50FCAF2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55D88F-2CDD-4FC2-91DE-00454331DD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677C0-40E8-4C19-B730-1E53CEC51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A64EC5-5CAA-4BE8-988A-31855C6B34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E9DAAC-91B1-4B2D-BAC7-DF58E60A62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AE17F1-4E66-4982-84F3-D1CA1BE2C8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7CE49E-0906-4965-869D-3614143BC4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C85714-C7C3-40B0-BE5E-F55325FAE8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1353DB-A5D9-481C-A4D7-6212124DDD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F7B1AF-8BA1-4B6B-BDCB-47ACE93050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FA6B57-7B6F-4257-97DD-D85043408D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06AAF1-1419-4049-A101-B731BBA21D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A2C5AE-4900-4FF6-B8E9-1D0CB66A2D1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0053E7-7D40-4A0B-9CBB-384D7B094AEF}"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438086"/>
                </a:solidFill>
                <a:latin typeface="Times New Roman"/>
              </a:rPr>
              <a:t>NGCodec Propietary</a:t>
            </a:r>
            <a:endParaRPr b="0" lang="en-US" sz="800" spc="-1" strike="noStrike">
              <a:solidFill>
                <a:srgbClr val="000000"/>
              </a:solidFill>
              <a:latin typeface="Times New Roman"/>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5F493A-FA2F-4E03-A0C3-531D14AABE5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9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99" name="PlaceHolder 3"/>
          <p:cNvSpPr>
            <a:spLocks noGrp="1"/>
          </p:cNvSpPr>
          <p:nvPr>
            <p:ph type="dt" idx="28"/>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08E304-FCFE-4E23-8D46-B55453F7667E}"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500" name="PlaceHolder 4"/>
          <p:cNvSpPr>
            <a:spLocks noGrp="1"/>
          </p:cNvSpPr>
          <p:nvPr>
            <p:ph type="ftr" idx="2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1" name="PlaceHolder 5"/>
          <p:cNvSpPr>
            <a:spLocks noGrp="1"/>
          </p:cNvSpPr>
          <p:nvPr>
            <p:ph type="sldNum" idx="30"/>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E5417-7B9E-4F8D-8F52-F2FD2A70C0B8}"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9"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0"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1"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2"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55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53" name="PlaceHolder 3"/>
          <p:cNvSpPr>
            <a:spLocks noGrp="1"/>
          </p:cNvSpPr>
          <p:nvPr>
            <p:ph type="dt" idx="3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197E9-9CA6-4237-A905-BD52ACCB672A}"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554" name="PlaceHolder 4"/>
          <p:cNvSpPr>
            <a:spLocks noGrp="1"/>
          </p:cNvSpPr>
          <p:nvPr>
            <p:ph type="ftr" idx="3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5" name="PlaceHolder 5"/>
          <p:cNvSpPr>
            <a:spLocks noGrp="1"/>
          </p:cNvSpPr>
          <p:nvPr>
            <p:ph type="sldNum" idx="3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A7118-8174-404B-A133-EBC0ECF0DCD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0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07" name="PlaceHolder 3"/>
          <p:cNvSpPr>
            <a:spLocks noGrp="1"/>
          </p:cNvSpPr>
          <p:nvPr>
            <p:ph type="dt" idx="34"/>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6F7CB-FB2B-4629-9C60-B293F5ED9CE9}"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608" name="PlaceHolder 4"/>
          <p:cNvSpPr>
            <a:spLocks noGrp="1"/>
          </p:cNvSpPr>
          <p:nvPr>
            <p:ph type="ftr" idx="3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9" name="PlaceHolder 5"/>
          <p:cNvSpPr>
            <a:spLocks noGrp="1"/>
          </p:cNvSpPr>
          <p:nvPr>
            <p:ph type="sldNum" idx="3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BFDB6E-BAF8-4C31-98DF-BD9A500B636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11B60B-E54F-4F60-983A-4616E73864B3}"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B5F9D-40EC-40D7-8BF4-6946959ADE9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41798-AC6D-4F26-8D0C-3D6AE57F19EC}"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122" name="PlaceHolder 4"/>
          <p:cNvSpPr>
            <a:spLocks noGrp="1"/>
          </p:cNvSpPr>
          <p:nvPr>
            <p:ph type="ftr" idx="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3" name="PlaceHolder 5"/>
          <p:cNvSpPr>
            <a:spLocks noGrp="1"/>
          </p:cNvSpPr>
          <p:nvPr>
            <p:ph type="sldNum" idx="9"/>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9DD34B-7354-4121-9CC9-43B6F9CA6AD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E04F6-6BCF-4B8E-8A97-2E33708842BC}"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BFD8F-452F-4122-9DCC-5820EF7B700E}"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2C411-D259-4401-B15A-3A0D8D0830A5}"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230"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535BC5-349A-48C2-A284-9D1ABA71B78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9"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0"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1"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2"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3"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4"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5"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6"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7"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8"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79"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0"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8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83" name="PlaceHolder 3"/>
          <p:cNvSpPr>
            <a:spLocks noGrp="1"/>
          </p:cNvSpPr>
          <p:nvPr>
            <p:ph type="dt" idx="16"/>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BEDD97-3E75-4776-A546-1F30316DCAC7}"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284" name="PlaceHolder 4"/>
          <p:cNvSpPr>
            <a:spLocks noGrp="1"/>
          </p:cNvSpPr>
          <p:nvPr>
            <p:ph type="sldNum" idx="1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63F01-26D6-4E49-A483-5BB469E32FA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285" name="PlaceHolder 5"/>
          <p:cNvSpPr>
            <a:spLocks noGrp="1"/>
          </p:cNvSpPr>
          <p:nvPr>
            <p:ph type="ftr" idx="18"/>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3"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4"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5"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6"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7"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8"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29"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0"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1"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2"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3"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4"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37" name="PlaceHolder 3"/>
          <p:cNvSpPr>
            <a:spLocks noGrp="1"/>
          </p:cNvSpPr>
          <p:nvPr>
            <p:ph type="dt" idx="19"/>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23C87-A521-4821-9E4B-E9B52417D87E}"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338" name="PlaceHolder 4"/>
          <p:cNvSpPr>
            <a:spLocks noGrp="1"/>
          </p:cNvSpPr>
          <p:nvPr>
            <p:ph type="ftr" idx="20"/>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39" name="PlaceHolder 5"/>
          <p:cNvSpPr>
            <a:spLocks noGrp="1"/>
          </p:cNvSpPr>
          <p:nvPr>
            <p:ph type="sldNum" idx="21"/>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30B15-8FB0-4C91-A050-8602ED5D63FA}"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7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3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391" name="PlaceHolder 3"/>
          <p:cNvSpPr>
            <a:spLocks noGrp="1"/>
          </p:cNvSpPr>
          <p:nvPr>
            <p:ph type="dt" idx="22"/>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C1B77E-145B-4096-B921-3B8B5B6E0EDB}"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392" name="PlaceHolder 4"/>
          <p:cNvSpPr>
            <a:spLocks noGrp="1"/>
          </p:cNvSpPr>
          <p:nvPr>
            <p:ph type="ftr" idx="23"/>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3" name="PlaceHolder 5"/>
          <p:cNvSpPr>
            <a:spLocks noGrp="1"/>
          </p:cNvSpPr>
          <p:nvPr>
            <p:ph type="sldNum" idx="24"/>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B4D73-0355-407E-AADA-23F58DC7ADE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4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45" name="PlaceHolder 3"/>
          <p:cNvSpPr>
            <a:spLocks noGrp="1"/>
          </p:cNvSpPr>
          <p:nvPr>
            <p:ph type="dt" idx="25"/>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800" spc="-1" strike="noStrike">
                <a:solidFill>
                  <a:srgbClr val="43808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62A4FF-C7C5-4325-A573-828F1E00FE2F}" type="datetime">
              <a:rPr b="0" lang="en-US" sz="800" spc="-1" strike="noStrike">
                <a:solidFill>
                  <a:srgbClr val="438086"/>
                </a:solidFill>
                <a:latin typeface="Times New Roman"/>
              </a:rPr>
              <a:t>07/28/26</a:t>
            </a:fld>
            <a:endParaRPr b="0" lang="en-US" sz="800" spc="-1" strike="noStrike">
              <a:solidFill>
                <a:srgbClr val="000000"/>
              </a:solidFill>
              <a:latin typeface="Times New Roman"/>
            </a:endParaRPr>
          </a:p>
        </p:txBody>
      </p:sp>
      <p:sp>
        <p:nvSpPr>
          <p:cNvPr id="446" name="PlaceHolder 4"/>
          <p:cNvSpPr>
            <a:spLocks noGrp="1"/>
          </p:cNvSpPr>
          <p:nvPr>
            <p:ph type="ftr" idx="26"/>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7" name="PlaceHolder 5"/>
          <p:cNvSpPr>
            <a:spLocks noGrp="1"/>
          </p:cNvSpPr>
          <p:nvPr>
            <p:ph type="sldNum" idx="27"/>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5DB2FE-09DA-4B97-B1CF-329F2545F53D}"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762120"/>
            <a:ext cx="8229600" cy="167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424456"/>
                </a:solidFill>
                <a:latin typeface="Trebuchet MS"/>
              </a:rPr>
              <a:t>On a 10-bit consumer-oriented profile in HEVC</a:t>
            </a:r>
            <a:endParaRPr b="0" lang="en-US" sz="4000" spc="-1" strike="noStrike">
              <a:solidFill>
                <a:srgbClr val="424456"/>
              </a:solidFill>
              <a:latin typeface="Trebuchet MS"/>
            </a:endParaRPr>
          </a:p>
        </p:txBody>
      </p:sp>
      <p:sp>
        <p:nvSpPr>
          <p:cNvPr id="654" name="Rectangle 10"/>
          <p:cNvSpPr/>
          <p:nvPr/>
        </p:nvSpPr>
        <p:spPr>
          <a:xfrm>
            <a:off x="2666880" y="3819600"/>
            <a:ext cx="3429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800" spc="-1" strike="noStrike">
                <a:solidFill>
                  <a:srgbClr val="000090"/>
                </a:solidFill>
                <a:latin typeface="Arial"/>
              </a:rPr>
              <a:t>JCTVC-K109</a:t>
            </a:r>
            <a:endParaRPr b="0" lang="en-US" sz="2800" spc="-1" strike="noStrike">
              <a:solidFill>
                <a:srgbClr val="000000"/>
              </a:solidFill>
              <a:latin typeface="Arial"/>
            </a:endParaRPr>
          </a:p>
        </p:txBody>
      </p:sp>
      <p:sp>
        <p:nvSpPr>
          <p:cNvPr id="655" name="Footer Placeholder 7"/>
          <p:cNvSpPr/>
          <p:nvPr/>
        </p:nvSpPr>
        <p:spPr>
          <a:xfrm>
            <a:off x="152280" y="6019920"/>
            <a:ext cx="8915400" cy="517320"/>
          </a:xfrm>
          <a:prstGeom prst="rect">
            <a:avLst/>
          </a:prstGeom>
          <a:noFill/>
          <a:ln w="0">
            <a:noFill/>
          </a:ln>
        </p:spPr>
        <p:style>
          <a:lnRef idx="0"/>
          <a:fillRef idx="0"/>
          <a:effectRef idx="0"/>
          <a:fontRef idx="minor"/>
        </p:style>
        <p:txBody>
          <a:bodyPr lIns="90000" rIns="90000" tIns="46800" bIns="46800" anchor="t">
            <a:noAutofit/>
          </a:bodyPr>
          <a:p>
            <a:pPr lvl="1" marL="800280" indent="-34308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ＭＳ Ｐゴシック"/>
              </a:rPr>
              <a:t>NGcodec, BSkyB, NHK, DirecTV, SVT, Motorola Mobility, Technicolor, Ericsson, Thomson Video Networks, BBC, ST, ATEME, CISCO, RAI, ViXS</a:t>
            </a:r>
            <a:endParaRPr b="0" lang="en-US" sz="1800" spc="-1" strike="noStrike">
              <a:solidFill>
                <a:srgbClr val="000000"/>
              </a:solidFill>
              <a:latin typeface="Arial"/>
            </a:endParaRPr>
          </a:p>
        </p:txBody>
      </p:sp>
      <p:sp>
        <p:nvSpPr>
          <p:cNvPr id="656" name="Rectangle 11"/>
          <p:cNvSpPr/>
          <p:nvPr/>
        </p:nvSpPr>
        <p:spPr>
          <a:xfrm>
            <a:off x="457200" y="4575240"/>
            <a:ext cx="8077320" cy="11901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lberto Dueñas, Adam Malamy, Bo Olofsson, Atsuro Ichigaya, Shinichi Sakaida, Sassan Pejhan, Lars Haglund, Ajay Luthra, Pierre Andrivon, Philippe Bordes, Tony Jones, Xavier Ducloux, Patrick Gendron, Marta Mrak, Andrew Cofler, Jean-Marc Thiesse, Arturo Rodriguez, </a:t>
            </a:r>
            <a:r>
              <a:rPr b="0" lang="en-CA" sz="1800" spc="-1" strike="noStrike">
                <a:solidFill>
                  <a:srgbClr val="000000"/>
                </a:solidFill>
                <a:latin typeface="Arial"/>
              </a:rPr>
              <a:t>Paola Sunna, Indra Laksono  </a:t>
            </a:r>
            <a:endParaRPr b="0" lang="en-US" sz="1800" spc="-1" strike="noStrike">
              <a:solidFill>
                <a:srgbClr val="000000"/>
              </a:solidFill>
              <a:latin typeface="Arial"/>
            </a:endParaRPr>
          </a:p>
          <a:p>
            <a:pPr algn="just">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ntroduction</a:t>
            </a:r>
            <a:endParaRPr b="0" lang="en-US" sz="4000" spc="-1" strike="noStrike">
              <a:solidFill>
                <a:srgbClr val="424456"/>
              </a:solidFill>
              <a:latin typeface="Trebuchet MS"/>
            </a:endParaRPr>
          </a:p>
        </p:txBody>
      </p:sp>
      <p:sp>
        <p:nvSpPr>
          <p:cNvPr id="658" name=""/>
          <p:cNvSpPr txBox="1"/>
          <p:nvPr/>
        </p:nvSpPr>
        <p:spPr>
          <a:xfrm>
            <a:off x="457200" y="1294920"/>
            <a:ext cx="8229600" cy="527868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his is a contribution about the creation of a new 10 bit profile</a:t>
            </a:r>
            <a:endParaRPr b="0" lang="en-US" sz="28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his is a consumer orientated profile</a:t>
            </a:r>
            <a:endParaRPr b="0" lang="en-US" sz="28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here is a </a:t>
            </a:r>
            <a:r>
              <a:rPr b="0" lang="en-US" sz="2800" spc="-1" strike="noStrike">
                <a:solidFill>
                  <a:srgbClr val="000000"/>
                </a:solidFill>
                <a:latin typeface="Georgia"/>
              </a:rPr>
              <a:t>unfulfilled market requirement </a:t>
            </a:r>
            <a:r>
              <a:rPr b="0" lang="en-CA" sz="2800" spc="-1" strike="noStrike">
                <a:solidFill>
                  <a:srgbClr val="000000"/>
                </a:solidFill>
                <a:latin typeface="Georgia"/>
              </a:rPr>
              <a:t>on the industry to support 10-bit bit-depth for 1080p and UDHTV services </a:t>
            </a:r>
            <a:endParaRPr b="0" lang="en-US" sz="28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No new coding tools or modifications to existing coding tools </a:t>
            </a:r>
            <a:r>
              <a:rPr b="0" lang="en-US" sz="2800" spc="-1" strike="noStrike">
                <a:solidFill>
                  <a:srgbClr val="000000"/>
                </a:solidFill>
                <a:latin typeface="Georgia"/>
              </a:rPr>
              <a:t>part of the current </a:t>
            </a:r>
            <a:r>
              <a:rPr b="0" lang="en-CA" sz="2800" spc="-1" strike="noStrike">
                <a:solidFill>
                  <a:srgbClr val="000000"/>
                </a:solidFill>
                <a:latin typeface="Georgia"/>
              </a:rPr>
              <a:t>HEVC Draft Text and Reference Software are required</a:t>
            </a:r>
            <a:endParaRPr b="0" lang="en-US" sz="28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his new profile would extend the current Main Profile to support 10-bit bit-depth content and maintain the chroma format at 4:2:0</a:t>
            </a:r>
            <a:endParaRPr b="0" lang="en-US" sz="28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Reason for this contribution</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sp>
        <p:nvSpPr>
          <p:cNvPr id="660" name=""/>
          <p:cNvSpPr txBox="1"/>
          <p:nvPr/>
        </p:nvSpPr>
        <p:spPr>
          <a:xfrm>
            <a:off x="457200" y="1294920"/>
            <a:ext cx="8229600" cy="5278680"/>
          </a:xfrm>
          <a:prstGeom prst="rect">
            <a:avLst/>
          </a:prstGeom>
          <a:noFill/>
          <a:ln w="0">
            <a:noFill/>
          </a:ln>
        </p:spPr>
        <p:txBody>
          <a:bodyPr anchor="t">
            <a:normAutofit fontScale="97000"/>
          </a:bodyPr>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Georgia"/>
              </a:rPr>
              <a:t>A number of broadcasters evaluating the creation of 1080p HD and UHDTV services have identified the need for a 10-bit profile to use HEVC</a:t>
            </a:r>
            <a:endParaRPr b="0" lang="en-US" sz="2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Georgia"/>
              </a:rPr>
              <a:t>The current lack of a 10-bit profile in HEVC delays the deployment of these services or leads to consider other compression formats with 10-bit support</a:t>
            </a:r>
            <a:endParaRPr b="0" lang="en-US" sz="2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Georgia"/>
              </a:rPr>
              <a:t>T</a:t>
            </a:r>
            <a:r>
              <a:rPr b="0" lang="en-US" sz="2600" spc="-1" strike="noStrike">
                <a:solidFill>
                  <a:srgbClr val="000000"/>
                </a:solidFill>
                <a:latin typeface="Georgia"/>
              </a:rPr>
              <a:t>he</a:t>
            </a:r>
            <a:r>
              <a:rPr b="0" lang="en-CA" sz="2600" spc="-1" strike="noStrike">
                <a:solidFill>
                  <a:srgbClr val="000000"/>
                </a:solidFill>
                <a:latin typeface="Georgia"/>
              </a:rPr>
              <a:t> goal of this contribution is accelerating the inclusion of this new profile on the HEVC International Standard</a:t>
            </a:r>
            <a:endParaRPr b="0" lang="en-US" sz="2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Georgia"/>
              </a:rPr>
              <a:t>Creating a 10-bit profile will speed up HEVC acceptance by the broadcast industry and help to proliferate in HD 1080p services and UHDTV applications</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5126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424456"/>
                </a:solidFill>
                <a:latin typeface="Trebuchet MS"/>
              </a:rPr>
              <a:t>On the importance of a new 10-bit profile</a:t>
            </a:r>
            <a:endParaRPr b="0" lang="en-US" sz="3600" spc="-1" strike="noStrike">
              <a:solidFill>
                <a:srgbClr val="424456"/>
              </a:solidFill>
              <a:latin typeface="Trebuchet MS"/>
            </a:endParaRPr>
          </a:p>
        </p:txBody>
      </p:sp>
      <p:sp>
        <p:nvSpPr>
          <p:cNvPr id="662" name=""/>
          <p:cNvSpPr txBox="1"/>
          <p:nvPr/>
        </p:nvSpPr>
        <p:spPr>
          <a:xfrm>
            <a:off x="457200" y="1905120"/>
            <a:ext cx="8229600" cy="535464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Support for 10-bit is becoming very important in many consumer applic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38086"/>
                </a:solidFill>
                <a:latin typeface="Georgia"/>
              </a:rPr>
              <a:t>ITU-R BT. 2020 recommendation on UHDTV is 10 or 12 bits (8 bits is not supported at the moment) and this is under consideration for new consumer services</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38086"/>
                </a:solidFill>
                <a:latin typeface="Georgia"/>
              </a:rPr>
              <a:t>Content producers are mastering and archiving 1080p HD and UHDTV content in 10-bit</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38086"/>
                </a:solidFill>
                <a:latin typeface="Georgia"/>
              </a:rPr>
              <a:t>Support for 10-bit is becoming available on consumer display systems. </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38086"/>
                </a:solidFill>
                <a:latin typeface="Georgia"/>
              </a:rPr>
              <a:t>The larger physical size of UHDTV displays, coupled with the wider color gamut and higher dynamic range expose more easily the visual artifacts of 8-bit video content</a:t>
            </a:r>
            <a:endParaRPr b="0" lang="en-US" sz="20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438086"/>
                </a:solidFill>
                <a:latin typeface="Georgia"/>
              </a:rPr>
              <a:t>Consumer interfaces support 10-bit (HDMI1.4a, DisplayPort)</a:t>
            </a:r>
            <a:endParaRPr b="0" lang="en-US" sz="20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2280"/>
            <a:ext cx="86868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424456"/>
                </a:solidFill>
                <a:latin typeface="Trebuchet MS"/>
              </a:rPr>
              <a:t>10-bit bit-depth vs. 8-bit bit-depth examples</a:t>
            </a:r>
            <a:endParaRPr b="0" lang="en-US" sz="3200" spc="-1" strike="noStrike">
              <a:solidFill>
                <a:srgbClr val="424456"/>
              </a:solidFill>
              <a:latin typeface="Trebuchet MS"/>
            </a:endParaRPr>
          </a:p>
        </p:txBody>
      </p:sp>
      <p:pic>
        <p:nvPicPr>
          <p:cNvPr id="664" name="Picture 3" descr="http://withimagination.imgtec.com/wp-content/uploads/2012/08/12_banding_effects.png"/>
          <p:cNvPicPr/>
          <p:nvPr/>
        </p:nvPicPr>
        <p:blipFill>
          <a:blip r:embed="rId1"/>
          <a:stretch/>
        </p:blipFill>
        <p:spPr>
          <a:xfrm>
            <a:off x="838080" y="990720"/>
            <a:ext cx="7315200" cy="2895480"/>
          </a:xfrm>
          <a:prstGeom prst="rect">
            <a:avLst/>
          </a:prstGeom>
          <a:ln w="0">
            <a:noFill/>
          </a:ln>
        </p:spPr>
      </p:pic>
      <p:pic>
        <p:nvPicPr>
          <p:cNvPr id="665" name="il_fi" descr="http://g-ecx.images-amazon.com/images/G/01/electronics/cat-500/sharp/detail-pages/sharp-10bit-example-800.jpg"/>
          <p:cNvPicPr/>
          <p:nvPr/>
        </p:nvPicPr>
        <p:blipFill>
          <a:blip r:embed="rId2"/>
          <a:stretch/>
        </p:blipFill>
        <p:spPr>
          <a:xfrm>
            <a:off x="838080" y="3886200"/>
            <a:ext cx="7620120" cy="2971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228240" y="512640"/>
            <a:ext cx="8915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424456"/>
                </a:solidFill>
                <a:latin typeface="Trebuchet MS"/>
              </a:rPr>
              <a:t>Current state of 10 bits coding in the Text Specification Draft and Reference Software </a:t>
            </a:r>
            <a:endParaRPr b="0" lang="en-US" sz="3200" spc="-1" strike="noStrike">
              <a:solidFill>
                <a:srgbClr val="424456"/>
              </a:solidFill>
              <a:latin typeface="Trebuchet MS"/>
            </a:endParaRPr>
          </a:p>
        </p:txBody>
      </p:sp>
      <p:sp>
        <p:nvSpPr>
          <p:cNvPr id="667" name=""/>
          <p:cNvSpPr txBox="1"/>
          <p:nvPr/>
        </p:nvSpPr>
        <p:spPr>
          <a:xfrm>
            <a:off x="457200" y="1579680"/>
            <a:ext cx="8229600" cy="5278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Georgia"/>
              </a:rPr>
              <a:t>Support for the coding of 10-bit bit-depth content has been part of the design and reference software (as part of the </a:t>
            </a:r>
            <a:r>
              <a:rPr b="0" lang="en-US" sz="2600" spc="-1" strike="noStrike">
                <a:solidFill>
                  <a:srgbClr val="000000"/>
                </a:solidFill>
                <a:latin typeface="Georgia"/>
              </a:rPr>
              <a:t>common test conditions)</a:t>
            </a:r>
            <a:r>
              <a:rPr b="0" lang="en-CA" sz="2600" spc="-1" strike="noStrike">
                <a:solidFill>
                  <a:srgbClr val="000000"/>
                </a:solidFill>
                <a:latin typeface="Georgia"/>
              </a:rPr>
              <a:t> from the early stages of the development</a:t>
            </a:r>
            <a:endParaRPr b="0" lang="en-US" sz="26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Georgia"/>
              </a:rPr>
              <a:t>From previous contributions submitted at previous JVT-VC meetings, including JCTVC-J0079 and JCT-VC-I0108, it is indicated that the current HEVC Draft Text and Reference Software successfully supports the coding of 10-bit video sequences</a:t>
            </a:r>
            <a:r>
              <a:rPr b="0" lang="en-US" sz="2600" spc="-1" strike="noStrike">
                <a:solidFill>
                  <a:srgbClr val="000000"/>
                </a:solidFill>
                <a:latin typeface="Georgia"/>
              </a:rPr>
              <a:t> </a:t>
            </a:r>
            <a:endParaRPr b="0" lang="en-US" sz="26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Georgia"/>
              </a:rPr>
              <a:t>ITU-R BT Rec. 2020 proposes different chromaticity coordinates as well as gamut that is wider for UHDTV. Current Draft already mentions such colorimetry aspects using VUI</a:t>
            </a:r>
            <a:endParaRPr b="0" lang="en-US" sz="26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5126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424456"/>
                </a:solidFill>
                <a:latin typeface="Trebuchet MS"/>
              </a:rPr>
              <a:t>Regarding 4:2:2/4:4:4 chroma format and beyond 10-bit bit-depth </a:t>
            </a:r>
            <a:endParaRPr b="0" lang="en-US" sz="3600" spc="-1" strike="noStrike">
              <a:solidFill>
                <a:srgbClr val="424456"/>
              </a:solidFill>
              <a:latin typeface="Trebuchet MS"/>
            </a:endParaRPr>
          </a:p>
        </p:txBody>
      </p:sp>
      <p:sp>
        <p:nvSpPr>
          <p:cNvPr id="669" name=""/>
          <p:cNvSpPr txBox="1"/>
          <p:nvPr/>
        </p:nvSpPr>
        <p:spPr>
          <a:xfrm>
            <a:off x="457200" y="1579320"/>
            <a:ext cx="8229600" cy="50497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his contribution does not recommend that either a 4:2:2 chroma format or bit-depths beyond 10 bits be supported in a new profile at this tim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4:2:2/4:4:4 chroma have been coupled in the past with greater than 8-bit mostly looking at professional application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here is a new trend in the delivery of video content that is requesting 10 bits in isolation from 4:2:2/4:4:4 chroma formats and leading to the creation on this consumer profil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clusions and recommendations</a:t>
            </a:r>
            <a:endParaRPr b="0" lang="en-US" sz="4000" spc="-1" strike="noStrike">
              <a:solidFill>
                <a:srgbClr val="424456"/>
              </a:solidFill>
              <a:latin typeface="Trebuchet MS"/>
            </a:endParaRPr>
          </a:p>
        </p:txBody>
      </p:sp>
      <p:sp>
        <p:nvSpPr>
          <p:cNvPr id="671" name=""/>
          <p:cNvSpPr txBox="1"/>
          <p:nvPr/>
        </p:nvSpPr>
        <p:spPr>
          <a:xfrm>
            <a:off x="457200" y="1219320"/>
            <a:ext cx="8229600" cy="5354640"/>
          </a:xfrm>
          <a:prstGeom prst="rect">
            <a:avLst/>
          </a:prstGeom>
          <a:noFill/>
          <a:ln w="0">
            <a:noFill/>
          </a:ln>
        </p:spPr>
        <p:txBody>
          <a:bodyPr anchor="t">
            <a:normAutofit fontScale="95000"/>
          </a:bodyPr>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contribution identifies that the usage of HEVC on emerging 1080p and UHDTV broadcasting services </a:t>
            </a:r>
            <a:r>
              <a:rPr b="0" lang="en-CA" sz="2600" spc="-1" strike="noStrike">
                <a:solidFill>
                  <a:srgbClr val="000000"/>
                </a:solidFill>
                <a:latin typeface="Georgia"/>
              </a:rPr>
              <a:t>will be delayed because of the current lack of a 10-bit profile</a:t>
            </a:r>
            <a:endParaRPr b="0" lang="en-US" sz="26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Georgia"/>
              </a:rPr>
              <a:t>This contribution shows the technical benefits of using 10 bits bit-depth compared with 8 bits bit-depth </a:t>
            </a:r>
            <a:endParaRPr b="0" lang="en-US" sz="26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contribution suggests the creation of a breakout group (BoG) in order to discuss the creation of a new consumer 10 bits profile in HEVC</a:t>
            </a:r>
            <a:endParaRPr b="0" lang="en-US" sz="26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contribution supports the further study of the current Draft Specification Text and Reference Software for the inclusion of a new 10-bit profile</a:t>
            </a:r>
            <a:r>
              <a:rPr b="0" lang="en-CA" sz="2600" spc="-1" strike="noStrike">
                <a:solidFill>
                  <a:srgbClr val="000000"/>
                </a:solidFill>
                <a:latin typeface="Georgia"/>
              </a:rPr>
              <a:t> the </a:t>
            </a:r>
            <a:r>
              <a:rPr b="0" lang="en-US" sz="2600" spc="-1" strike="noStrike">
                <a:solidFill>
                  <a:srgbClr val="000000"/>
                </a:solidFill>
                <a:latin typeface="Georgia"/>
              </a:rPr>
              <a:t>Draft Specification Text as soon as possible</a:t>
            </a:r>
            <a:endParaRPr b="0" lang="en-US" sz="26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46680" indent="-24264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ank you</a:t>
            </a:r>
            <a:endParaRPr b="0" lang="en-US" sz="4000" spc="-1" strike="noStrike">
              <a:solidFill>
                <a:srgbClr val="424456"/>
              </a:solidFill>
              <a:latin typeface="Trebuchet MS"/>
            </a:endParaRPr>
          </a:p>
        </p:txBody>
      </p:sp>
      <p:sp>
        <p:nvSpPr>
          <p:cNvPr id="673" name=""/>
          <p:cNvSpPr txBox="1"/>
          <p:nvPr/>
        </p:nvSpPr>
        <p:spPr>
          <a:xfrm>
            <a:off x="457200" y="4571640"/>
            <a:ext cx="8229600" cy="2001960"/>
          </a:xfrm>
          <a:prstGeom prst="rect">
            <a:avLst/>
          </a:prstGeom>
          <a:noFill/>
          <a:ln w="0">
            <a:noFill/>
          </a:ln>
        </p:spPr>
        <p:txBody>
          <a:bodyPr anchor="t">
            <a:normAutofit/>
          </a:bodyPr>
          <a:p>
            <a:pPr lvl="1"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Gcodec, BSkyB, NHK, DirecTV, SVT, Motorola Mobility, Technicolor, Ericsson, Thomson Video Networks, BBC, ST, ATEME, CISCO, RAI, ViX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5T09:47:13Z</dcterms:created>
  <dc:creator>Alberto Duenas</dc:creator>
  <dc:description/>
  <dc:language>en-US</dc:language>
  <cp:lastModifiedBy>Alberto Duenas</cp:lastModifiedBy>
  <dcterms:modified xsi:type="dcterms:W3CDTF">2012-10-16T08:36:50Z</dcterms:modified>
  <cp:revision>94</cp:revision>
  <dc:subject/>
  <dc:title>Slide 1</dc:title>
</cp:coreProperties>
</file>