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A374-BF31-4C8D-86AE-61C529219712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D490-95EA-44CA-B031-A1531F708B0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2F3F-AF41-45C3-BB86-F9178D24588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0177-3E52-4DF3-8914-D5E8D8D4349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0574-31C5-47E5-872D-08E7F3E5B10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CC22-1ACD-4D49-B9AD-AAD49C461AA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94A-7DC8-45BA-9E89-E85499E3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46F-6914-44EF-BA28-1307F329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DF4-5D1E-428A-8533-759E44D7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6B0-F444-4273-8FC3-04951561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373-E444-4660-AE16-A4F757C7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AA8-73FA-452D-89D9-03C12335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ADA-F4F6-473F-B958-3D8155B5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07B-A884-4B84-8C0C-2FFB60B7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035-31B5-44DB-820B-DC1E37DC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F1E-767F-4FE8-ACBD-8EC5E527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437-7F39-46F8-90A7-0157088D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559-B0F8-4197-9DF5-DE6CE771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1D32-9BCD-4312-A792-2F9D1ADCF4C6}" type="slidenum">
              <a:rPr b="0" lang="it-IT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ohji.nakagami@jp.sony.com" TargetMode="External"/><Relationship Id="rId3" Type="http://schemas.openxmlformats.org/officeDocument/2006/relationships/hyperlink" Target="mailto:teruhikos@jp.sony.com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792000" y="2313000"/>
            <a:ext cx="756000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0"/>
                </a:solidFill>
                <a:latin typeface="Calibri"/>
              </a:rPr>
              <a:t>FPA SEI message modification</a:t>
            </a:r>
            <a:br>
              <a:rPr sz="4400"/>
            </a:br>
            <a:r>
              <a:rPr b="0" lang="it-IT" sz="3600" spc="-1" strike="noStrike">
                <a:solidFill>
                  <a:srgbClr val="000090"/>
                </a:solidFill>
                <a:latin typeface="Calibri"/>
              </a:rPr>
              <a:t>JCTVC-K0105</a:t>
            </a:r>
            <a:br>
              <a:rPr sz="4400"/>
            </a:br>
            <a:r>
              <a:rPr b="0" lang="en-CA" sz="2400" spc="-1" strike="noStrike">
                <a:solidFill>
                  <a:srgbClr val="000090"/>
                </a:solidFill>
                <a:latin typeface="Calibri"/>
              </a:rPr>
              <a:t>Shanghai 10–19 October 2012</a:t>
            </a:r>
            <a:r>
              <a:rPr b="0" lang="it-IT" sz="2400" spc="-1" strike="noStrike">
                <a:solidFill>
                  <a:srgbClr val="00009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Calibri"/>
              </a:rPr>
              <a:t>Broadcasters and FP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queezing the Left and Right images in a single High Definition frame allows the service provider to reuse part of the existing production infrastructure and the whole of the existing distribution infrastructur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sibility for a second digital dividend (UHF 700 MHz band) already prospected at ITU WRC-12 after 2015 is making RF spectrum resources even more precio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Calibri"/>
              </a:rPr>
              <a:t>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ervice operator is willing to distribute stereoscopic video using one of the FPAs without 2D compati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 2D decoder is not required to understand the signaling describing the FPA SEI mess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ervice operator is willing to distribute stereoscopic video using FPAs with 2D compati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technical solution is necessary to enable the 2D decoder (unaware of the FPA format) to output by default a 2D version from the FPA, while enabling a 3D decoder to output the stereoscopic video.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Calibri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71280" y="1600200"/>
            <a:ext cx="771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1 doesn’t require any modification to the existing syntax and signal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2 is covered by a slight modification of the already existing signa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Immagine 1" descr=""/>
          <p:cNvPicPr/>
          <p:nvPr/>
        </p:nvPicPr>
        <p:blipFill>
          <a:blip r:embed="rId2"/>
          <a:stretch/>
        </p:blipFill>
        <p:spPr>
          <a:xfrm>
            <a:off x="971640" y="3811680"/>
            <a:ext cx="7324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Calibri"/>
              </a:rPr>
              <a:t>Syntax mod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Tabella 2" descr=""/>
          <p:cNvPicPr/>
          <p:nvPr/>
        </p:nvPicPr>
        <p:blipFill>
          <a:blip r:embed="rId2"/>
          <a:stretch/>
        </p:blipFill>
        <p:spPr>
          <a:xfrm>
            <a:off x="1639800" y="1407960"/>
            <a:ext cx="61023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Calibri"/>
              </a:rPr>
              <a:t>Decoding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Immagine 1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4537080" cy="468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076720" y="1600200"/>
            <a:ext cx="3322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w value of the cropping parameter is signaled in the new SEI mess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olo 1"/>
          <p:cNvSpPr/>
          <p:nvPr/>
        </p:nvSpPr>
        <p:spPr>
          <a:xfrm>
            <a:off x="1476360" y="1806480"/>
            <a:ext cx="277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0"/>
                </a:solidFill>
                <a:latin typeface="Tahoma"/>
              </a:rPr>
              <a:t>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0"/>
                </a:solidFill>
                <a:latin typeface="Tahoma"/>
              </a:rPr>
              <a:t>ques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olo 1"/>
          <p:cNvSpPr/>
          <p:nvPr/>
        </p:nvSpPr>
        <p:spPr>
          <a:xfrm>
            <a:off x="1187280" y="2457360"/>
            <a:ext cx="482472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Ohji Nakagam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hji.nakagami@jp.sony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Teruhiko Suzu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teruhikos@jp.sony.com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Giovanni Ballocca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iovanni.ballocca@sisveltech.com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Vittorio Giovara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ittorio.giovara@sisveltech.com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olo 1"/>
          <p:cNvSpPr/>
          <p:nvPr/>
        </p:nvSpPr>
        <p:spPr>
          <a:xfrm>
            <a:off x="4944960" y="44280"/>
            <a:ext cx="41990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ola Sun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.sunna@rai.it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rco Are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o.arena@rai.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ean Francois Tra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ean-francois.travers@tdf.fr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laus Illg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llgner@irt.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rco Pellegrin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o.pellegrinato@mediaset.it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13:33:52Z</dcterms:created>
  <dc:creator>GA</dc:creator>
  <dc:description/>
  <dc:language>en-US</dc:language>
  <cp:lastModifiedBy>Marco Arena</cp:lastModifiedBy>
  <dcterms:modified xsi:type="dcterms:W3CDTF">2012-10-12T15:22:42Z</dcterms:modified>
  <cp:revision>85</cp:revision>
  <dc:subject/>
  <dc:title>Diapositiva 1</dc:title>
</cp:coreProperties>
</file>