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29F2-3676-430F-A29F-C9AFF2948F1F}" type="slidenum">
              <a:rPr b="0" lang="ja-JP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スライド番号プレースホル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9243-DFDE-4C33-B8EA-875ED03474D0}" type="slidenum">
              <a:rPr b="0" lang="ja-JP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3CBF-C126-4A5C-92F9-6AB688417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0AC3-5A6B-4768-937C-DF34CF4F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5F49-250C-4270-A9AC-5AA5D95AD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06D7-3477-4C41-A48A-2F474E533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2F70-08CD-4D7D-8AF9-C36A553A0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683D-A8DF-414C-A8F6-39E51D21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3E2C-3141-43A0-886F-09BD5296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247B-17C1-45AC-9F94-95A6B772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3F1F-C39E-48E2-A729-3E5C7A50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0D91-8AC2-4076-856B-2B51E721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11E1-F9BD-4665-AA6D-CD1785DA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2F93-AD25-4564-882A-8C273924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8D8F-68A2-48BB-BE2A-5769A76A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EE26-1C56-41B0-98AC-E1A1B32D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FE90-9769-4B16-9608-55E12663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8A0F-E695-4E52-A988-FBB3764B1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11B5-0CC5-4831-8F42-DA8244389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A3CB-49CF-4DB6-BC2B-9BDAEC42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D130-C8A4-4155-AD80-F1C12F07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E8E4-258D-453E-AB35-E5AE4288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7E97-AB1B-488E-8F8A-21120611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1532-3AF4-490D-8A93-7088FA97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55DA-4B26-4AC3-8524-0770CB16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88E6-3E03-4998-8F0B-A366A315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7A23-B2EB-4BE7-BCD8-5D88EC7EA0FF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9A64-DB7B-4C6F-8EAC-C1BE37FF1A8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テキスト ボックス 6"/>
          <p:cNvSpPr/>
          <p:nvPr/>
        </p:nvSpPr>
        <p:spPr>
          <a:xfrm>
            <a:off x="7529760" y="115920"/>
            <a:ext cx="15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JCTVC-K00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34" descr="新ｾｯﾄﾛｺﾞ（基本表示）"/>
          <p:cNvPicPr/>
          <p:nvPr/>
        </p:nvPicPr>
        <p:blipFill>
          <a:blip r:embed="rId2"/>
          <a:stretch/>
        </p:blipFill>
        <p:spPr>
          <a:xfrm>
            <a:off x="374760" y="115920"/>
            <a:ext cx="1063440" cy="49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テキスト ボックス 6"/>
          <p:cNvSpPr/>
          <p:nvPr/>
        </p:nvSpPr>
        <p:spPr>
          <a:xfrm>
            <a:off x="7529760" y="115920"/>
            <a:ext cx="15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JCTVC-K00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4" descr="新ｾｯﾄﾛｺﾞ（基本表示）"/>
          <p:cNvPicPr/>
          <p:nvPr/>
        </p:nvPicPr>
        <p:blipFill>
          <a:blip r:embed="rId2"/>
          <a:stretch/>
        </p:blipFill>
        <p:spPr>
          <a:xfrm>
            <a:off x="374760" y="115920"/>
            <a:ext cx="1063440" cy="492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0696-FD28-4061-813C-93D56580F545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2BBB-5A40-4EB1-928D-A8B4104D957A}" type="slidenum">
              <a:rPr b="0" lang="ja-JP" sz="12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scription of scalable video coding technology proposal by KDD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K. Kawamura†, T. Yoshino†, L. Sun‡, T. Ikenaga‡, and S. Naito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†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KDDI Corp. (KDDI R&amp;D Labs., Inc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‡ 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Waseda Univers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47AA-8293-4FE8-8962-ACAEE5F563D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e tools are transferred from SV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e coding scheme for AVC/HEVC b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er granularity of chroma intra mode is introduc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erage objective gains of Hybrid vs HEV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-only actual rate: 24% and 43% for 2x and 1.5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-only target rate: 9% and 23% for 2x and 1.5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スライド番号プレースホルダ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84D9-234F-4EB9-80EE-86FB44E680D8}" type="slidenum">
              <a:rPr b="0" lang="ja-JP" sz="12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tilized base layer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e coding scheme for AVC/HEVC 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ee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-layer intra predi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-layer motion/mode predi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-layer residual predi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er granularity in chroma intra m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y for “intra-only spatial scalability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λ sett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B809-17EF-4CB6-8135-2FAF8913941C}" type="slidenum">
              <a:rPr b="0" lang="ja-JP" sz="12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tilized base layer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al decoded i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IQ/IDCT/Intra predi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-motion compens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fr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cture type, QP value, POC, number of L0 and L1 frames, and POCs of each ref_index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4x4 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D_MODE (intra/inter), ref_idx of L0 and L1, and motion vec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D3E5-D0EB-42B9-8C21-742D3CF230FD}" type="slidenum">
              <a:rPr b="0" lang="ja-JP" sz="12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-layer intra predi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of up-sampled image is an additional mo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-sampling filter is the identical one of SV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ifference is assumption of zero ph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co-located blocks of base layer need to be intra cod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B156-9DFC-4EE6-A25B-DD6E19C9AE90}" type="slidenum">
              <a:rPr b="0" lang="ja-JP" sz="12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-layer MV predic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e lay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tion vectors are assigned for each 4x4 blo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dicted vector is assigned for intra coded blo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hancement lay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aled motion vectors are derived for each 4x4 blo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L_MV is added to a candidate 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ft, up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L_M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upper left,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26D8-20E4-453D-BF87-36BABD4C9FA4}" type="slidenum">
              <a:rPr b="0" lang="ja-JP" sz="12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-layer residual predi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-sampled residual signals of BL are added to the MC signals of 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-sampling filter is the identical one of SV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ifference is assumption of zero ph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of co-located block of BL need to be inter cod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al signal of intra coded block is assumed zer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52F2-D3E3-42CB-A6C4-ED89E617C69A}" type="slidenum">
              <a:rPr b="0" lang="ja-JP" sz="12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-layer mode predi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e_mode_flag is assigned for each C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skip_flag is off, base_mode_flag is co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se_mode_flag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qual to 1 specifies th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ediction mode and the corresponding motion data (when applicable) are inferred from base lay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E879-8AEF-4A69-AD68-4925060007A7}" type="slidenum">
              <a:rPr b="0" lang="ja-JP" sz="12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ner granularity chroma intra mo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for “Intra only spatial scalabilit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roma intra modes are both inter-layer intra and regular intra predi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( base_mode_flag == 1 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( PredMode[ x0 ][ y0 ]==MODE_INTRA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ra_chroma_pred_mode[ x0 ][ y0 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676A-91A2-438D-9AE7-B21357038EA0}" type="slidenum">
              <a:rPr b="0" lang="ja-JP" sz="12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λ sett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 λ for enhancement lay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ier compu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pends on base layer QP, delta QP, b-frame, special scale, and base layer cod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ra only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ndom access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D044-015D-472E-8513-DBAC1C9824B1}" type="slidenum">
              <a:rPr b="0" lang="ja-JP" sz="12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"/>
              <p:cNvSpPr txBox="1"/>
              <p:nvPr/>
            </p:nvSpPr>
            <p:spPr>
              <a:xfrm>
                <a:off x="3492360" y="3857760"/>
                <a:ext cx="474840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Mult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Q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C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atio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3"/>
              <p:cNvSpPr txBox="1"/>
              <p:nvPr/>
            </p:nvSpPr>
            <p:spPr>
              <a:xfrm>
                <a:off x="3419640" y="5157720"/>
                <a:ext cx="53575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Mult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Q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C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atio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07:14:25Z</dcterms:created>
  <dc:creator>kei</dc:creator>
  <dc:description/>
  <dc:language>en-US</dc:language>
  <cp:lastModifiedBy>kei</cp:lastModifiedBy>
  <dcterms:modified xsi:type="dcterms:W3CDTF">2012-10-10T10:18:34Z</dcterms:modified>
  <cp:revision>324</cp:revision>
  <dc:subject/>
  <dc:title>Adaptive loop filtering using directional activity</dc:title>
</cp:coreProperties>
</file>