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73893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39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26"/>
          </p:nvPr>
        </p:nvSpPr>
        <p:spPr>
          <a:xfrm>
            <a:off x="3817800" y="-360"/>
            <a:ext cx="29196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1122120" y="4687920"/>
            <a:ext cx="449244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28"/>
          </p:nvPr>
        </p:nvSpPr>
        <p:spPr>
          <a:xfrm>
            <a:off x="3817800" y="9375480"/>
            <a:ext cx="29196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ja-JP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A9B2B9-801A-470F-8721-09D6C3CB906C}" type="slidenum">
              <a:rPr b="0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1122120" y="4687920"/>
            <a:ext cx="44924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74" name="スライド番号プレースホルダー 3"/>
          <p:cNvSpPr/>
          <p:nvPr/>
        </p:nvSpPr>
        <p:spPr>
          <a:xfrm>
            <a:off x="3817800" y="9375840"/>
            <a:ext cx="2919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99C578-DF13-4EBD-86B6-7F28BCF7C1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B6C9E-776F-42D9-87BC-8DD8A4E5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8203A-DF6E-4D22-9B56-E6FE48AA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3D66F-59A8-4BBC-A29C-35712479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5C8BF-75E9-47D4-BA7E-205D140B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6F880-F4DD-4B14-AF6A-F79DDD9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BB789-CF81-490E-B592-E7E433B6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F90E0-DDAE-4FC0-889B-0AF4B84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2003D-2FA3-4FA7-8CE3-F8405A0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621F-B35F-4391-8DB1-1E2D634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261BB-C970-4580-BCF9-EAE03F08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D3D0-F2FD-413E-869D-1494B99A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78D73-EFEA-40ED-8559-C60EC3E4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ja-JP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ja-JP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959-6A30-41FE-B5D1-85685E0B3A77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415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6C9A-C4F0-4FBE-97DD-DAA5E1B74CDE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0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1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461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8AB8-840F-4910-A430-4969830A3D80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2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3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507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C380-61A8-4375-A1DB-D4E6763FEB1E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24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25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2" descr=""/>
          <p:cNvPicPr/>
          <p:nvPr/>
        </p:nvPicPr>
        <p:blipFill>
          <a:blip r:embed="rId2"/>
          <a:stretch/>
        </p:blipFill>
        <p:spPr>
          <a:xfrm>
            <a:off x="379440" y="184320"/>
            <a:ext cx="3201840" cy="103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065240" y="6477120"/>
            <a:ext cx="371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2011, Toshiba Corpor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0" descr=""/>
          <p:cNvPicPr/>
          <p:nvPr/>
        </p:nvPicPr>
        <p:blipFill>
          <a:blip r:embed="rId3"/>
          <a:stretch/>
        </p:blipFill>
        <p:spPr>
          <a:xfrm>
            <a:off x="250920" y="103320"/>
            <a:ext cx="3313080" cy="1069920"/>
          </a:xfrm>
          <a:prstGeom prst="rect">
            <a:avLst/>
          </a:prstGeom>
          <a:ln w="0">
            <a:noFill/>
          </a:ln>
        </p:spPr>
      </p:pic>
      <p:sp>
        <p:nvSpPr>
          <p:cNvPr id="49" name="Oval 33"/>
          <p:cNvSpPr/>
          <p:nvPr/>
        </p:nvSpPr>
        <p:spPr>
          <a:xfrm>
            <a:off x="8583480" y="6237360"/>
            <a:ext cx="452520" cy="455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25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8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1065240" y="5524560"/>
            <a:ext cx="750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11/09/2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4780080" y="6477120"/>
            <a:ext cx="3752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年度上期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AEA20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5"/>
          </p:nvPr>
        </p:nvSpPr>
        <p:spPr>
          <a:xfrm>
            <a:off x="-360" y="647712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cccc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DE8C-7CE7-4AD4-A454-D037C88AEE88}" type="slidenum">
              <a:rPr b="0" lang="ja-JP" sz="11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93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F5B0-26C0-4159-B64A-39C443F13321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39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11A0-86BB-4315-BEE9-B95371814E03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8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9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85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D041-BE6D-4AF1-9CB4-D7ED9CC4E748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231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0DF-F75C-41B4-BA10-834871BDEDD1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2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3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277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15E-04EA-4DBE-A333-77912104EF5B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4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5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323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7BDC-70FC-4B94-824C-405591B9B5C7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369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B5F4-D2A7-4EE0-B768-94FCBBA76725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3"/>
          <p:cNvSpPr/>
          <p:nvPr/>
        </p:nvSpPr>
        <p:spPr>
          <a:xfrm>
            <a:off x="8704440" y="6458040"/>
            <a:ext cx="331560" cy="333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ja-JP" sz="1700" spc="-1" strike="noStrike">
                <a:solidFill>
                  <a:srgbClr val="ff0000"/>
                </a:solidFill>
                <a:latin typeface="Arial"/>
              </a:rPr>
              <a:t>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8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/09/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9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1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年度上期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AEA20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期末報告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8642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CTVC-J05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HG6: Report of ALF view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560" y="5005440"/>
            <a:ext cx="7502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Yamak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正方形/長方形 3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ewing Cond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0880" y="692280"/>
            <a:ext cx="852984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and time: 12 July 2012, 16:40 – 20: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: Room 35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ers: 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696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est condition sequences (Classes A, B and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696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KTA sequences (se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ng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696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Access and Low Delay B, Qp = 32,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ing equip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696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: Samsung LE46B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696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: Intel i7 2.67GHz, raid of 4 hard drives 8TB total and 8GB RAM, running on Windows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ized viewing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grade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69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2: A is worse, -1: A is slightly worse, 0: Equal, 1: A is slightly better, 2: A is better tha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正方形/長方形 4"/>
          <p:cNvSpPr/>
          <p:nvPr/>
        </p:nvSpPr>
        <p:spPr>
          <a:xfrm>
            <a:off x="8675640" y="6453360"/>
            <a:ext cx="468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Size Compar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08000" y="765000"/>
          <a:ext cx="8928000" cy="5376960"/>
        </p:xfrm>
        <a:graphic>
          <a:graphicData uri="http://schemas.openxmlformats.org/drawingml/2006/table">
            <a:tbl>
              <a:tblPr/>
              <a:tblGrid>
                <a:gridCol w="852480"/>
                <a:gridCol w="2814480"/>
                <a:gridCol w="422280"/>
                <a:gridCol w="841320"/>
                <a:gridCol w="843120"/>
                <a:gridCol w="565200"/>
                <a:gridCol w="420480"/>
                <a:gridCol w="760680"/>
                <a:gridCol w="760320"/>
                <a:gridCol w="647640"/>
              </a:tblGrid>
              <a:tr h="18648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x7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People_1280x72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,8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,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5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ny_1280x72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,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,7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nAndSara_1280x72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,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8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,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ht_1280x72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3,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2,2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calendar_1280x72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,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,0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x1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_1920x1080_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4,5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2,5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,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,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_1920x1080_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70,5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76,7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4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us_1920_10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24,8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35,5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0,9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2,9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ve_1920x10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6,7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9,8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93,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8,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Terrace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93,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46,4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,8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,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erbed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77,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75,5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_couple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9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x16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_2560x1600_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5,8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3,1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,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,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OnStreet_2560x1600_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64,6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51,4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94,2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8,5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butaFestival_2560x160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56,8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102,0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6,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34,8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mLocomotiveTrain_2560x160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34,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36,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,6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,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x1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_1920x1080_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4,9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5,4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,6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,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_1920x1080_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31,8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33,5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,7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,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us_1920_10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57,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62,6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0,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0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ve_1920x1080_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39,5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55,6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9,6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8,0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Terrace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30,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11,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4,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erbed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6,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10,9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_couple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1,4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0,5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8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_hour_1920x1080_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,7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3,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567" name="テキスト ボックス 5"/>
          <p:cNvSpPr/>
          <p:nvPr/>
        </p:nvSpPr>
        <p:spPr>
          <a:xfrm>
            <a:off x="1558800" y="6381720"/>
            <a:ext cx="756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itstream size of ALF on is 99.7% of Main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グラフ 1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ewing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正方形/長方形 3"/>
          <p:cNvSpPr/>
          <p:nvPr/>
        </p:nvSpPr>
        <p:spPr>
          <a:xfrm>
            <a:off x="8675640" y="6093000"/>
            <a:ext cx="468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テキスト ボックス 4"/>
          <p:cNvSpPr/>
          <p:nvPr/>
        </p:nvSpPr>
        <p:spPr>
          <a:xfrm>
            <a:off x="2575080" y="6176880"/>
            <a:ext cx="6538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corresponds to sequence name.  42 is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s are 95% Confidence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2:51:22Z</dcterms:created>
  <dc:creator>RDC</dc:creator>
  <dc:description/>
  <dc:language>en-US</dc:language>
  <cp:lastModifiedBy>T. Yamakage</cp:lastModifiedBy>
  <dcterms:modified xsi:type="dcterms:W3CDTF">2012-07-13T22:24:44Z</dcterms:modified>
  <cp:revision>200</cp:revision>
  <dc:subject/>
  <dc:title>[MML]2009年度下期期初方針</dc:title>
</cp:coreProperties>
</file>