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C467-32F0-46BC-93A1-7BF713FD1EC0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CC12-D733-41A2-9C51-6E5EA45A5631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740A-0A66-49F4-88D3-2284F265E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F047-5C56-4723-BAFC-395C22ACF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0E5A-7683-413F-AF83-998E7FAC3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FB64-957D-4CB7-B951-210F8E1DC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F8AB-1EB6-4530-B2AC-9B1E41AB0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5CFA-5F6D-49FB-888D-98E3CBBD3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0819-B5C3-4F8D-A411-32B1CADE9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0C85-9EE1-471D-B783-23CC789E2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4C43-5AFE-4ECF-AF33-A14974386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AA87-284E-457E-97EC-BB070897E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8620-ED78-448B-9ACE-C104A1623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F391-D9E3-4C0F-8C43-CE8989FA9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5687-79F4-4476-9651-E0FE08A42A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2228b"/>
                </a:solidFill>
                <a:latin typeface="Times New Roman"/>
              </a:rPr>
              <a:t>On NAL Unit Header and Video Parameter Set Desig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ongdoo Choi, Jaehyun Kim, Jeonghoon Pa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July, 20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PS syntax for multi-standards scalabili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FB58-73C2-4051-A556-79240F3E1A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표 5" descr=""/>
          <p:cNvPicPr/>
          <p:nvPr/>
        </p:nvPicPr>
        <p:blipFill>
          <a:blip r:embed="rId1"/>
          <a:stretch/>
        </p:blipFill>
        <p:spPr>
          <a:xfrm>
            <a:off x="1762200" y="938160"/>
            <a:ext cx="5040360" cy="3621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826920" y="4508640"/>
            <a:ext cx="762660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ased on the current VPS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Most of useful information for scalability can be delivered in NAL unit header conforming to the VPS design 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For the multi-standards scalability, the video coding standard type for each layer is signaled in the VPS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8161-6D5E-487B-8FA5-C706AA8556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DCC9-6013-4A33-B7C8-C1DB71E52A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L unit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MVC/SVC : base (1 byte), non-base (4 bytes) -&gt; variable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Extended 3 byte : view ID, priority ID, temporal ID, dependency ID, quality ID are present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HEVC-extension : 2 bytes -&gt; fixed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Reserved 5 bits for 3D/scalability extension 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     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           </a:t>
            </a: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Needs on flexible design of NAL unit header</a:t>
            </a: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                </a:t>
            </a: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for signaling scalability information  </a:t>
            </a: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209A-6CF7-4A7A-AAA7-38B85EF0A1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아래쪽 화살표 4"/>
          <p:cNvSpPr/>
          <p:nvPr/>
        </p:nvSpPr>
        <p:spPr>
          <a:xfrm>
            <a:off x="4071960" y="3929040"/>
            <a:ext cx="8571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87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 most of useful scalability information in NAL unit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In order that Network Elements get the important scalability information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only by parsing NAL unit header for bitstream management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No need to parse any parameter set in system level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ive to VPS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Utilizing the current VPS design, all scalability information is transmitted with consideration of the hybrid video coding standards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Goal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B94D-BD2B-433B-BE9D-3B6744598C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NAL unit header of HEV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NAL unit desig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2813-875F-4B74-831B-0ABB123949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그룹 181" descr=""/>
          <p:cNvPicPr/>
          <p:nvPr/>
        </p:nvPicPr>
        <p:blipFill>
          <a:blip r:embed="rId1"/>
          <a:stretch/>
        </p:blipFill>
        <p:spPr>
          <a:xfrm>
            <a:off x="281160" y="2206800"/>
            <a:ext cx="858168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직사각형 203"/>
          <p:cNvSpPr/>
          <p:nvPr/>
        </p:nvSpPr>
        <p:spPr>
          <a:xfrm>
            <a:off x="357120" y="385776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: forbidden_zero_bi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F: nal_ref_fla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: nal_unit_typ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D : temporal_i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5 : reserved_one_5bi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ep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CD4C-D0EF-4957-ACEC-B065A5BA38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직사각형 4"/>
          <p:cNvSpPr/>
          <p:nvPr/>
        </p:nvSpPr>
        <p:spPr>
          <a:xfrm>
            <a:off x="500040" y="400068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unit   :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직사각형 5"/>
          <p:cNvSpPr/>
          <p:nvPr/>
        </p:nvSpPr>
        <p:spPr>
          <a:xfrm>
            <a:off x="428760" y="2376360"/>
            <a:ext cx="20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S unit :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그룹 6" descr=""/>
          <p:cNvPicPr/>
          <p:nvPr/>
        </p:nvPicPr>
        <p:blipFill>
          <a:blip r:embed="rId1"/>
          <a:stretch/>
        </p:blipFill>
        <p:spPr>
          <a:xfrm>
            <a:off x="2639880" y="4206960"/>
            <a:ext cx="4748400" cy="590400"/>
          </a:xfrm>
          <a:prstGeom prst="rect">
            <a:avLst/>
          </a:prstGeom>
          <a:ln w="0">
            <a:noFill/>
          </a:ln>
        </p:spPr>
      </p:pic>
      <p:sp>
        <p:nvSpPr>
          <p:cNvPr id="113" name="직사각형 30"/>
          <p:cNvSpPr/>
          <p:nvPr/>
        </p:nvSpPr>
        <p:spPr>
          <a:xfrm>
            <a:off x="3286080" y="37148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NAL unit heade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직사각형 32"/>
          <p:cNvSpPr/>
          <p:nvPr/>
        </p:nvSpPr>
        <p:spPr>
          <a:xfrm>
            <a:off x="3214800" y="2214720"/>
            <a:ext cx="257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NAL unit heade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직사각형 57"/>
          <p:cNvSpPr/>
          <p:nvPr/>
        </p:nvSpPr>
        <p:spPr>
          <a:xfrm>
            <a:off x="357120" y="2000160"/>
            <a:ext cx="8143920" cy="15717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직사각형 58"/>
          <p:cNvSpPr/>
          <p:nvPr/>
        </p:nvSpPr>
        <p:spPr>
          <a:xfrm>
            <a:off x="357120" y="3571920"/>
            <a:ext cx="8143920" cy="15717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그룹 6" descr=""/>
          <p:cNvPicPr/>
          <p:nvPr/>
        </p:nvPicPr>
        <p:blipFill>
          <a:blip r:embed="rId2"/>
          <a:stretch/>
        </p:blipFill>
        <p:spPr>
          <a:xfrm>
            <a:off x="2597040" y="2682720"/>
            <a:ext cx="4821480" cy="5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osed NAL unit header for scalable/3D extension in VPS NAL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 NAL unit desig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DFEA-CF87-42D7-9BE6-7533394357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직사각형 203"/>
          <p:cNvSpPr/>
          <p:nvPr/>
        </p:nvSpPr>
        <p:spPr>
          <a:xfrm>
            <a:off x="357120" y="4643280"/>
            <a:ext cx="807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: scalable_extension_typ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type of scalability currently used, and how to map the layer_id into several scalability identifiers, e.g. dependency_id, quality_id, view_id, temporal_id, priority_id and so 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직사각형 173"/>
          <p:cNvSpPr/>
          <p:nvPr/>
        </p:nvSpPr>
        <p:spPr>
          <a:xfrm>
            <a:off x="43344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직사각형 174"/>
          <p:cNvSpPr/>
          <p:nvPr/>
        </p:nvSpPr>
        <p:spPr>
          <a:xfrm>
            <a:off x="94608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직사각형 175"/>
          <p:cNvSpPr/>
          <p:nvPr/>
        </p:nvSpPr>
        <p:spPr>
          <a:xfrm>
            <a:off x="145908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직사각형 176"/>
          <p:cNvSpPr/>
          <p:nvPr/>
        </p:nvSpPr>
        <p:spPr>
          <a:xfrm>
            <a:off x="197172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직사각형 177"/>
          <p:cNvSpPr/>
          <p:nvPr/>
        </p:nvSpPr>
        <p:spPr>
          <a:xfrm>
            <a:off x="248436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사각형 178"/>
          <p:cNvSpPr/>
          <p:nvPr/>
        </p:nvSpPr>
        <p:spPr>
          <a:xfrm>
            <a:off x="2997360" y="2286000"/>
            <a:ext cx="5108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직사각형 179"/>
          <p:cNvSpPr/>
          <p:nvPr/>
        </p:nvSpPr>
        <p:spPr>
          <a:xfrm>
            <a:off x="350820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직사각형 180"/>
          <p:cNvSpPr/>
          <p:nvPr/>
        </p:nvSpPr>
        <p:spPr>
          <a:xfrm>
            <a:off x="402120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직사각형 181"/>
          <p:cNvSpPr/>
          <p:nvPr/>
        </p:nvSpPr>
        <p:spPr>
          <a:xfrm>
            <a:off x="454356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직사각형 182"/>
          <p:cNvSpPr/>
          <p:nvPr/>
        </p:nvSpPr>
        <p:spPr>
          <a:xfrm>
            <a:off x="505620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직사각형 183"/>
          <p:cNvSpPr/>
          <p:nvPr/>
        </p:nvSpPr>
        <p:spPr>
          <a:xfrm>
            <a:off x="5568840" y="2286000"/>
            <a:ext cx="5112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직사각형 184"/>
          <p:cNvSpPr/>
          <p:nvPr/>
        </p:nvSpPr>
        <p:spPr>
          <a:xfrm>
            <a:off x="608004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직사각형 185"/>
          <p:cNvSpPr/>
          <p:nvPr/>
        </p:nvSpPr>
        <p:spPr>
          <a:xfrm>
            <a:off x="659304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직사각형 186"/>
          <p:cNvSpPr/>
          <p:nvPr/>
        </p:nvSpPr>
        <p:spPr>
          <a:xfrm>
            <a:off x="710568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직사각형 187"/>
          <p:cNvSpPr/>
          <p:nvPr/>
        </p:nvSpPr>
        <p:spPr>
          <a:xfrm>
            <a:off x="761832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직사각형 188"/>
          <p:cNvSpPr/>
          <p:nvPr/>
        </p:nvSpPr>
        <p:spPr>
          <a:xfrm>
            <a:off x="813132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직사각형 43"/>
          <p:cNvSpPr/>
          <p:nvPr/>
        </p:nvSpPr>
        <p:spPr>
          <a:xfrm>
            <a:off x="433440" y="28386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직사각형 44"/>
          <p:cNvSpPr/>
          <p:nvPr/>
        </p:nvSpPr>
        <p:spPr>
          <a:xfrm>
            <a:off x="936720" y="28386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R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직사각형 45"/>
          <p:cNvSpPr/>
          <p:nvPr/>
        </p:nvSpPr>
        <p:spPr>
          <a:xfrm>
            <a:off x="1459080" y="2838600"/>
            <a:ext cx="307476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직사각형 46"/>
          <p:cNvSpPr/>
          <p:nvPr/>
        </p:nvSpPr>
        <p:spPr>
          <a:xfrm>
            <a:off x="6080040" y="2838600"/>
            <a:ext cx="256392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직사각형 47"/>
          <p:cNvSpPr/>
          <p:nvPr/>
        </p:nvSpPr>
        <p:spPr>
          <a:xfrm>
            <a:off x="4533840" y="2838600"/>
            <a:ext cx="15462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osed NAL unit header for scalable/3D extension in other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 NAL unit desig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3C91-B185-4189-B5F0-4E62056AD4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직사각형 203"/>
          <p:cNvSpPr/>
          <p:nvPr/>
        </p:nvSpPr>
        <p:spPr>
          <a:xfrm>
            <a:off x="357120" y="4643280"/>
            <a:ext cx="807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 : layer_i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layer identifier, which can be mapped into the dependency_id, quality_id, view_id, temporal_id, priority_id and so 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직사각형 173"/>
          <p:cNvSpPr/>
          <p:nvPr/>
        </p:nvSpPr>
        <p:spPr>
          <a:xfrm>
            <a:off x="43344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직사각형 174"/>
          <p:cNvSpPr/>
          <p:nvPr/>
        </p:nvSpPr>
        <p:spPr>
          <a:xfrm>
            <a:off x="94608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직사각형 175"/>
          <p:cNvSpPr/>
          <p:nvPr/>
        </p:nvSpPr>
        <p:spPr>
          <a:xfrm>
            <a:off x="145908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직사각형 176"/>
          <p:cNvSpPr/>
          <p:nvPr/>
        </p:nvSpPr>
        <p:spPr>
          <a:xfrm>
            <a:off x="197172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직사각형 177"/>
          <p:cNvSpPr/>
          <p:nvPr/>
        </p:nvSpPr>
        <p:spPr>
          <a:xfrm>
            <a:off x="248436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직사각형 178"/>
          <p:cNvSpPr/>
          <p:nvPr/>
        </p:nvSpPr>
        <p:spPr>
          <a:xfrm>
            <a:off x="2997360" y="2286000"/>
            <a:ext cx="5108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직사각형 179"/>
          <p:cNvSpPr/>
          <p:nvPr/>
        </p:nvSpPr>
        <p:spPr>
          <a:xfrm>
            <a:off x="350820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직사각형 180"/>
          <p:cNvSpPr/>
          <p:nvPr/>
        </p:nvSpPr>
        <p:spPr>
          <a:xfrm>
            <a:off x="402120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직사각형 181"/>
          <p:cNvSpPr/>
          <p:nvPr/>
        </p:nvSpPr>
        <p:spPr>
          <a:xfrm>
            <a:off x="454356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직사각형 182"/>
          <p:cNvSpPr/>
          <p:nvPr/>
        </p:nvSpPr>
        <p:spPr>
          <a:xfrm>
            <a:off x="505620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직사각형 183"/>
          <p:cNvSpPr/>
          <p:nvPr/>
        </p:nvSpPr>
        <p:spPr>
          <a:xfrm>
            <a:off x="5568840" y="2286000"/>
            <a:ext cx="5112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직사각형 184"/>
          <p:cNvSpPr/>
          <p:nvPr/>
        </p:nvSpPr>
        <p:spPr>
          <a:xfrm>
            <a:off x="608004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직사각형 185"/>
          <p:cNvSpPr/>
          <p:nvPr/>
        </p:nvSpPr>
        <p:spPr>
          <a:xfrm>
            <a:off x="659304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직사각형 186"/>
          <p:cNvSpPr/>
          <p:nvPr/>
        </p:nvSpPr>
        <p:spPr>
          <a:xfrm>
            <a:off x="710568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직사각형 187"/>
          <p:cNvSpPr/>
          <p:nvPr/>
        </p:nvSpPr>
        <p:spPr>
          <a:xfrm>
            <a:off x="7618320" y="2286000"/>
            <a:ext cx="5130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직사각형 188"/>
          <p:cNvSpPr/>
          <p:nvPr/>
        </p:nvSpPr>
        <p:spPr>
          <a:xfrm>
            <a:off x="8131320" y="22860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직사각형 43"/>
          <p:cNvSpPr/>
          <p:nvPr/>
        </p:nvSpPr>
        <p:spPr>
          <a:xfrm>
            <a:off x="433440" y="28386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직사각형 44"/>
          <p:cNvSpPr/>
          <p:nvPr/>
        </p:nvSpPr>
        <p:spPr>
          <a:xfrm>
            <a:off x="936720" y="2838600"/>
            <a:ext cx="51264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R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직사각형 45"/>
          <p:cNvSpPr/>
          <p:nvPr/>
        </p:nvSpPr>
        <p:spPr>
          <a:xfrm>
            <a:off x="1459080" y="2838600"/>
            <a:ext cx="307476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직사각형 46"/>
          <p:cNvSpPr/>
          <p:nvPr/>
        </p:nvSpPr>
        <p:spPr>
          <a:xfrm>
            <a:off x="6080040" y="2838600"/>
            <a:ext cx="256392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직사각형 47"/>
          <p:cNvSpPr/>
          <p:nvPr/>
        </p:nvSpPr>
        <p:spPr>
          <a:xfrm>
            <a:off x="4533840" y="2838600"/>
            <a:ext cx="1546200" cy="542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Mapping method of layer_id #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1FC0-51E2-4545-BB5F-33D45DA247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00080" y="3357720"/>
          <a:ext cx="6068880" cy="838080"/>
        </p:xfrm>
        <a:graphic>
          <a:graphicData uri="http://schemas.openxmlformats.org/drawingml/2006/table">
            <a:tbl>
              <a:tblPr/>
              <a:tblGrid>
                <a:gridCol w="2022480"/>
                <a:gridCol w="2024280"/>
                <a:gridCol w="2022120"/>
              </a:tblGrid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T (2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ayer_id_0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ayer_id_1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iority_id (6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ew_id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emporal_id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pendency_id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quality_id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pendency_id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emporal_id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mapping into scalability ID by splitting sub-layer I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he </a:t>
            </a:r>
            <a:r>
              <a:rPr b="0" lang="en-US" sz="1800" spc="-1" strike="noStrike">
                <a:solidFill>
                  <a:srgbClr val="000066"/>
                </a:solidFill>
                <a:latin typeface="맑은 고딕"/>
                <a:ea typeface="Times New Roman"/>
              </a:rPr>
              <a:t>layer_id (6bits) can be split into two or three sub_layer_id,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맑은 고딕"/>
                <a:ea typeface="Times New Roman"/>
              </a:rPr>
              <a:t>and each sub_layer_id can be mapped into a specific identifier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Mapping method of layer_id #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CA4-9BAC-48B5-8F12-87BA16D64D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rect mapping with predefined mapping t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he mapping method using a look-up table, which is signaled in SEI message or predefined in the specification text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28840" y="2857680"/>
          <a:ext cx="5940360" cy="2331720"/>
        </p:xfrm>
        <a:graphic>
          <a:graphicData uri="http://schemas.openxmlformats.org/drawingml/2006/table">
            <a:tbl>
              <a:tblPr/>
              <a:tblGrid>
                <a:gridCol w="1350720"/>
                <a:gridCol w="1146240"/>
                <a:gridCol w="1147680"/>
                <a:gridCol w="1148040"/>
                <a:gridCol w="1147680"/>
              </a:tblGrid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ayer ID (SET = k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pendency ID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Quality ID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ew ID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emporal ID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5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7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BDCHOI</cp:lastModifiedBy>
  <dcterms:modified xsi:type="dcterms:W3CDTF">2012-07-10T07:31:40Z</dcterms:modified>
  <cp:revision>4588</cp:revision>
  <dc:subject/>
  <dc:title>Visual SNHC Tools</dc:title>
</cp:coreProperties>
</file>