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" name="Text Box 14"/>
          <p:cNvSpPr/>
          <p:nvPr/>
        </p:nvSpPr>
        <p:spPr>
          <a:xfrm>
            <a:off x="8659800" y="340200"/>
            <a:ext cx="214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458B-310B-4E93-9ADE-426809CB951B}" type="slidenum">
              <a:rPr b="0" lang="en-US" sz="900" spc="-1" strike="noStrike">
                <a:solidFill>
                  <a:srgbClr val="f6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" name="Rectangle 15"/>
          <p:cNvSpPr/>
          <p:nvPr/>
        </p:nvSpPr>
        <p:spPr>
          <a:xfrm>
            <a:off x="8202600" y="303120"/>
            <a:ext cx="419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6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4" name="Group 18"/>
          <p:cNvGrpSpPr/>
          <p:nvPr/>
        </p:nvGrpSpPr>
        <p:grpSpPr>
          <a:xfrm>
            <a:off x="358920" y="6343560"/>
            <a:ext cx="290160" cy="291960"/>
            <a:chOff x="358920" y="6343560"/>
            <a:chExt cx="290160" cy="291960"/>
          </a:xfrm>
        </p:grpSpPr>
        <p:sp>
          <p:nvSpPr>
            <p:cNvPr id="5" name="Oval 19"/>
            <p:cNvSpPr/>
            <p:nvPr/>
          </p:nvSpPr>
          <p:spPr>
            <a:xfrm>
              <a:off x="372960" y="6360840"/>
              <a:ext cx="268200" cy="25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6" name="Freeform 22"/>
            <p:cNvSpPr/>
            <p:nvPr/>
          </p:nvSpPr>
          <p:spPr>
            <a:xfrm>
              <a:off x="358920" y="6343560"/>
              <a:ext cx="290160" cy="29196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e31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821160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Times New Roman"/>
              </a:rPr>
              <a:t>10/27/20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79020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Times New Roman"/>
              </a:rPr>
              <a:t>© 2010 Motorola Mobility, Inc. - Internal Confiden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127080" y="4102200"/>
            <a:ext cx="8888400" cy="2562120"/>
          </a:xfrm>
          <a:prstGeom prst="rect">
            <a:avLst/>
          </a:prstGeom>
          <a:solidFill>
            <a:srgbClr val="b512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46" name="Group 12"/>
          <p:cNvGrpSpPr/>
          <p:nvPr/>
        </p:nvGrpSpPr>
        <p:grpSpPr>
          <a:xfrm>
            <a:off x="8244000" y="4403880"/>
            <a:ext cx="518760" cy="521640"/>
            <a:chOff x="8244000" y="4403880"/>
            <a:chExt cx="518760" cy="521640"/>
          </a:xfrm>
        </p:grpSpPr>
        <p:sp>
          <p:nvSpPr>
            <p:cNvPr id="47" name="Oval 13"/>
            <p:cNvSpPr/>
            <p:nvPr/>
          </p:nvSpPr>
          <p:spPr>
            <a:xfrm>
              <a:off x="8268840" y="4434480"/>
              <a:ext cx="479520" cy="46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48" name="Freeform 22"/>
            <p:cNvSpPr/>
            <p:nvPr/>
          </p:nvSpPr>
          <p:spPr>
            <a:xfrm>
              <a:off x="8244000" y="4403880"/>
              <a:ext cx="518760" cy="52164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49" name="Rectangle 20"/>
          <p:cNvSpPr/>
          <p:nvPr/>
        </p:nvSpPr>
        <p:spPr>
          <a:xfrm>
            <a:off x="378000" y="6323040"/>
            <a:ext cx="5371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MOTOROLA and the Stylized M Logo are trademarks or registered trademarks of Motorola Trademark Holdings, LLC. All other trademarks are the property of their respective owners.  © 2010 Motorola Mobility, Inc.  All rights reserved.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343080" y="57240"/>
            <a:ext cx="1747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ORGANIZATION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2109960" y="57240"/>
            <a:ext cx="39067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DETAIL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90" name="Group 21"/>
          <p:cNvGrpSpPr/>
          <p:nvPr/>
        </p:nvGrpSpPr>
        <p:grpSpPr>
          <a:xfrm>
            <a:off x="380880" y="-360"/>
            <a:ext cx="1768680" cy="458280"/>
            <a:chOff x="380880" y="-360"/>
            <a:chExt cx="1768680" cy="458280"/>
          </a:xfrm>
        </p:grpSpPr>
        <p:sp>
          <p:nvSpPr>
            <p:cNvPr id="91" name="Line 11"/>
            <p:cNvSpPr/>
            <p:nvPr/>
          </p:nvSpPr>
          <p:spPr>
            <a:xfrm flipV="1">
              <a:off x="38088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92" name="Line 12"/>
            <p:cNvSpPr/>
            <p:nvPr/>
          </p:nvSpPr>
          <p:spPr>
            <a:xfrm flipV="1">
              <a:off x="214956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93" name="Text Box 14"/>
          <p:cNvSpPr/>
          <p:nvPr/>
        </p:nvSpPr>
        <p:spPr>
          <a:xfrm>
            <a:off x="8659800" y="340200"/>
            <a:ext cx="214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3096-7963-4A8F-996E-654124CE51CF}" type="slidenum">
              <a:rPr b="0" lang="en-US" sz="900" spc="-1" strike="noStrike">
                <a:solidFill>
                  <a:srgbClr val="f6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8202600" y="303120"/>
            <a:ext cx="419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6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95" name="Group 18"/>
          <p:cNvGrpSpPr/>
          <p:nvPr/>
        </p:nvGrpSpPr>
        <p:grpSpPr>
          <a:xfrm>
            <a:off x="358920" y="6343560"/>
            <a:ext cx="290160" cy="291960"/>
            <a:chOff x="358920" y="6343560"/>
            <a:chExt cx="290160" cy="291960"/>
          </a:xfrm>
        </p:grpSpPr>
        <p:sp>
          <p:nvSpPr>
            <p:cNvPr id="96" name="Oval 19"/>
            <p:cNvSpPr/>
            <p:nvPr/>
          </p:nvSpPr>
          <p:spPr>
            <a:xfrm>
              <a:off x="372960" y="6360840"/>
              <a:ext cx="268200" cy="25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97" name="Freeform 22"/>
            <p:cNvSpPr/>
            <p:nvPr/>
          </p:nvSpPr>
          <p:spPr>
            <a:xfrm>
              <a:off x="358920" y="6343560"/>
              <a:ext cx="290160" cy="29196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e31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3"/>
          </p:nvPr>
        </p:nvSpPr>
        <p:spPr>
          <a:xfrm>
            <a:off x="8220240" y="6359400"/>
            <a:ext cx="60768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Times New Roman"/>
              </a:rPr>
              <a:t>10/27/20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4"/>
          </p:nvPr>
        </p:nvSpPr>
        <p:spPr>
          <a:xfrm>
            <a:off x="79020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Times New Roman"/>
              </a:rPr>
              <a:t>© 2010 Motorola Mobility, Inc. - Internal Confiden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9"/>
          <p:cNvSpPr/>
          <p:nvPr/>
        </p:nvSpPr>
        <p:spPr>
          <a:xfrm>
            <a:off x="343080" y="57240"/>
            <a:ext cx="1747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ORGANIZATION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2109960" y="57240"/>
            <a:ext cx="39067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DETAIL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140" name="Group 21"/>
          <p:cNvGrpSpPr/>
          <p:nvPr/>
        </p:nvGrpSpPr>
        <p:grpSpPr>
          <a:xfrm>
            <a:off x="380880" y="-360"/>
            <a:ext cx="1768680" cy="458280"/>
            <a:chOff x="380880" y="-360"/>
            <a:chExt cx="1768680" cy="458280"/>
          </a:xfrm>
        </p:grpSpPr>
        <p:sp>
          <p:nvSpPr>
            <p:cNvPr id="141" name="Line 11"/>
            <p:cNvSpPr/>
            <p:nvPr/>
          </p:nvSpPr>
          <p:spPr>
            <a:xfrm flipV="1">
              <a:off x="38088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42" name="Line 12"/>
            <p:cNvSpPr/>
            <p:nvPr/>
          </p:nvSpPr>
          <p:spPr>
            <a:xfrm flipV="1">
              <a:off x="214956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143" name="Text Box 14"/>
          <p:cNvSpPr/>
          <p:nvPr/>
        </p:nvSpPr>
        <p:spPr>
          <a:xfrm>
            <a:off x="8659800" y="340200"/>
            <a:ext cx="214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FED6-37AD-4972-AB27-0C6AD2CB22D5}" type="slidenum">
              <a:rPr b="0" lang="en-US" sz="900" spc="-1" strike="noStrike">
                <a:solidFill>
                  <a:srgbClr val="f6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8202600" y="303120"/>
            <a:ext cx="419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6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145" name="Group 18"/>
          <p:cNvGrpSpPr/>
          <p:nvPr/>
        </p:nvGrpSpPr>
        <p:grpSpPr>
          <a:xfrm>
            <a:off x="358920" y="6343560"/>
            <a:ext cx="290160" cy="291960"/>
            <a:chOff x="358920" y="6343560"/>
            <a:chExt cx="290160" cy="291960"/>
          </a:xfrm>
        </p:grpSpPr>
        <p:sp>
          <p:nvSpPr>
            <p:cNvPr id="146" name="Oval 19"/>
            <p:cNvSpPr/>
            <p:nvPr/>
          </p:nvSpPr>
          <p:spPr>
            <a:xfrm>
              <a:off x="372960" y="6360840"/>
              <a:ext cx="268200" cy="25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358920" y="6343560"/>
              <a:ext cx="290160" cy="29196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e31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5"/>
          </p:nvPr>
        </p:nvSpPr>
        <p:spPr>
          <a:xfrm>
            <a:off x="8220240" y="6359400"/>
            <a:ext cx="60768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Times New Roman"/>
              </a:rPr>
              <a:t>10/27/20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6"/>
          </p:nvPr>
        </p:nvSpPr>
        <p:spPr>
          <a:xfrm>
            <a:off x="79020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Times New Roman"/>
              </a:rPr>
              <a:t>(c) 2010 Motorola Mobility, Inc. - Internal Confiden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9"/>
          <p:cNvSpPr/>
          <p:nvPr/>
        </p:nvSpPr>
        <p:spPr>
          <a:xfrm>
            <a:off x="343080" y="57240"/>
            <a:ext cx="1747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ORGANIZATION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2109960" y="57240"/>
            <a:ext cx="39067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DETAIL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190" name="Group 21"/>
          <p:cNvGrpSpPr/>
          <p:nvPr/>
        </p:nvGrpSpPr>
        <p:grpSpPr>
          <a:xfrm>
            <a:off x="380880" y="-360"/>
            <a:ext cx="1768680" cy="458280"/>
            <a:chOff x="380880" y="-360"/>
            <a:chExt cx="1768680" cy="458280"/>
          </a:xfrm>
        </p:grpSpPr>
        <p:sp>
          <p:nvSpPr>
            <p:cNvPr id="191" name="Line 11"/>
            <p:cNvSpPr/>
            <p:nvPr/>
          </p:nvSpPr>
          <p:spPr>
            <a:xfrm flipV="1">
              <a:off x="38088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92" name="Line 12"/>
            <p:cNvSpPr/>
            <p:nvPr/>
          </p:nvSpPr>
          <p:spPr>
            <a:xfrm flipV="1">
              <a:off x="214956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193" name="Text Box 14"/>
          <p:cNvSpPr/>
          <p:nvPr/>
        </p:nvSpPr>
        <p:spPr>
          <a:xfrm>
            <a:off x="8659800" y="340200"/>
            <a:ext cx="214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FFCB-374B-4D3D-A6EB-7A12C7A0EC9F}" type="slidenum">
              <a:rPr b="0" lang="en-US" sz="900" spc="-1" strike="noStrike">
                <a:solidFill>
                  <a:srgbClr val="f6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8202600" y="303120"/>
            <a:ext cx="419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6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195" name="Group 18"/>
          <p:cNvGrpSpPr/>
          <p:nvPr/>
        </p:nvGrpSpPr>
        <p:grpSpPr>
          <a:xfrm>
            <a:off x="358920" y="6343560"/>
            <a:ext cx="290160" cy="291960"/>
            <a:chOff x="358920" y="6343560"/>
            <a:chExt cx="290160" cy="291960"/>
          </a:xfrm>
        </p:grpSpPr>
        <p:sp>
          <p:nvSpPr>
            <p:cNvPr id="196" name="Oval 19"/>
            <p:cNvSpPr/>
            <p:nvPr/>
          </p:nvSpPr>
          <p:spPr>
            <a:xfrm>
              <a:off x="372960" y="6360840"/>
              <a:ext cx="268200" cy="25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97" name="Freeform 22"/>
            <p:cNvSpPr/>
            <p:nvPr/>
          </p:nvSpPr>
          <p:spPr>
            <a:xfrm>
              <a:off x="358920" y="6343560"/>
              <a:ext cx="290160" cy="29196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e31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7"/>
          </p:nvPr>
        </p:nvSpPr>
        <p:spPr>
          <a:xfrm>
            <a:off x="8220240" y="6359400"/>
            <a:ext cx="60768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Times New Roman"/>
              </a:rPr>
              <a:t>10/27/20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8"/>
          </p:nvPr>
        </p:nvSpPr>
        <p:spPr>
          <a:xfrm>
            <a:off x="79020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Times New Roman"/>
              </a:rPr>
              <a:t>(c) 2010 Motorola Mobility, Inc. - Internal Confiden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9"/>
          <p:cNvSpPr/>
          <p:nvPr/>
        </p:nvSpPr>
        <p:spPr>
          <a:xfrm>
            <a:off x="343080" y="57240"/>
            <a:ext cx="1747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ORGANIZATION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2109960" y="57240"/>
            <a:ext cx="39067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DETAIL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240" name="Group 21"/>
          <p:cNvGrpSpPr/>
          <p:nvPr/>
        </p:nvGrpSpPr>
        <p:grpSpPr>
          <a:xfrm>
            <a:off x="380880" y="-360"/>
            <a:ext cx="1768680" cy="458280"/>
            <a:chOff x="380880" y="-360"/>
            <a:chExt cx="1768680" cy="458280"/>
          </a:xfrm>
        </p:grpSpPr>
        <p:sp>
          <p:nvSpPr>
            <p:cNvPr id="241" name="Line 11"/>
            <p:cNvSpPr/>
            <p:nvPr/>
          </p:nvSpPr>
          <p:spPr>
            <a:xfrm flipV="1">
              <a:off x="38088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42" name="Line 12"/>
            <p:cNvSpPr/>
            <p:nvPr/>
          </p:nvSpPr>
          <p:spPr>
            <a:xfrm flipV="1">
              <a:off x="214956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243" name="Text Box 14"/>
          <p:cNvSpPr/>
          <p:nvPr/>
        </p:nvSpPr>
        <p:spPr>
          <a:xfrm>
            <a:off x="8659800" y="340200"/>
            <a:ext cx="214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EAB8-10DB-4177-8D58-C0B9FEA2D05C}" type="slidenum">
              <a:rPr b="0" lang="en-US" sz="900" spc="-1" strike="noStrike">
                <a:solidFill>
                  <a:srgbClr val="f6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44" name="Rectangle 15"/>
          <p:cNvSpPr/>
          <p:nvPr/>
        </p:nvSpPr>
        <p:spPr>
          <a:xfrm>
            <a:off x="8202600" y="303120"/>
            <a:ext cx="419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6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245" name="Group 18"/>
          <p:cNvGrpSpPr/>
          <p:nvPr/>
        </p:nvGrpSpPr>
        <p:grpSpPr>
          <a:xfrm>
            <a:off x="358920" y="6343560"/>
            <a:ext cx="290160" cy="291960"/>
            <a:chOff x="358920" y="6343560"/>
            <a:chExt cx="290160" cy="291960"/>
          </a:xfrm>
        </p:grpSpPr>
        <p:sp>
          <p:nvSpPr>
            <p:cNvPr id="246" name="Oval 19"/>
            <p:cNvSpPr/>
            <p:nvPr/>
          </p:nvSpPr>
          <p:spPr>
            <a:xfrm>
              <a:off x="372960" y="6360840"/>
              <a:ext cx="268200" cy="25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47" name="Freeform 22"/>
            <p:cNvSpPr/>
            <p:nvPr/>
          </p:nvSpPr>
          <p:spPr>
            <a:xfrm>
              <a:off x="358920" y="6343560"/>
              <a:ext cx="290160" cy="29196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e31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9"/>
          </p:nvPr>
        </p:nvSpPr>
        <p:spPr>
          <a:xfrm>
            <a:off x="821160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Times New Roman"/>
              </a:rPr>
              <a:t>10/27/20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0"/>
          </p:nvPr>
        </p:nvSpPr>
        <p:spPr>
          <a:xfrm>
            <a:off x="79020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Times New Roman"/>
              </a:rPr>
              <a:t>(c) 2010 Motorola Mobility, Inc. - Internal Confiden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68280" y="428760"/>
            <a:ext cx="7772400" cy="14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Arial"/>
              </a:rPr>
              <a:t>AHG5, AHG6: Coding of SAO merge left and merge up flags (JCTVC-J0355)</a:t>
            </a:r>
            <a:br>
              <a:rPr sz="3000"/>
            </a:br>
            <a:endParaRPr b="1" lang="en-US" sz="30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72600" y="4300200"/>
            <a:ext cx="7745400" cy="19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1e1e"/>
                </a:solidFill>
                <a:latin typeface="Arial"/>
              </a:rPr>
              <a:t>Koohyar Minoo and David Baylon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1e1e"/>
                </a:solidFill>
                <a:latin typeface="Arial"/>
              </a:rPr>
              <a:t>Motorola Mobility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1e1e"/>
                </a:solidFill>
                <a:latin typeface="Arial"/>
              </a:rPr>
              <a:t>7/12/12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Date Placeholder 3"/>
          <p:cNvSpPr/>
          <p:nvPr/>
        </p:nvSpPr>
        <p:spPr>
          <a:xfrm>
            <a:off x="821196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7/12/2012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79056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Arial"/>
              </a:rPr>
              <a:t>© 2010 Motorola Mobility, Inc. 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92" name="Title 1"/>
          <p:cNvSpPr/>
          <p:nvPr/>
        </p:nvSpPr>
        <p:spPr>
          <a:xfrm>
            <a:off x="457200" y="509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LCU-level SAO parameter pseudo-syntax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57200" y="1295280"/>
          <a:ext cx="8229600" cy="480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M 7.0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2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CTVC-J0355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28f"/>
                    </a:solidFill>
                  </a:tcPr>
                </a:tc>
              </a:tr>
              <a:tr h="42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or (cIdx=0; cIdx&lt;3; cIdx++) {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eb7b73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merge-Left (ae(v, cIdx));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if(!merge-Left) {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Merge-Up(ae(v));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if (!merge-Up) {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SAO-On/Off(ae(v));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if (SAO-On) {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SAO-Type (ae(v));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if (SAO-Type == BO)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sao_band_position();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for (i=0; i&lt;4; i++)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sao_offset(ae(v(i)));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} // SAO-On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} // !merge-Up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} // !merge-Left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}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5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merge-Left (ae(v));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if(!merge-Left) {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Merge-Up(ae(v));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if (!merge-Up) {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or (cIdx=0; cIdx&lt;3; cIdx++) {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SAO-On/Off(ae(v));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if (SAO-On) {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SAO-Type (ae(v));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if (SAO-Type == BO)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sao_band_position();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for (i=0; i&lt;4; i++)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                        </a:t>
                      </a: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sao_offset(ae(v(i)));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} // SAO-On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} // for(cIdx)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} // !merge-Up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1e1e1e"/>
                          </a:solidFill>
                          <a:latin typeface="Arial"/>
                        </a:rPr>
                        <a:t>} // !merge-Left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5db"/>
                    </a:solidFill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Date Placeholder 3"/>
          <p:cNvSpPr/>
          <p:nvPr/>
        </p:nvSpPr>
        <p:spPr>
          <a:xfrm>
            <a:off x="821196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7/12/2012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95" name="Footer Placeholder 4"/>
          <p:cNvSpPr/>
          <p:nvPr/>
        </p:nvSpPr>
        <p:spPr>
          <a:xfrm>
            <a:off x="79056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Arial"/>
              </a:rPr>
              <a:t>© 2010 Motorola Mobility, Inc. 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96" name="Title 1"/>
          <p:cNvSpPr/>
          <p:nvPr/>
        </p:nvSpPr>
        <p:spPr>
          <a:xfrm>
            <a:off x="457200" y="509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ding Order of SAO parameters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266920" y="1752480"/>
          <a:ext cx="4610160" cy="1524240"/>
        </p:xfrm>
        <a:graphic>
          <a:graphicData uri="http://schemas.openxmlformats.org/drawingml/2006/table">
            <a:tbl>
              <a:tblPr/>
              <a:tblGrid>
                <a:gridCol w="411120"/>
                <a:gridCol w="1125720"/>
                <a:gridCol w="411120"/>
                <a:gridCol w="1125360"/>
                <a:gridCol w="411120"/>
                <a:gridCol w="1125720"/>
              </a:tblGrid>
              <a:tr h="190800">
                <a:tc grid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O Parameters HM7.0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ge Left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ge Left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ge Left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ge Up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ge Up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ge Up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O-On/Off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O-On/Off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O-On/Off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O-Type (E0-B0)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O-Type (E0-B0)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O-Type (E0-B0)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o_bo_position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o_bo_position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o_bo_position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O-Offset X 4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O-Offset X 4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O-Offset X 4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2266920" y="3657600"/>
          <a:ext cx="4610160" cy="1523880"/>
        </p:xfrm>
        <a:graphic>
          <a:graphicData uri="http://schemas.openxmlformats.org/drawingml/2006/table">
            <a:tbl>
              <a:tblPr/>
              <a:tblGrid>
                <a:gridCol w="411120"/>
                <a:gridCol w="1125720"/>
                <a:gridCol w="411120"/>
                <a:gridCol w="1125360"/>
                <a:gridCol w="411120"/>
                <a:gridCol w="1125720"/>
              </a:tblGrid>
              <a:tr h="190440">
                <a:tc grid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O Parameters JCTVC-J0355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ge-Left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ge-Up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O-On/Off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O-On/Off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O-On/Off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O-Type (E0-B0)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O-Type (E0-B0)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O-Type (E0-B0)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o_bo_position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o_bo_position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o_bo_position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O-Offset X 4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O-Offset X 4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O-Offset X 4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3"/>
          <p:cNvSpPr/>
          <p:nvPr/>
        </p:nvSpPr>
        <p:spPr>
          <a:xfrm>
            <a:off x="821196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7/12/2012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00" name="Footer Placeholder 4"/>
          <p:cNvSpPr/>
          <p:nvPr/>
        </p:nvSpPr>
        <p:spPr>
          <a:xfrm>
            <a:off x="79056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Arial"/>
              </a:rPr>
              <a:t>© 2010 Motorola Mobility, Inc. 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01" name="Title 1"/>
          <p:cNvSpPr/>
          <p:nvPr/>
        </p:nvSpPr>
        <p:spPr>
          <a:xfrm>
            <a:off x="457200" y="509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mplexity Reductions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02" name="Content Placeholder 3"/>
          <p:cNvSpPr/>
          <p:nvPr/>
        </p:nvSpPr>
        <p:spPr>
          <a:xfrm>
            <a:off x="457200" y="1319040"/>
            <a:ext cx="82296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e1e1e"/>
                </a:solidFill>
                <a:latin typeface="Calibri"/>
              </a:rPr>
              <a:t>HM7.0 use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3 context model </a:t>
            </a:r>
            <a:r>
              <a:rPr b="0" lang="en-US" sz="2800" spc="-1" strike="noStrike">
                <a:solidFill>
                  <a:srgbClr val="1e1e1e"/>
                </a:solidFill>
                <a:latin typeface="Calibri"/>
              </a:rPr>
              <a:t>for Merge-Left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e1e1e"/>
                </a:solidFill>
                <a:latin typeface="Calibri"/>
              </a:rPr>
              <a:t>JCTVC-J0355 use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1 context model</a:t>
            </a:r>
            <a:r>
              <a:rPr b="0" lang="en-US" sz="2800" spc="-1" strike="noStrike">
                <a:solidFill>
                  <a:srgbClr val="1e1e1e"/>
                </a:solidFill>
                <a:latin typeface="Calibri"/>
              </a:rPr>
              <a:t> for Merge-Left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03" name="Content Placeholder 3"/>
          <p:cNvSpPr/>
          <p:nvPr/>
        </p:nvSpPr>
        <p:spPr>
          <a:xfrm>
            <a:off x="457200" y="2995560"/>
            <a:ext cx="8229600" cy="32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e1e1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e1e1e"/>
                </a:solidFill>
                <a:latin typeface="Calibri"/>
              </a:rPr>
              <a:t>HM7.0 code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3(per-color) x 2 (merge-Left/Up) bins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e1e1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e1e1e"/>
                </a:solidFill>
                <a:latin typeface="Calibri"/>
              </a:rPr>
              <a:t>JCTVC-J0355 cod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2 (merge-Left/Up)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e1e1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Calibri"/>
              </a:rPr>
              <a:t>Due to the high spatial-correlation of the SAO parameters, it was observed that most of the time, the merge flag is the only SAO parameter syntax which is signaled. AHG5 data affirms this observation. 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3"/>
          <p:cNvSpPr/>
          <p:nvPr/>
        </p:nvSpPr>
        <p:spPr>
          <a:xfrm>
            <a:off x="821196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7/12/2012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05" name="Footer Placeholder 4"/>
          <p:cNvSpPr/>
          <p:nvPr/>
        </p:nvSpPr>
        <p:spPr>
          <a:xfrm>
            <a:off x="79056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Arial"/>
              </a:rPr>
              <a:t>© 2010 Motorola Mobility, Inc. 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06" name="Title 1"/>
          <p:cNvSpPr/>
          <p:nvPr/>
        </p:nvSpPr>
        <p:spPr>
          <a:xfrm>
            <a:off x="457200" y="509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HG5 statistics on Context-coded bin savings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JCTVC-J0355 compared to HM7.0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2016000"/>
          <a:ext cx="4495680" cy="3078360"/>
        </p:xfrm>
        <a:graphic>
          <a:graphicData uri="http://schemas.openxmlformats.org/drawingml/2006/table">
            <a:tbl>
              <a:tblPr/>
              <a:tblGrid>
                <a:gridCol w="666720"/>
                <a:gridCol w="792360"/>
                <a:gridCol w="666720"/>
                <a:gridCol w="787320"/>
                <a:gridCol w="792000"/>
                <a:gridCol w="790560"/>
              </a:tblGrid>
              <a:tr h="182520"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Informative) Bins relative to total bins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row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 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s relative to total bins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ta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es 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ed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x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x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 Main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6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6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5.55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 Main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7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20.25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 Main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6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6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8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18.78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P Main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0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3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19.98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9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16.14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 row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 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s relative to total bins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ta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es 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ed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x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x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 HE10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0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3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12.43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 HE10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6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28.56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 HE10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6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8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31.5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P HE10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3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6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30.28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3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25.69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105520" y="1989000"/>
          <a:ext cx="3682800" cy="3105360"/>
        </p:xfrm>
        <a:graphic>
          <a:graphicData uri="http://schemas.openxmlformats.org/drawingml/2006/table">
            <a:tbl>
              <a:tblPr/>
              <a:tblGrid>
                <a:gridCol w="685800"/>
                <a:gridCol w="687240"/>
                <a:gridCol w="685800"/>
                <a:gridCol w="811080"/>
                <a:gridCol w="812880"/>
              </a:tblGrid>
              <a:tr h="200160"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Informative) Bins relative to reference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 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x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x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 Main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70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0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8.63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.33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 Main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60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98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8.75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.30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 Main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49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97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3.35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.04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P Main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34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86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7.9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.66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3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95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2.16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58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 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x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x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 HE10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4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0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1.73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93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 HE10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15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99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.15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.9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 HE10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68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1.4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.28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P HE10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7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99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4.28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30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0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9.14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Date Placeholder 3"/>
          <p:cNvSpPr/>
          <p:nvPr/>
        </p:nvSpPr>
        <p:spPr>
          <a:xfrm>
            <a:off x="821196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7/12/2012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10" name="Footer Placeholder 4"/>
          <p:cNvSpPr/>
          <p:nvPr/>
        </p:nvSpPr>
        <p:spPr>
          <a:xfrm>
            <a:off x="79056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Arial"/>
              </a:rPr>
              <a:t>© 2010 Motorola Mobility, Inc. 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11" name="Title 1"/>
          <p:cNvSpPr/>
          <p:nvPr/>
        </p:nvSpPr>
        <p:spPr>
          <a:xfrm>
            <a:off x="457200" y="509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imulation Results and BDR gains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304920" y="1330200"/>
          <a:ext cx="4114800" cy="3678480"/>
        </p:xfrm>
        <a:graphic>
          <a:graphicData uri="http://schemas.openxmlformats.org/drawingml/2006/table">
            <a:tbl>
              <a:tblPr/>
              <a:tblGrid>
                <a:gridCol w="698400"/>
                <a:gridCol w="568440"/>
                <a:gridCol w="569880"/>
                <a:gridCol w="569880"/>
                <a:gridCol w="569880"/>
                <a:gridCol w="568440"/>
                <a:gridCol w="569880"/>
              </a:tblGrid>
              <a:tr h="138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Main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10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5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Main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10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5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4648320" y="1254240"/>
          <a:ext cx="4114800" cy="3740040"/>
        </p:xfrm>
        <a:graphic>
          <a:graphicData uri="http://schemas.openxmlformats.org/drawingml/2006/table">
            <a:tbl>
              <a:tblPr/>
              <a:tblGrid>
                <a:gridCol w="698400"/>
                <a:gridCol w="568440"/>
                <a:gridCol w="569880"/>
                <a:gridCol w="569880"/>
                <a:gridCol w="569880"/>
                <a:gridCol w="568440"/>
                <a:gridCol w="569880"/>
              </a:tblGrid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Main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10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Main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HE10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9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4" name="TextBox 5"/>
          <p:cNvSpPr/>
          <p:nvPr/>
        </p:nvSpPr>
        <p:spPr>
          <a:xfrm>
            <a:off x="1219320" y="53514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1e1e"/>
                </a:solidFill>
                <a:latin typeface="Calibri"/>
              </a:rPr>
              <a:t>Note: Encoder and Decoder Times are not reliable since a random mix of machines were used to generate the results.</a:t>
            </a: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Date Placeholder 3"/>
          <p:cNvSpPr/>
          <p:nvPr/>
        </p:nvSpPr>
        <p:spPr>
          <a:xfrm>
            <a:off x="821196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7/12/2012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79056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Arial"/>
              </a:rPr>
              <a:t>© 2010 Motorola Mobility, Inc. 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17" name="Title 1"/>
          <p:cNvSpPr/>
          <p:nvPr/>
        </p:nvSpPr>
        <p:spPr>
          <a:xfrm>
            <a:off x="457200" y="509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ummary for BOG on SAO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390680" y="1405080"/>
          <a:ext cx="6095880" cy="1566720"/>
        </p:xfrm>
        <a:graphic>
          <a:graphicData uri="http://schemas.openxmlformats.org/drawingml/2006/table">
            <a:tbl>
              <a:tblPr/>
              <a:tblGrid>
                <a:gridCol w="1066680"/>
                <a:gridCol w="449280"/>
                <a:gridCol w="451080"/>
                <a:gridCol w="449280"/>
                <a:gridCol w="448920"/>
                <a:gridCol w="449280"/>
                <a:gridCol w="449280"/>
                <a:gridCol w="449280"/>
                <a:gridCol w="449280"/>
                <a:gridCol w="534960"/>
                <a:gridCol w="449280"/>
                <a:gridCol w="449280"/>
              </a:tblGrid>
              <a:tr h="1537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M 7.0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CTVC-J0355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n saving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bits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bits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+ bits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tx/bp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bits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bits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+ bits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tx/bp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bits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bits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+ bits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ge Left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tx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tx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6.7%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6.7%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6.7%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ge Up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tx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tx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6.7%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6.7%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6.7%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O-On/Off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tx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tx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O-Type (E0-B0)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tx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tx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o_bo_position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p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p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O-Offset_abs X 4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4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tx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4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tx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O-Offset_sign X 4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p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p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st case contxt bins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6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8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2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4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.3%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.9%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.0%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st case all bins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5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3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9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1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%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%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%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Content Placeholder 3"/>
          <p:cNvSpPr/>
          <p:nvPr/>
        </p:nvSpPr>
        <p:spPr>
          <a:xfrm>
            <a:off x="463680" y="3014640"/>
            <a:ext cx="82296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e1e1e"/>
                </a:solidFill>
                <a:latin typeface="Arial"/>
              </a:rPr>
              <a:t>Number of context models:</a:t>
            </a:r>
            <a:endParaRPr b="0" lang="en-US" sz="16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e1e1e"/>
                </a:solidFill>
                <a:latin typeface="Calibri"/>
              </a:rPr>
              <a:t>HM7.0  :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8 context model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1e1e1e"/>
                </a:solidFill>
                <a:latin typeface="Calibri"/>
              </a:rPr>
              <a:t>JCTVC-J0355  :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6 context model</a:t>
            </a:r>
            <a:endParaRPr b="0" lang="en-US" sz="16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20" name="TextBox 10"/>
          <p:cNvSpPr/>
          <p:nvPr/>
        </p:nvSpPr>
        <p:spPr>
          <a:xfrm>
            <a:off x="569880" y="1027080"/>
            <a:ext cx="59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1e1e"/>
                </a:solidFill>
                <a:latin typeface="Arial"/>
              </a:rPr>
              <a:t>Worst case coded-bins:</a:t>
            </a: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21" name="Content Placeholder 3"/>
          <p:cNvSpPr/>
          <p:nvPr/>
        </p:nvSpPr>
        <p:spPr>
          <a:xfrm>
            <a:off x="461880" y="3624120"/>
            <a:ext cx="82296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Software changes: 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1- removal of color dependent context model for merge left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2- encoder side modification to perform RD based on new signaling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22" name="Content Placeholder 3"/>
          <p:cNvSpPr/>
          <p:nvPr/>
        </p:nvSpPr>
        <p:spPr>
          <a:xfrm>
            <a:off x="458640" y="4486320"/>
            <a:ext cx="82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e1e1e"/>
                </a:solidFill>
                <a:latin typeface="Arial"/>
              </a:rPr>
              <a:t>Text changes: 6 syntax lines and 3 tables.</a:t>
            </a: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828800" y="4888080"/>
          <a:ext cx="5613480" cy="1171440"/>
        </p:xfrm>
        <a:graphic>
          <a:graphicData uri="http://schemas.openxmlformats.org/drawingml/2006/table">
            <a:tbl>
              <a:tblPr/>
              <a:tblGrid>
                <a:gridCol w="803160"/>
                <a:gridCol w="801720"/>
                <a:gridCol w="801720"/>
                <a:gridCol w="801720"/>
                <a:gridCol w="801720"/>
                <a:gridCol w="801720"/>
                <a:gridCol w="801720"/>
              </a:tblGrid>
              <a:tr h="19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n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10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DR-average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-Loss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-Gain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DR-average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-Loss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-Gain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%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%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0%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ways gain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0%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D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0%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0%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P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%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ways gain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0%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%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0%</a:t>
                      </a:r>
                      <a:endParaRPr b="0" lang="en-US" sz="11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3"/>
          <p:cNvSpPr/>
          <p:nvPr/>
        </p:nvSpPr>
        <p:spPr>
          <a:xfrm>
            <a:off x="821196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7/12/2012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79056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Arial"/>
              </a:rPr>
              <a:t>© 2010 Motorola Mobility, Inc. 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26" name="Title 1"/>
          <p:cNvSpPr/>
          <p:nvPr/>
        </p:nvSpPr>
        <p:spPr>
          <a:xfrm>
            <a:off x="457200" y="509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JCTVC-J0355:  Summary and highlights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27" name="Content Placeholder 3"/>
          <p:cNvSpPr/>
          <p:nvPr/>
        </p:nvSpPr>
        <p:spPr>
          <a:xfrm>
            <a:off x="457200" y="1319040"/>
            <a:ext cx="822960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e1e1e"/>
                </a:solidFill>
                <a:latin typeface="Calibri"/>
              </a:rPr>
              <a:t>context model reduction for Merge-Left (from 3 to 1)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e1e1e"/>
                </a:solidFill>
                <a:latin typeface="Calibri"/>
              </a:rPr>
              <a:t>reduction in bins for Merge-Left/Up (from 3 to 1)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e1e1e"/>
                </a:solidFill>
                <a:latin typeface="Calibri"/>
              </a:rPr>
              <a:t>reduction in context-entropy-coded bins for all SAO syntaxes (by 48% to 61%)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e1e1e"/>
                </a:solidFill>
                <a:latin typeface="Calibri"/>
              </a:rPr>
              <a:t>coding efficiency improvement (about 0.2%)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e1e1e"/>
                </a:solidFill>
                <a:latin typeface="Calibri"/>
              </a:rPr>
              <a:t>proposed last meeting (JCTVC-I0507)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e1e1e"/>
                </a:solidFill>
                <a:latin typeface="Calibri"/>
              </a:rPr>
              <a:t>small changes to current text and software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lvl="3" marL="1595520" indent="-223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1e1e1e"/>
                </a:solidFill>
                <a:latin typeface="Calibri"/>
                <a:ea typeface="ＭＳ Ｐゴシック"/>
              </a:rPr>
              <a:t>  </a:t>
            </a:r>
            <a:r>
              <a:rPr b="0" lang="en-US" sz="2800" spc="-1" strike="noStrike">
                <a:solidFill>
                  <a:srgbClr val="1e1e1e"/>
                </a:solidFill>
                <a:latin typeface="Calibri"/>
                <a:ea typeface="ＭＳ Ｐゴシック"/>
              </a:rPr>
              <a:t>recommend for adoption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22:14:02Z</dcterms:created>
  <dc:creator>Amanda Cohen</dc:creator>
  <dc:description/>
  <dc:language>en-US</dc:language>
  <cp:lastModifiedBy>K.  Minoo</cp:lastModifiedBy>
  <dcterms:modified xsi:type="dcterms:W3CDTF">2012-07-12T05:19:10Z</dcterms:modified>
  <cp:revision>744</cp:revision>
  <dc:subject/>
  <dc:title>BUSINESS UNIT NAME</dc:title>
</cp:coreProperties>
</file>