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EDF7-A110-42C3-A8B8-FA4DE9E72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4DF8-CF8D-4478-AFC8-8770AE370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44E7-A3B9-4EE3-B3F0-385379680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02FE-B3C1-4C9A-A6F6-F49C23FD9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DF42-5AED-4959-A556-E4CD6CFE5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550E-B074-4F1C-AE3E-A44A00675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18D1-9E86-458C-A5AC-2F6301B6F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4737-1E67-4C3A-8DC1-AB2EAE5BF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F61F-76D8-4254-97F4-A96C53892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03C4-270C-486F-8FB1-9DF3BCCCA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9F00-822C-46A9-8D5C-8C8A63049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A1FE-A26F-4D61-866C-133DB856C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42EE-563C-4A47-AE6A-A3051DE7979B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772400" y="25560"/>
            <a:ext cx="1268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VLSI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华文行楷"/>
              <a:ea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32000" y="944640"/>
            <a:ext cx="655308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-D cost based effectiveness analysis</a:t>
            </a:r>
            <a:r>
              <a:rPr b="1" lang="zh-CN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of</a:t>
            </a:r>
            <a:r>
              <a:rPr b="1" lang="en-CA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zh-CN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MC coding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808080"/>
            <a:ext cx="7921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J035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1 July – 20 July 201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124E-9A1C-48A5-86D3-62238A35BE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2920" y="692280"/>
            <a:ext cx="885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C coding architectu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2280" y="1449360"/>
            <a:ext cx="2800080" cy="1892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Decoder 1: discontinuous-tone content oriented luma and full-chroma dictionary-entropy de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400" y="1449360"/>
            <a:ext cx="2799000" cy="1892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Coder 1: discontinuous-tone content oriented luma and full-chroma dictionary-entropy en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2280" y="3656160"/>
            <a:ext cx="2800080" cy="1892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Decoder 2: continuous-tone content oriented luma &amp; mixed chroma-sampling rate hybrid de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1400" y="3656160"/>
            <a:ext cx="2799000" cy="1892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Coder 2: continuous-tone content oriented luma &amp; mixed chroma-sampling rate hybrid en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160" y="4599000"/>
            <a:ext cx="370080" cy="81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P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8520" y="4603680"/>
            <a:ext cx="1849320" cy="78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rans/Qu/Entropy encode &amp; Pixel reconstruc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2920" y="3813120"/>
            <a:ext cx="4222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put C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29160" y="2395440"/>
            <a:ext cx="210960" cy="2836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R-D Cost Based Selecto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00240" y="4997520"/>
            <a:ext cx="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5200" y="499752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17840" y="4997520"/>
            <a:ext cx="21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5200" y="2788920"/>
            <a:ext cx="0" cy="22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5120" y="3813120"/>
            <a:ext cx="3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0120" y="3813120"/>
            <a:ext cx="21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40120" y="3813120"/>
            <a:ext cx="7318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MC Bitstream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31120" y="3262320"/>
            <a:ext cx="633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Constru-cted C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8400" y="2395440"/>
            <a:ext cx="211320" cy="2836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MB Coding Type Pars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19720" y="499752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331120" y="2788920"/>
            <a:ext cx="0" cy="22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31120" y="381312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321000"/>
            <a:ext cx="75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MC Bitstream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38680" y="381312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52440" y="4603680"/>
            <a:ext cx="263520" cy="78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V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9520" y="5013360"/>
            <a:ext cx="0" cy="31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4603680"/>
            <a:ext cx="370080" cy="80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P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45320" y="4606920"/>
            <a:ext cx="369720" cy="789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nv.Tr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83240" y="4606920"/>
            <a:ext cx="581040" cy="789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opy Decod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3040" y="4606920"/>
            <a:ext cx="264960" cy="789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DeQ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66160" y="499752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64280" y="5002200"/>
            <a:ext cx="15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273800" y="4606920"/>
            <a:ext cx="265320" cy="789120"/>
            <a:chOff x="7273800" y="4606920"/>
            <a:chExt cx="265320" cy="789120"/>
          </a:xfrm>
        </p:grpSpPr>
        <p:sp>
          <p:nvSpPr>
            <p:cNvPr id="169" name=""/>
            <p:cNvSpPr/>
            <p:nvPr/>
          </p:nvSpPr>
          <p:spPr>
            <a:xfrm>
              <a:off x="7273800" y="4606920"/>
              <a:ext cx="265320" cy="789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V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402320" y="501264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463760" y="6100920"/>
            <a:ext cx="1000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(a) Encod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59520" y="6100920"/>
            <a:ext cx="1000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(b) Decod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395440"/>
            <a:ext cx="1003320" cy="789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opy encod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097000" y="2789280"/>
            <a:ext cx="26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82720" y="2395440"/>
            <a:ext cx="1214280" cy="789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tring search &amp; match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200" y="278928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365640" y="2787120"/>
            <a:ext cx="263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7240" y="2395440"/>
            <a:ext cx="896760" cy="789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opy decod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19720" y="278928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6160" y="278928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45320" y="2395440"/>
            <a:ext cx="1320840" cy="789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tring construc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34000" y="2789280"/>
            <a:ext cx="21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5960" y="499752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22520" y="5627520"/>
            <a:ext cx="16365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hroma-subsampl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410840" y="5391000"/>
            <a:ext cx="17964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002200"/>
            <a:ext cx="15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15040" y="5002200"/>
            <a:ext cx="15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39120" y="5002200"/>
            <a:ext cx="15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48200" y="5627520"/>
            <a:ext cx="15685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hroma-upsampl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21600" y="5391000"/>
            <a:ext cx="179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42920" y="5229360"/>
            <a:ext cx="397080" cy="792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5950080"/>
            <a:ext cx="2628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ybri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J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i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sed selec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9800-E21B-4FA6-BEE2-58D4A78820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2920" y="692280"/>
            <a:ext cx="8856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ybri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J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ic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 visualizes the coder selection distribu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0840" y="1285920"/>
          <a:ext cx="4425840" cy="28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1285920"/>
                    <a:ext cx="442584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614840" y="1285920"/>
            <a:ext cx="4462560" cy="284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16000" y="4257720"/>
            <a:ext cx="87487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types of screen contents are consistently mapped to two col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% squares have the brighest color 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coder performs at least 400% better than the other cod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C944-A2CB-44C2-98A4-29430B340D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2920" y="692280"/>
            <a:ext cx="88567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 a total of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,6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ybri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J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i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11 test screen pictures, 62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6 CUs and 6 qps (20, 24, 28, 32, 36, 40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is the histogram ta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6520" y="3394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160" y="2365200"/>
          <a:ext cx="9001080" cy="1901880"/>
        </p:xfrm>
        <a:graphic>
          <a:graphicData uri="http://schemas.openxmlformats.org/drawingml/2006/table">
            <a:tbl>
              <a:tblPr/>
              <a:tblGrid>
                <a:gridCol w="1152360"/>
                <a:gridCol w="863640"/>
                <a:gridCol w="900000"/>
                <a:gridCol w="936720"/>
                <a:gridCol w="755640"/>
                <a:gridCol w="1079640"/>
                <a:gridCol w="865080"/>
                <a:gridCol w="827280"/>
                <a:gridCol w="757080"/>
                <a:gridCol w="863640"/>
              </a:tblGrid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brid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J</a:t>
                      </a:r>
                      <a:r>
                        <a:rPr b="1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ct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: hybrid coder selecte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bri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J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c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1 dictionary-entropy coder selecte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brid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J</a:t>
                      </a:r>
                      <a:r>
                        <a:rPr b="1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ct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 1/4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/4, 1/3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/3, 1/2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/2, 1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, 1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 2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2, 3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3, 4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4,∞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ntag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6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3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9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142920" y="4797360"/>
            <a:ext cx="9001080" cy="15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o 40% CUs are coded by dictionary-entropy coder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ore than 70% CUs, one coder is at least 4 times better the other cod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CE04-A632-4A61-A0C8-AA7605ABA7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24000" y="69228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920" y="1341360"/>
            <a:ext cx="8605800" cy="36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MC coding, the two coders are really quite complementar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 very different roles to compress effectively different cont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ying two coders into a single coding framework improves SCC performance in a big and significant w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AB16-7EC8-48CA-9C35-934DB828CB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FCD4-C80F-4C51-AD1B-1C9D6AFD4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m</cp:lastModifiedBy>
  <dcterms:modified xsi:type="dcterms:W3CDTF">2012-07-10T14:02:21Z</dcterms:modified>
  <cp:revision>1313</cp:revision>
  <dc:subject/>
  <dc:title>学习及工作简历</dc:title>
</cp:coreProperties>
</file>