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BC8A-EB2D-4015-A10F-2C55515C4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D924-BBA3-40EA-B524-AA1013DE9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8879-51E0-44BF-B0FD-7E76103C9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1BA0-DEA7-4DEB-A49C-F67261E82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794B-CB29-4466-B03F-2C73AB0E0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12FC-CE1C-444F-BA55-900712D0F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26F1-A234-4027-8FDA-17DC64BDB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C324-7B61-44F9-90D5-16FD67E8D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0D81-0ADD-431B-BB69-118F7ED1D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861-18A1-4A9E-9D09-8A4AD0636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674A-2B7F-4FF8-8335-0215CC465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E5C0-8C31-45F0-ADDC-16ACE97A1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8B2-2433-4500-9989-0EACE7808F96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944640"/>
            <a:ext cx="78850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D-rate performance vs. dictionary size and hash-table memory size</a:t>
            </a: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</a:t>
            </a: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MC coding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J035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1 July – 20 July 201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3B9F-EAEC-47BD-A762-371B7F6C06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84280"/>
            <a:ext cx="8856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MC encoder, a hash-table based string search engine is used to find the best matching string in dic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ash-table is used to quickly find the first 3 matching samples by table-look-up and linked-list sear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ctionary (previously constructed pixels) search to find the longest matching st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5462640"/>
            <a:ext cx="635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Samp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5960" y="4956120"/>
            <a:ext cx="741240" cy="10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 Sample Buff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680" y="546264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96920" y="5398920"/>
            <a:ext cx="104760" cy="12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27200" y="54626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3200" y="4956120"/>
            <a:ext cx="739800" cy="10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7200" y="5526000"/>
            <a:ext cx="79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e Samp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4-bit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13000" y="54626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13000" y="5462640"/>
            <a:ext cx="63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 Valu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8-16 bit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040" y="4699080"/>
            <a:ext cx="847800" cy="15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 Table: Linked Lists of Distanc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4446720"/>
            <a:ext cx="285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050920" y="4446360"/>
            <a:ext cx="0" cy="9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95840" y="5462640"/>
            <a:ext cx="9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6600" y="469872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08240" y="3429000"/>
            <a:ext cx="232884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ctionary (= part of Constructed Pixel Buff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06800" y="3429000"/>
            <a:ext cx="1479600" cy="12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 Engi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Find Best Matching Str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7080" y="3809880"/>
            <a:ext cx="12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6400" y="4064040"/>
            <a:ext cx="126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46600" y="5398920"/>
            <a:ext cx="2328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ance to Position of First Three Matching Samp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4005360"/>
            <a:ext cx="2487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: unmatchable sample residual if no good match or distance/length of the best matching str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4A44-CFD1-42C2-84EB-BA2C8A45F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549360"/>
            <a:ext cx="8533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 reuses part of DPB of hybrid cod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o additional memory space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-table needs additional memory spa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 experiment with 7 configur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31640" y="2600280"/>
          <a:ext cx="8425080" cy="4130640"/>
        </p:xfrm>
        <a:graphic>
          <a:graphicData uri="http://schemas.openxmlformats.org/drawingml/2006/table">
            <a:tbl>
              <a:tblPr/>
              <a:tblGrid>
                <a:gridCol w="1944720"/>
                <a:gridCol w="2590920"/>
                <a:gridCol w="2360520"/>
                <a:gridCol w="1528920"/>
              </a:tblGrid>
              <a:tr h="133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ictionary/hash-table level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ictionary size (KB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hare memory with hybrid cod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Hash-table size (KB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dditional memory require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Hash value bit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5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9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64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30A1-C8FF-4416-94B2-4342CB220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620640"/>
            <a:ext cx="8532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11 screen capture pictures are u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scribed/submitted in H0073 and H029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D-rate calculation, HEVC YUV 420 hybrid coder (HM4.0) is used as the refer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58920" y="2708280"/>
          <a:ext cx="8534160" cy="39528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ictionary/hash-table level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D-rate (cubic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40.4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2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8.6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43.3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2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8.9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45.4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3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8.9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48.3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6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9.2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52.6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9.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54.9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9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9.7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55.5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90.9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-89.7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2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5AEF-E45E-421B-9CAD-073404E3B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24000" y="692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521000"/>
            <a:ext cx="8245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2401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MC has an average 40% to 55% Y BD-rate and even bigger UV BD-rate reduction comparing to HEVC 420 hybrid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E567-EB57-4DCE-9B67-93C0E9984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FF73-BF13-45ED-B0A3-FB86D6394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m</cp:lastModifiedBy>
  <dcterms:modified xsi:type="dcterms:W3CDTF">2012-07-10T16:29:28Z</dcterms:modified>
  <cp:revision>1301</cp:revision>
  <dc:subject/>
  <dc:title>学习及工作简历</dc:title>
</cp:coreProperties>
</file>