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103560" cy="474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3"/>
          </p:nvPr>
        </p:nvSpPr>
        <p:spPr>
          <a:xfrm>
            <a:off x="4059360" y="-360"/>
            <a:ext cx="3024000" cy="474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12320" y="790560"/>
            <a:ext cx="5056200" cy="379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47520" bIns="475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5440" y="4897440"/>
            <a:ext cx="5172120" cy="458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-360" y="9713520"/>
            <a:ext cx="3103560" cy="554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059360" y="9713520"/>
            <a:ext cx="3024000" cy="554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새굴림"/>
                <a:ea typeface="새굴림"/>
              </a:defRPr>
            </a:lvl1pPr>
          </a:lstStyle>
          <a:p>
            <a:pPr indent="0" algn="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E75C5-72AB-4C36-8964-E9F54B50C22F}" type="slidenum">
              <a:rPr b="0" lang="en-US" sz="1200" spc="-1" strike="noStrike">
                <a:solidFill>
                  <a:srgbClr val="000000"/>
                </a:solidFill>
                <a:latin typeface="새굴림"/>
                <a:ea typeface="새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4059360" y="9713880"/>
            <a:ext cx="30240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50C29-BF72-46F5-909C-8764A681C60C}" type="slidenum">
              <a:rPr b="1" lang="en-US" sz="1200" spc="-1" strike="noStrike">
                <a:solidFill>
                  <a:srgbClr val="000000"/>
                </a:solidFill>
                <a:latin typeface="새굴림"/>
                <a:ea typeface="새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014480" y="790560"/>
            <a:ext cx="5056200" cy="37908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55440" y="4897440"/>
            <a:ext cx="5172120" cy="45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8978E-82DB-4048-8DAF-5A1D7BAB4F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71440" y="365508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7411F-AD24-4358-BF44-E6B991FE33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92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DD567-06BE-4757-A695-3020FE63B8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7988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796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7144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7988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796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20B93-AAF9-4F74-9718-DDD9B35DF8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520" y="7596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7D107-3DF7-4CB6-8291-1BE6C6781D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92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1440" y="365508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92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988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796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144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988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796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1614D-27D4-41CE-B280-2303C0C80F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E79F2-78EB-42D3-9B7A-5CC9890809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97F53-B74D-4466-81BB-91B016C23E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33520" y="7596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E206E-EF8B-4AA7-A2BD-1C1AB77760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0F52D-A6E4-4238-872B-BC2809B2C3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92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61A7C-8A86-468B-B386-68B226B068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9DD96-B628-4DCF-8534-23F9D49FC5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6600"/>
              </a:buClr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Line 5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4038120" y="6524280"/>
            <a:ext cx="838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E29C0-D0FF-443E-8418-1612F7CCDBB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22"/>
          <p:cNvSpPr/>
          <p:nvPr/>
        </p:nvSpPr>
        <p:spPr>
          <a:xfrm>
            <a:off x="28440" y="6491160"/>
            <a:ext cx="298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msung Electronic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6600"/>
              </a:buClr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250920" y="1052640"/>
            <a:ext cx="864216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d2db9"/>
                </a:solidFill>
                <a:latin typeface="Tahoma"/>
                <a:ea typeface="HY헤드라인M"/>
              </a:rPr>
              <a:t>Context reduction for MVD coding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d2db9"/>
                </a:solidFill>
                <a:latin typeface="Tahoma"/>
                <a:ea typeface="HY헤드라인M"/>
              </a:rPr>
              <a:t>(JCTVC-J0315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2"/>
          <p:cNvSpPr/>
          <p:nvPr/>
        </p:nvSpPr>
        <p:spPr>
          <a:xfrm>
            <a:off x="252360" y="2781360"/>
            <a:ext cx="8639280" cy="0"/>
          </a:xfrm>
          <a:prstGeom prst="line">
            <a:avLst/>
          </a:prstGeom>
          <a:ln w="57240">
            <a:solidFill>
              <a:srgbClr val="2d2d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42800" y="3379320"/>
            <a:ext cx="8305920" cy="30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hanyul Kim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ammy Lee, Elena Alshi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amsung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Background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The two flags,  </a:t>
            </a:r>
            <a:r>
              <a:rPr b="1" lang="en-CA" sz="2400" spc="-1" strike="noStrike">
                <a:solidFill>
                  <a:srgbClr val="000000"/>
                </a:solidFill>
                <a:latin typeface="Tahoma"/>
              </a:rPr>
              <a:t>abs_mvd_greater0_flag</a:t>
            </a: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1" lang="en-CA" sz="2400" spc="-1" strike="noStrike">
                <a:solidFill>
                  <a:srgbClr val="000000"/>
                </a:solidFill>
                <a:latin typeface="Tahoma"/>
              </a:rPr>
              <a:t>abs_mvd_greater1_flag</a:t>
            </a: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, are used for context for MVD in the current 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The distribution between ‘0’ and ‘1’ is similar, so, the use of context is not much benefit for separating ‘0’ and ‘1’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ahoma"/>
              </a:rPr>
              <a:t>abs_mvd_greater1_flag </a:t>
            </a: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is coded as context and </a:t>
            </a:r>
            <a:r>
              <a:rPr b="1" lang="en-CA" sz="2400" spc="-1" strike="noStrike">
                <a:solidFill>
                  <a:srgbClr val="000000"/>
                </a:solidFill>
                <a:latin typeface="Tahoma"/>
              </a:rPr>
              <a:t>abs_mvd_greater0_flag </a:t>
            </a: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is coded with bypass mode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The proposed method reduces contexts from 2 to 1. No loss and complexity is observ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슬라이드 번호 개체 틀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697B2-A7DA-410F-8660-42C1D3B763E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Proposed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슬라이드 번호 개체 틀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C8792-6C8B-4304-AC00-3E82F4CC379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Object 5"/>
          <p:cNvGraphicFramePr/>
          <p:nvPr/>
        </p:nvGraphicFramePr>
        <p:xfrm>
          <a:off x="395280" y="1125360"/>
          <a:ext cx="8280360" cy="242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25360"/>
                    <a:ext cx="8280360" cy="24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Object 7"/>
          <p:cNvGraphicFramePr/>
          <p:nvPr/>
        </p:nvGraphicFramePr>
        <p:xfrm>
          <a:off x="1116000" y="3933720"/>
          <a:ext cx="5759640" cy="215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6000" y="3933720"/>
                    <a:ext cx="5759640" cy="21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Down Arrow 9"/>
          <p:cNvSpPr/>
          <p:nvPr/>
        </p:nvSpPr>
        <p:spPr>
          <a:xfrm>
            <a:off x="3780000" y="3284640"/>
            <a:ext cx="936360" cy="360360"/>
          </a:xfrm>
          <a:prstGeom prst="downArrow">
            <a:avLst>
              <a:gd name="adj1" fmla="val 50000"/>
              <a:gd name="adj2" fmla="val 50000"/>
            </a:avLst>
          </a:prstGeom>
          <a:noFill/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Results(1)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슬라이드 번호 개체 틀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7DC9C-DD5F-4790-903D-F8890C57C61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755640" y="1125360"/>
          <a:ext cx="7704000" cy="5334120"/>
        </p:xfrm>
        <a:graphic>
          <a:graphicData uri="http://schemas.openxmlformats.org/drawingml/2006/table">
            <a:tbl>
              <a:tblPr/>
              <a:tblGrid>
                <a:gridCol w="1320840"/>
                <a:gridCol w="1069920"/>
                <a:gridCol w="1052640"/>
                <a:gridCol w="1069920"/>
                <a:gridCol w="1069920"/>
                <a:gridCol w="1050840"/>
                <a:gridCol w="1069920"/>
              </a:tblGrid>
              <a:tr h="2134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ndom Access Mai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ndom Access HE1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05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5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09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4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4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3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6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4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3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3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3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6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6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5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6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5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01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02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01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03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3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eral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01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3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02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4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F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5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6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0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3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5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2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c Time[%]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9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Time[%]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9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B Mai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B HE1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2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4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6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1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7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9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02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3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3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05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08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4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02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8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06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05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04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7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2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0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07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0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42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6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eral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02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8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3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0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09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6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F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3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04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0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9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04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6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c Time[%]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9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Time[%]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9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2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Results(2) : AHG5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슬라이드 번호 개체 틀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EB24E-D549-405B-A01B-77DF049F110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258920" y="1628640"/>
          <a:ext cx="6310440" cy="4145040"/>
        </p:xfrm>
        <a:graphic>
          <a:graphicData uri="http://schemas.openxmlformats.org/drawingml/2006/table">
            <a:tbl>
              <a:tblPr/>
              <a:tblGrid>
                <a:gridCol w="1501920"/>
                <a:gridCol w="1744560"/>
                <a:gridCol w="1744560"/>
                <a:gridCol w="190440"/>
                <a:gridCol w="192240"/>
                <a:gridCol w="936720"/>
              </a:tblGrid>
              <a:tr h="243720">
                <a:tc rowSpan="3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　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Bins relative to total bi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Total bins reduction r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Tes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　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ctx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bp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　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　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720"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AI Mai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　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　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　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　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　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RA Mai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98.57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103.39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　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　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10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LB Mai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98.51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05.44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　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　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09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LP Mai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　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　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　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　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　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A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98.54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04.42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　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　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09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 rowSpan="3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　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Bins relative to total bi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Total bins reduction r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Tes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　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ctx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bp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　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　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72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AI HE1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　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　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　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　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　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RA HE1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98.56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03.40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　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　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11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LB HE1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98.50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05.40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　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　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07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LP HE1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　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　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　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　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　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A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98.53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04.40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　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　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0.09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Conclusion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One context is removed for MVD cod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From the statistical analysis, it is desirable to code between ‘0’ and ‘1’ with bypass mod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loss is observed. Moreover -0.12% gain for main LDB E class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exts are reduced from 2 to 1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슬라이드 번호 개체 틀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43032-8C5A-4541-B6BC-B264627C0FF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3T07:35:44Z</dcterms:created>
  <dc:creator>윤승욱</dc:creator>
  <dc:description/>
  <dc:language>en-US</dc:language>
  <cp:lastModifiedBy>seunghyun</cp:lastModifiedBy>
  <dcterms:modified xsi:type="dcterms:W3CDTF">2012-07-10T13:31:37Z</dcterms:modified>
  <cp:revision>4706</cp:revision>
  <dc:subject/>
  <dc:title>Visual SNHC Tools</dc:title>
</cp:coreProperties>
</file>