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E373-C399-428C-961F-E955C86082E9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58DA-A863-404F-91ED-B69C673F561B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6759-AD1A-4AC8-AF3C-98BEAF48E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ED27-0DEF-497C-9488-69D10F665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A346-1817-4973-99E1-EB5A48692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A88C-C0CF-48D4-851A-7D60C9899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1B6F-3A81-4853-B985-411804A1E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0A5C-1B80-4F0E-984A-345A6D618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E94B-DA23-43EF-B2AA-E4621397E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BCBD-BF6D-47E2-9624-73610AC81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6DFA-DEB2-4A4E-B6C2-FEF2A143D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1632-528C-4DC2-AB57-FE8B4C05F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57C0-8C31-48F1-9ABE-30F4E537F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56B4-81A1-4992-BD3A-41A028DBE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E30-2F0F-4A32-965F-B17E7637E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052640"/>
            <a:ext cx="864216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Redundancy removal on InterDir Synta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J031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79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yul Kim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my Lee, Elena Als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 the previous meeting, the restriction of bi-prediction by 4x8/8x4 PU was adopted in order to reduce memory bandwidth (I0297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encoder still signals the bi-prediction of 4x8/8x4 PU, the decoder ignores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moval of syntax for bi-prediction of small PU is recommended in terms of fixing redundancy (It is a sort of bug-fix for adopting of I0297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t gives -0.1% gain for LB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(It is noted tha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0267 reported 0.4% loss for LDB compared to HM6.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7F5-ADB6-4EB6-B370-D4E3B71556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W chang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1A28-1A53-4A92-914C-066AE8CF4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6040" y="2932200"/>
            <a:ext cx="8751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80"/>
                </a:solidFill>
                <a:uFillTx/>
                <a:latin typeface="Lucida Console"/>
              </a:rPr>
              <a:t>if(!</a:t>
            </a:r>
            <a:r>
              <a:rPr b="1" lang="en-US" sz="1600" spc="-1" strike="noStrike" u="sng">
                <a:solidFill>
                  <a:srgbClr val="010001"/>
                </a:solidFill>
                <a:uFillTx/>
                <a:latin typeface="Lucida Console"/>
              </a:rPr>
              <a:t>pcCU</a:t>
            </a:r>
            <a:r>
              <a:rPr b="1" lang="en-US" sz="1600" spc="-1" strike="noStrike" u="sng">
                <a:solidFill>
                  <a:srgbClr val="008080"/>
                </a:solidFill>
                <a:uFillTx/>
                <a:latin typeface="Lucida Console"/>
              </a:rPr>
              <a:t>-&gt;</a:t>
            </a:r>
            <a:r>
              <a:rPr b="1" lang="en-US" sz="1600" spc="-1" strike="noStrike" u="sng">
                <a:solidFill>
                  <a:srgbClr val="010001"/>
                </a:solidFill>
                <a:uFillTx/>
                <a:latin typeface="Lucida Console"/>
              </a:rPr>
              <a:t>isBipredRestriction</a:t>
            </a:r>
            <a:r>
              <a:rPr b="1" lang="en-US" sz="1600" spc="-1" strike="noStrike" u="sng">
                <a:solidFill>
                  <a:srgbClr val="008080"/>
                </a:solidFill>
                <a:uFillTx/>
                <a:latin typeface="Lucida Console"/>
              </a:rPr>
              <a:t>(</a:t>
            </a:r>
            <a:r>
              <a:rPr b="1" lang="en-US" sz="1600" spc="-1" strike="noStrike" u="sng">
                <a:solidFill>
                  <a:srgbClr val="010001"/>
                </a:solidFill>
                <a:uFillTx/>
                <a:latin typeface="Lucida Console"/>
              </a:rPr>
              <a:t>uiAbsPartIdx</a:t>
            </a:r>
            <a:r>
              <a:rPr b="1" lang="en-US" sz="1600" spc="-1" strike="noStrike" u="sng">
                <a:solidFill>
                  <a:srgbClr val="008080"/>
                </a:solidFill>
                <a:uFillTx/>
                <a:latin typeface="Lucida Console"/>
              </a:rPr>
              <a:t>)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80"/>
                </a:solidFill>
                <a:uFillTx/>
                <a:latin typeface="Lucida Console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m_pcBinIf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-&gt;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encodeBin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uiInterDir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== 2 ? 1 : 0, *(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pCtx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uiCtx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79280" y="1341360"/>
            <a:ext cx="88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m_pcBinIf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-&gt;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encodeBin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uiInterDir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== 2 ? 1 : 0, *(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pCtx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</a:t>
            </a:r>
            <a:r>
              <a:rPr b="1" lang="en-US" sz="1600" spc="-1" strike="noStrike">
                <a:solidFill>
                  <a:srgbClr val="010001"/>
                </a:solidFill>
                <a:latin typeface="Lucida Console"/>
                <a:ea typeface="Times New Roman"/>
              </a:rPr>
              <a:t>uiCtx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wn Arrow 8"/>
          <p:cNvSpPr/>
          <p:nvPr/>
        </p:nvSpPr>
        <p:spPr>
          <a:xfrm>
            <a:off x="3635280" y="2060640"/>
            <a:ext cx="1008000" cy="64764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7416720" cy="4824360"/>
        </p:xfrm>
        <a:graphic>
          <a:graphicData uri="http://schemas.openxmlformats.org/drawingml/2006/table">
            <a:tbl>
              <a:tblPr/>
              <a:tblGrid>
                <a:gridCol w="1271520"/>
                <a:gridCol w="1031760"/>
                <a:gridCol w="1009800"/>
                <a:gridCol w="1031760"/>
                <a:gridCol w="1031760"/>
                <a:gridCol w="1009800"/>
                <a:gridCol w="1030320"/>
              </a:tblGrid>
              <a:tr h="20340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ndom Access M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ndom Access HE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a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c Time[%]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 Time[%]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w delay B M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w delay B HE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a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 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7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c Time[%]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>
                  <a:txBody>
                    <a:bodyPr lIns="47880" rIns="47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 Time[%]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9BB-9ED3-44FA-8A94-8192F54587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moval of syntax for bi-prediction of small P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t gives -0.1% gain for LB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t is a sort of bug-fix for previous adopting of I02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020-C45D-4ED7-A012-73E240FB8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unghyun</cp:lastModifiedBy>
  <dcterms:modified xsi:type="dcterms:W3CDTF">2012-07-10T11:01:19Z</dcterms:modified>
  <cp:revision>4708</cp:revision>
  <dc:subject/>
  <dc:title>Visual SNHC Tools</dc:title>
</cp:coreProperties>
</file>