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GIA0269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<Relationship Id="rId22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2-04-23T10:43:01.780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1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1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1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3311-2FAB-4170-B3A4-186141103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D4B9-E858-43DC-9229-D4C9C1984159}" type="slidenum">
              <a:rPr b="0" lang="en-US" sz="1200" spc="-1" strike="noStrike">
                <a:solidFill>
                  <a:srgbClr val="1e1e1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1e1e1e"/>
                </a:solidFill>
                <a:latin typeface="Arial"/>
              </a:rPr>
              <a:t>Slice Header Syntax Cleanup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4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5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7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171A-C6CD-4DDB-95D6-FFDE047E44EB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9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0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3E54-10CC-4B07-A3CF-9761E2F2A27D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2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127080" y="4102200"/>
            <a:ext cx="8888400" cy="2562120"/>
          </a:xfrm>
          <a:prstGeom prst="rect">
            <a:avLst/>
          </a:prstGeom>
          <a:solidFill>
            <a:srgbClr val="b51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8244000" y="4403880"/>
            <a:ext cx="518760" cy="521640"/>
            <a:chOff x="8244000" y="4403880"/>
            <a:chExt cx="518760" cy="521640"/>
          </a:xfrm>
        </p:grpSpPr>
        <p:sp>
          <p:nvSpPr>
            <p:cNvPr id="52" name="Oval 13"/>
            <p:cNvSpPr/>
            <p:nvPr/>
          </p:nvSpPr>
          <p:spPr>
            <a:xfrm>
              <a:off x="8268840" y="4434480"/>
              <a:ext cx="479520" cy="46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8244000" y="4403880"/>
              <a:ext cx="518760" cy="5216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54" name="Rectangle 20"/>
          <p:cNvSpPr/>
          <p:nvPr/>
        </p:nvSpPr>
        <p:spPr>
          <a:xfrm>
            <a:off x="378000" y="6323040"/>
            <a:ext cx="537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OTOROLA and the Stylized M Logo are trademarks or registered trademarks of Motorola Trademark Holdings, LLC. All other trademarks are the property of their respective owners.  © 2011 Motorola Mobility, Inc.  All rights reserved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1e1e1e"/>
                </a:solidFill>
                <a:latin typeface="Arial"/>
              </a:rPr>
              <a:t>Slice Header Syntax Cleanup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9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9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9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CA22-9F93-445A-B548-FDFD9B19E184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0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0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3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2C96-7A8B-4E7E-96B3-95E44DC62466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4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1e1e1e"/>
                </a:solidFill>
                <a:latin typeface="Arial"/>
              </a:rPr>
              <a:t>Slice Header Syntax Cleanup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14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4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88C4-F546-4AD8-BFC5-8A12EAF3D423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5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5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40FA-C92F-4AA1-9907-8297A51CE65E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6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1e1e1e"/>
                </a:solidFill>
                <a:latin typeface="Arial"/>
              </a:rPr>
              <a:t>Slice Header Syntax Cleanup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19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9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CCFB-97A5-4977-AB37-720FDF79EABD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0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20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0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7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2DAD-832D-48DB-AEB5-5A537166C9AB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8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1e1e1e"/>
                </a:solidFill>
                <a:latin typeface="Arial"/>
              </a:rPr>
              <a:t>Slice Header Syntax Cleanup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4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24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4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27D1-FDE3-4CDE-8CA7-198580CB8EE4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5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25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5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9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A87C-A0A2-49F0-9E7A-198161EE10D0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0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1e1e1e"/>
                </a:solidFill>
                <a:latin typeface="Arial"/>
              </a:rPr>
              <a:t>Slice Header Syntax Cleanup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9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29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9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9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1F3A-81B0-4B4A-9BEB-EEDB08DA72EB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30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30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1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016D-F12F-44A4-A2FA-1BD88AD5426C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2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1e1e1e"/>
                </a:solidFill>
                <a:latin typeface="Arial"/>
              </a:rPr>
              <a:t>Slice Header Syntax Cleanup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34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34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4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34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F080-CC8E-459F-BF7D-B56FC2F28CED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35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35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5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3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BC84-E65E-44D3-BB1E-C3B74EF3FD6A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14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1e1e1e"/>
                </a:solidFill>
                <a:latin typeface="Arial"/>
              </a:rPr>
              <a:t>Slice Header Syntax Cleanup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39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39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39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39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3235-9C02-432E-B96E-D6FA8F89FF2F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9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40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40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40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5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B03C-EC2E-4E5E-8B8D-B46B7B8F15C2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6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520" y="1015920"/>
            <a:ext cx="85806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b5121b"/>
                </a:solidFill>
                <a:latin typeface="Arial"/>
              </a:rPr>
              <a:t>Slice Header Syntax Cleanup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b5121b"/>
                </a:solidFill>
                <a:latin typeface="Arial"/>
              </a:rPr>
              <a:t>CTVC-J0300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289080" y="4300560"/>
            <a:ext cx="78292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ue Yu, Jian Lou and Limin Wang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orola Mobility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63600" y="1768320"/>
            <a:ext cx="8386560" cy="39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In the current slice header design, some syntax and function calls, even under the same logic conditions spread in different locations in slice header</a:t>
            </a:r>
            <a:r>
              <a:rPr b="0" lang="en-CA" sz="2400" spc="-1" strike="noStrike">
                <a:solidFill>
                  <a:srgbClr val="1e1e1e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Such design is not only messy for presentation of slice header syntax, but also requires more logic condition checking. 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53" name="Title 1"/>
          <p:cNvSpPr/>
          <p:nvPr/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syntax in the current slice header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0" y="17780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55" name="Rectangle 1041"/>
          <p:cNvSpPr/>
          <p:nvPr/>
        </p:nvSpPr>
        <p:spPr>
          <a:xfrm>
            <a:off x="0" y="22734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New Design for Slice Header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78000" y="1782720"/>
            <a:ext cx="838656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All syntax elements and function calls under slice type not equal to I are grouped together.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e1e"/>
                </a:solidFill>
                <a:latin typeface="Arial"/>
              </a:rPr>
              <a:t>slice_temporal_mvp_enable_flag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 instead of </a:t>
            </a:r>
            <a:r>
              <a:rPr b="1" lang="en-US" sz="2000" spc="-1" strike="noStrike">
                <a:solidFill>
                  <a:srgbClr val="1e1e1e"/>
                </a:solidFill>
                <a:latin typeface="Arial"/>
              </a:rPr>
              <a:t>pic_temporal_mvp_enable_flag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 make the standard more readable.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Nine Syntax Elements: </a:t>
            </a:r>
            <a:r>
              <a:rPr b="1" lang="en-US" sz="1800" spc="-1" strike="noStrike">
                <a:solidFill>
                  <a:srgbClr val="1e1e1e"/>
                </a:solidFill>
                <a:latin typeface="Arial"/>
              </a:rPr>
              <a:t>slice_temporal_mvp_enable_flag, num_ref_idx_active_override_flag, num_ref_idx_l0_active_minus1, num_ref_idx_l1_active_minus1, mvd_l1_zero_flag, cabac_init_flag, collocated_from_l0_flag, collocated_ref_idx, five_minus_max_num_merge_cand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wo Function Calls: </a:t>
            </a:r>
            <a:r>
              <a:rPr b="1" lang="en-US" sz="2000" spc="-1" strike="noStrike">
                <a:solidFill>
                  <a:srgbClr val="1e1e1e"/>
                </a:solidFill>
                <a:latin typeface="Arial"/>
              </a:rPr>
              <a:t>ref_pic_list_modification( ), pred_weight_table( )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5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pic>
        <p:nvPicPr>
          <p:cNvPr id="460" name="Content Placeholder 10" descr=""/>
          <p:cNvPicPr/>
          <p:nvPr/>
        </p:nvPicPr>
        <p:blipFill>
          <a:blip r:embed="rId1"/>
          <a:stretch/>
        </p:blipFill>
        <p:spPr>
          <a:xfrm>
            <a:off x="506520" y="658800"/>
            <a:ext cx="8119800" cy="6033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462" name="Content Placeholder 3" descr=""/>
          <p:cNvPicPr/>
          <p:nvPr/>
        </p:nvPicPr>
        <p:blipFill>
          <a:blip r:embed="rId1"/>
          <a:stretch/>
        </p:blipFill>
        <p:spPr>
          <a:xfrm>
            <a:off x="396720" y="433440"/>
            <a:ext cx="8552160" cy="6381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464" name="Content Placeholder 3" descr=""/>
          <p:cNvPicPr/>
          <p:nvPr/>
        </p:nvPicPr>
        <p:blipFill>
          <a:blip r:embed="rId1"/>
          <a:stretch/>
        </p:blipFill>
        <p:spPr>
          <a:xfrm>
            <a:off x="785880" y="549360"/>
            <a:ext cx="8076960" cy="6431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466" name="Content Placeholder 3" descr=""/>
          <p:cNvPicPr/>
          <p:nvPr/>
        </p:nvPicPr>
        <p:blipFill>
          <a:blip r:embed="rId1"/>
          <a:stretch/>
        </p:blipFill>
        <p:spPr>
          <a:xfrm>
            <a:off x="480960" y="433440"/>
            <a:ext cx="8212320" cy="579132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1"/>
          <p:cNvSpPr/>
          <p:nvPr/>
        </p:nvSpPr>
        <p:spPr>
          <a:xfrm>
            <a:off x="3482640" y="-19080"/>
            <a:ext cx="2178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2280" bIns="38160" anchor="ctr">
            <a:spAutoFit/>
          </a:bodyPr>
          <a:p>
            <a:pPr>
              <a:lnSpc>
                <a:spcPct val="100000"/>
              </a:lnSpc>
              <a:buClr>
                <a:srgbClr val="1e1e1e"/>
              </a:buClr>
              <a:buFont typeface="Times New Roman"/>
              <a:buChar char="•"/>
              <a:tabLst>
                <a:tab algn="l" pos="136440"/>
                <a:tab algn="l" pos="274680"/>
                <a:tab algn="l" pos="411120"/>
                <a:tab algn="l" pos="549360"/>
                <a:tab algn="l" pos="685800"/>
                <a:tab algn="l" pos="822240"/>
                <a:tab algn="l" pos="960480"/>
                <a:tab algn="l" pos="1096920"/>
                <a:tab algn="l" pos="1235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e1e1e"/>
                </a:solidFill>
                <a:latin typeface="Times New Roman"/>
                <a:ea typeface="Times New Roman"/>
              </a:rPr>
              <a:t>Reference picture list modification syntax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6440"/>
                <a:tab algn="l" pos="274680"/>
                <a:tab algn="l" pos="411120"/>
                <a:tab algn="l" pos="549360"/>
                <a:tab algn="l" pos="685800"/>
                <a:tab algn="l" pos="822240"/>
                <a:tab algn="l" pos="960480"/>
                <a:tab algn="l" pos="1096920"/>
                <a:tab algn="l" pos="1235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469" name="Content Placeholder 5" descr=""/>
          <p:cNvPicPr/>
          <p:nvPr/>
        </p:nvPicPr>
        <p:blipFill>
          <a:blip r:embed="rId1"/>
          <a:stretch/>
        </p:blipFill>
        <p:spPr>
          <a:xfrm>
            <a:off x="420840" y="701640"/>
            <a:ext cx="8216640" cy="567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63600" y="1768320"/>
            <a:ext cx="8386560" cy="39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e1e"/>
                </a:solidFill>
                <a:latin typeface="Arial"/>
                <a:ea typeface="Times New Roman"/>
              </a:rPr>
              <a:t>All syntax elements and function calls under slice type not equal to I are grouped together.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e1e"/>
                </a:solidFill>
                <a:latin typeface="Arial"/>
                <a:ea typeface="Times New Roman"/>
              </a:rPr>
              <a:t>Suggest to use slice_temporal_mvp_enable_flag instead of pic_temporal_mvp_enable_flag  to make standard more readable.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e1e"/>
                </a:solidFill>
                <a:latin typeface="Arial"/>
                <a:ea typeface="Times New Roman"/>
              </a:rPr>
              <a:t>It is recommended to adopt this syntax cleanup.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e1e"/>
                </a:solidFill>
                <a:latin typeface="Arial"/>
              </a:rPr>
              <a:t>Thanks mental cross check: JCTVC-J0495 from Qualcomm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2:14:02Z</dcterms:created>
  <dc:creator>Amanda Cohen</dc:creator>
  <dc:description/>
  <dc:language>en-US</dc:language>
  <cp:lastModifiedBy>build</cp:lastModifiedBy>
  <dcterms:modified xsi:type="dcterms:W3CDTF">2012-07-13T20:52:17Z</dcterms:modified>
  <cp:revision>809</cp:revision>
  <dc:subject/>
  <dc:title>BUSINESS UNIT NAME</dc:title>
</cp:coreProperties>
</file>