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2602ED-D301-467D-9A14-9283ACE7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99C09D-A658-453A-8A1B-8FD3DA9BA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6F72B9-9575-498E-BE3E-F43CA3507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D3AAF9-5239-4E2C-A1E4-A0C35C777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B1B-9DB9-40DE-AFED-5B880B09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48A-6A03-4CE5-B41B-14A350D8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AF2-6CE1-4DAE-9611-21118CAD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D8A-7BCE-4340-9169-E93BD57A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127-7436-4397-8B08-2E7E6194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FEB-3059-4A08-BCC6-27A1D7D1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701-3315-4D6C-A721-FE99D63D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AC7-FDC1-4BB4-8AEF-CF13C8F5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B12-4917-41E9-BE0D-DBC99155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EAE-4A79-45B5-A483-FFD1E66A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20F-EDD1-4201-96FA-7BDBCA79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1FE-5AC5-4D49-9DAB-677CB2C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365A-5FD5-43DE-8B1D-7B0E4E0621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CTVC-J0299: </a:t>
            </a:r>
            <a:br>
              <a:rPr sz="2800"/>
            </a:b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AHG4: On entry point cod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ng-Hwan Kim, Kiran Mis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B96D-BEC5-4E56-A476-9B69036991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Entry point offset co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ethods to further improve the coding efficiency of entry point offse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binarization process for the entry poi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combination of quotient and remainder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Quotient and the remainder are  coded ue(v) and u(v),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divisor is sent in the bit-stream (transmit the power of 2 of the divis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the meaning of entry point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imum entry point offset  as a predi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ifference between each entry point offset and minimum entry 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set is trans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04AD-CB09-40DA-81F9-80BB14D850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Meth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438280" y="1905120"/>
          <a:ext cx="4343400" cy="3270240"/>
        </p:xfrm>
        <a:graphic>
          <a:graphicData uri="http://schemas.openxmlformats.org/drawingml/2006/table">
            <a:tbl>
              <a:tblPr/>
              <a:tblGrid>
                <a:gridCol w="3276720"/>
                <a:gridCol w="106668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lice_header( 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tiles_or_entropy_coding_sync_idc &gt; 0 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num_entry_point_offs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num_entry_point_offsets &gt; 0 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min_offst_minus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sor_power_of_two_minus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 i = 0; i &lt; num_entry_point_offsets; i++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ntry_point_quotient[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y_point_remainder[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: Experiment 1: 32 Ti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BB89-18EC-4D27-A88C-019BDFE96E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into HM 7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Tiles (Tested sequence: Class A, Class B, Class 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33720" y="2438280"/>
          <a:ext cx="4865400" cy="771480"/>
        </p:xfrm>
        <a:graphic>
          <a:graphicData uri="http://schemas.openxmlformats.org/drawingml/2006/table">
            <a:tbl>
              <a:tblPr/>
              <a:tblGrid>
                <a:gridCol w="825480"/>
                <a:gridCol w="676080"/>
                <a:gridCol w="666720"/>
                <a:gridCol w="676440"/>
                <a:gridCol w="676080"/>
                <a:gridCol w="668520"/>
                <a:gridCol w="676080"/>
              </a:tblGrid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133720" y="3486240"/>
          <a:ext cx="4865400" cy="780840"/>
        </p:xfrm>
        <a:graphic>
          <a:graphicData uri="http://schemas.openxmlformats.org/drawingml/2006/table">
            <a:tbl>
              <a:tblPr/>
              <a:tblGrid>
                <a:gridCol w="825480"/>
                <a:gridCol w="676080"/>
                <a:gridCol w="666720"/>
                <a:gridCol w="676440"/>
                <a:gridCol w="676080"/>
                <a:gridCol w="668520"/>
                <a:gridCol w="676080"/>
              </a:tblGrid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154240" y="4572000"/>
          <a:ext cx="4865760" cy="781200"/>
        </p:xfrm>
        <a:graphic>
          <a:graphicData uri="http://schemas.openxmlformats.org/drawingml/2006/table">
            <a:tbl>
              <a:tblPr/>
              <a:tblGrid>
                <a:gridCol w="825480"/>
                <a:gridCol w="676440"/>
                <a:gridCol w="666720"/>
                <a:gridCol w="676080"/>
                <a:gridCol w="676440"/>
                <a:gridCol w="668160"/>
                <a:gridCol w="676440"/>
              </a:tblGrid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8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7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7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8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7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0.7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18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: Experimen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7055-2056-4C15-87AE-815E663D74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into HM 7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2 (in JCTVC-F33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18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133720" y="2133720"/>
          <a:ext cx="4863960" cy="1238040"/>
        </p:xfrm>
        <a:graphic>
          <a:graphicData uri="http://schemas.openxmlformats.org/drawingml/2006/table">
            <a:tbl>
              <a:tblPr/>
              <a:tblGrid>
                <a:gridCol w="825480"/>
                <a:gridCol w="672840"/>
                <a:gridCol w="673200"/>
                <a:gridCol w="673200"/>
                <a:gridCol w="673200"/>
                <a:gridCol w="672840"/>
                <a:gridCol w="67320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139840" y="3505320"/>
          <a:ext cx="4864320" cy="123804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3200"/>
                <a:gridCol w="672840"/>
                <a:gridCol w="673200"/>
                <a:gridCol w="67320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139840" y="4933800"/>
          <a:ext cx="4864320" cy="123840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3200"/>
                <a:gridCol w="672840"/>
                <a:gridCol w="673200"/>
                <a:gridCol w="673200"/>
              </a:tblGrid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2949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s contribution reports coding efficiency improvements for entry point offset coding (-0.8% for class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posed method is designed to deal with all the variations of the entry point offset by sending the divisor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commended to adopt this method into the draft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D0E9-8CAD-4097-B139-643F1ABFE0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Seung-Hwan (David) Kim</cp:lastModifiedBy>
  <dcterms:modified xsi:type="dcterms:W3CDTF">2012-07-10T23:16:25Z</dcterms:modified>
  <cp:revision>977</cp:revision>
  <dc:subject/>
  <dc:title>Slide 1</dc:title>
</cp:coreProperties>
</file>