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64B4904-8B82-49E3-8CDB-881058212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107AB3C-E4AB-42B9-AA89-4F578CD9F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C25B304-C570-4B90-9A02-A01596981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A1CBDD6-EEFE-446A-97F4-085D803479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A91F-3E6C-430E-A347-6FBC77038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76992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7190-74C5-4681-9841-0006520B2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1708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DBF5-3AD4-4138-9C1A-765507D36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16240" y="11430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7560" y="11430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7699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16240" y="37699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7560" y="37699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B814-A545-45D0-8131-3A1521A16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DECC-82B1-45C8-85B0-2D6B8BC11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F352-A9A6-4C78-9660-7B982FC1E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A977-B782-4721-B6B3-C273E4267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0242-198A-4C4C-B716-08FC4C12F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722320" y="142920"/>
            <a:ext cx="64213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47A7-2112-4066-901F-246AA6D9F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CA13-05C6-4025-BEA9-D94FC50B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708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3C37-062B-484C-8C96-3B92F9AA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BFFD-5B1C-43CE-88E6-5C4403AE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2679840" y="0"/>
            <a:ext cx="6476760" cy="685800"/>
          </a:xfrm>
          <a:prstGeom prst="rect">
            <a:avLst/>
          </a:prstGeom>
          <a:solidFill>
            <a:srgbClr val="d6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2600" y="685800"/>
            <a:ext cx="266724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Picture 4" descr="sharplogo"/>
          <p:cNvPicPr/>
          <p:nvPr/>
        </p:nvPicPr>
        <p:blipFill>
          <a:blip r:embed="rId2"/>
          <a:stretch/>
        </p:blipFill>
        <p:spPr>
          <a:xfrm>
            <a:off x="5715000" y="2970360"/>
            <a:ext cx="1676520" cy="264960"/>
          </a:xfrm>
          <a:prstGeom prst="rect">
            <a:avLst/>
          </a:prstGeom>
          <a:ln w="0">
            <a:noFill/>
          </a:ln>
        </p:spPr>
      </p:pic>
      <p:sp>
        <p:nvSpPr>
          <p:cNvPr id="3" name="Rectangle 5"/>
          <p:cNvSpPr/>
          <p:nvPr/>
        </p:nvSpPr>
        <p:spPr>
          <a:xfrm>
            <a:off x="2679840" y="685800"/>
            <a:ext cx="6476760" cy="15228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228600" y="458640"/>
            <a:ext cx="234000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ABORATORIES OF AMERICA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838080"/>
            <a:ext cx="9144000" cy="571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4e6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c0504d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4f81bd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2860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Confidential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38720" y="655272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3801D-F428-4CCF-8C62-710CB1A5C4C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" name="Picture 14" descr=""/>
          <p:cNvPicPr/>
          <p:nvPr/>
        </p:nvPicPr>
        <p:blipFill>
          <a:blip r:embed="rId3"/>
          <a:stretch/>
        </p:blipFill>
        <p:spPr>
          <a:xfrm>
            <a:off x="500040" y="117360"/>
            <a:ext cx="1793880" cy="324000"/>
          </a:xfrm>
          <a:prstGeom prst="rect">
            <a:avLst/>
          </a:prstGeom>
          <a:ln w="0">
            <a:noFill/>
          </a:ln>
        </p:spPr>
      </p:pic>
      <p:sp>
        <p:nvSpPr>
          <p:cNvPr id="13" name="Text Box 15"/>
          <p:cNvSpPr/>
          <p:nvPr/>
        </p:nvSpPr>
        <p:spPr>
          <a:xfrm>
            <a:off x="5181480" y="646128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JCTVC-J0298: </a:t>
            </a:r>
            <a:br>
              <a:rPr sz="2800"/>
            </a:br>
            <a:r>
              <a:rPr b="1" lang="en-CA" sz="2800" spc="-1" strike="noStrike">
                <a:solidFill>
                  <a:srgbClr val="ff0000"/>
                </a:solidFill>
                <a:latin typeface="Arial"/>
              </a:rPr>
              <a:t>AHG5: High throughput binarization for cu_qp_delta coding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ung-Hwan Kim, Louis Kerofsk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rew Seg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D24D1-8287-409A-9683-14F7B758119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tivatio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0492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 7.0 requires 26 context bins and 1 bypass bin in worst case scenario (main profi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ncated unary binar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 to reduce the worst case number of context bi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is designed considering the worst case-sc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418D7-1716-4BFC-BE12-1F649D022C8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itle 1"/>
          <p:cNvSpPr/>
          <p:nvPr/>
        </p:nvSpPr>
        <p:spPr>
          <a:xfrm>
            <a:off x="272268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ed Metho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Content Placeholder 2"/>
          <p:cNvSpPr/>
          <p:nvPr/>
        </p:nvSpPr>
        <p:spPr>
          <a:xfrm>
            <a:off x="457200" y="12952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 TUFLC (Truncated Unary-Fixed Length Code) binar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improve throughput performance in the worst cas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context coded bins are marked with red col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514600" y="2541600"/>
          <a:ext cx="4038480" cy="3859200"/>
        </p:xfrm>
        <a:graphic>
          <a:graphicData uri="http://schemas.openxmlformats.org/drawingml/2006/table">
            <a:tbl>
              <a:tblPr/>
              <a:tblGrid>
                <a:gridCol w="1266840"/>
                <a:gridCol w="1346040"/>
                <a:gridCol w="1425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u_delta_q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HM 7.0 (TU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TUFL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1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1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11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1111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111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1111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1111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1111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11111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1111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111111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1111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1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1111111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1111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1111 xxx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11111111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1111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1111 xxx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111111111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1111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1111 xxx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1111111 … 11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1111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1111 xxx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26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Inven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itle 1"/>
          <p:cNvSpPr/>
          <p:nvPr/>
        </p:nvSpPr>
        <p:spPr>
          <a:xfrm>
            <a:off x="272268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orst case bin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Rectangle 18"/>
          <p:cNvSpPr/>
          <p:nvPr/>
        </p:nvSpPr>
        <p:spPr>
          <a:xfrm>
            <a:off x="380880" y="114300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worst case bin num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752480" y="1981080"/>
          <a:ext cx="5486400" cy="1917720"/>
        </p:xfrm>
        <a:graphic>
          <a:graphicData uri="http://schemas.openxmlformats.org/drawingml/2006/table">
            <a:tbl>
              <a:tblPr/>
              <a:tblGrid>
                <a:gridCol w="2057400"/>
                <a:gridCol w="1381320"/>
                <a:gridCol w="2047680"/>
              </a:tblGrid>
              <a:tr h="698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HM7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Proposed 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(TUFL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ax_total_bi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ax_ctx_bi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ax_bypass_bi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 (sign bi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Slide Number Placeholder 4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2E649-C7FA-49F9-93DE-C289E774417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Content Placeholder 2"/>
          <p:cNvSpPr/>
          <p:nvPr/>
        </p:nvSpPr>
        <p:spPr>
          <a:xfrm>
            <a:off x="38088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ed into HM 7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ing performance changes (Y) from -0.02% to 0.02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139840" y="2286000"/>
          <a:ext cx="4864320" cy="1238400"/>
        </p:xfrm>
        <a:graphic>
          <a:graphicData uri="http://schemas.openxmlformats.org/drawingml/2006/table">
            <a:tbl>
              <a:tblPr/>
              <a:tblGrid>
                <a:gridCol w="825480"/>
                <a:gridCol w="673200"/>
                <a:gridCol w="673200"/>
                <a:gridCol w="673200"/>
                <a:gridCol w="672840"/>
                <a:gridCol w="673200"/>
                <a:gridCol w="673200"/>
              </a:tblGrid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M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HE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2139840" y="3638520"/>
          <a:ext cx="4864320" cy="1238400"/>
        </p:xfrm>
        <a:graphic>
          <a:graphicData uri="http://schemas.openxmlformats.org/drawingml/2006/table">
            <a:tbl>
              <a:tblPr/>
              <a:tblGrid>
                <a:gridCol w="825480"/>
                <a:gridCol w="673200"/>
                <a:gridCol w="673200"/>
                <a:gridCol w="673200"/>
                <a:gridCol w="672840"/>
                <a:gridCol w="673200"/>
                <a:gridCol w="673200"/>
              </a:tblGrid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M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HE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1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2139840" y="5086440"/>
          <a:ext cx="4864320" cy="1238040"/>
        </p:xfrm>
        <a:graphic>
          <a:graphicData uri="http://schemas.openxmlformats.org/drawingml/2006/table">
            <a:tbl>
              <a:tblPr/>
              <a:tblGrid>
                <a:gridCol w="825480"/>
                <a:gridCol w="673200"/>
                <a:gridCol w="673200"/>
                <a:gridCol w="673200"/>
                <a:gridCol w="672840"/>
                <a:gridCol w="673200"/>
                <a:gridCol w="673200"/>
              </a:tblGrid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M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HE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6840" y="129528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throughput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ding los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-0.02% ~0.02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uffix part (fixed length code) is efficiently coded because the number of bypass coded bits are fixed/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759FF-A96F-4180-98DF-2C6454159B4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828800" y="3962520"/>
          <a:ext cx="5486400" cy="1917720"/>
        </p:xfrm>
        <a:graphic>
          <a:graphicData uri="http://schemas.openxmlformats.org/drawingml/2006/table">
            <a:tbl>
              <a:tblPr/>
              <a:tblGrid>
                <a:gridCol w="2057400"/>
                <a:gridCol w="1380960"/>
                <a:gridCol w="2048040"/>
              </a:tblGrid>
              <a:tr h="698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HM7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Proposed 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(TUFL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ax_total_bi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ax_ctx_bi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ax_bypass_bi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 (sign bi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7T20:05:40Z</dcterms:created>
  <dc:creator>lkerofsky</dc:creator>
  <dc:description/>
  <dc:language>en-US</dc:language>
  <cp:lastModifiedBy>Seung-Hwan (David) Kim</cp:lastModifiedBy>
  <dcterms:modified xsi:type="dcterms:W3CDTF">2012-07-10T23:03:58Z</dcterms:modified>
  <cp:revision>966</cp:revision>
  <dc:subject/>
  <dc:title>Slide 1</dc:title>
</cp:coreProperties>
</file>