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03817C7-F0E6-425C-8378-0BFA100D3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3E767C9-B859-4524-AE28-7529C1565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B34C89D-CC2E-4BE3-8842-4C63B9FD0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A7CACC9-CC0F-4944-94D7-E993BFFB7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C59B-E6AB-47BD-95A4-35B7B41BD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4274-1560-4F09-81A6-96F3A36D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9EC1-174D-4FEC-B22F-5882BCA31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624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756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624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756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49B8-A02F-4753-89F9-3561392E2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2153-F99F-4EC2-9F2A-D8F53FB5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22EF-3320-46AB-90F1-F596F057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7EBD-7577-4162-831C-D402F8CC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6FF8-DD23-4021-A408-65825CF4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22320" y="142920"/>
            <a:ext cx="64213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8FB4-9FFB-4CE3-A68E-4599F08C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1E1B-390B-41BF-BDFB-AC2B8D2A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B00E-53DB-4350-9F3A-A8CB00DB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EEFF-2C72-4942-8246-DFCF4687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2679840" y="0"/>
            <a:ext cx="6476760" cy="68580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2600" y="685800"/>
            <a:ext cx="266724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4" descr="sharplogo"/>
          <p:cNvPicPr/>
          <p:nvPr/>
        </p:nvPicPr>
        <p:blipFill>
          <a:blip r:embed="rId2"/>
          <a:stretch/>
        </p:blipFill>
        <p:spPr>
          <a:xfrm>
            <a:off x="5715000" y="2970360"/>
            <a:ext cx="1676520" cy="264960"/>
          </a:xfrm>
          <a:prstGeom prst="rect">
            <a:avLst/>
          </a:prstGeom>
          <a:ln w="0">
            <a:noFill/>
          </a:ln>
        </p:spPr>
      </p:pic>
      <p:sp>
        <p:nvSpPr>
          <p:cNvPr id="3" name="Rectangle 5"/>
          <p:cNvSpPr/>
          <p:nvPr/>
        </p:nvSpPr>
        <p:spPr>
          <a:xfrm>
            <a:off x="2679840" y="685800"/>
            <a:ext cx="6476760" cy="15228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28600" y="458640"/>
            <a:ext cx="234000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BORATORIES OF AMERIC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838080"/>
            <a:ext cx="914400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4e6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c0504d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4f81b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286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Confidential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38720" y="65527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15FE-4E25-41DD-978C-B49E69317F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" name="Picture 14" descr=""/>
          <p:cNvPicPr/>
          <p:nvPr/>
        </p:nvPicPr>
        <p:blipFill>
          <a:blip r:embed="rId3"/>
          <a:stretch/>
        </p:blipFill>
        <p:spPr>
          <a:xfrm>
            <a:off x="500040" y="117360"/>
            <a:ext cx="1793880" cy="324000"/>
          </a:xfrm>
          <a:prstGeom prst="rect">
            <a:avLst/>
          </a:prstGeom>
          <a:ln w="0">
            <a:noFill/>
          </a:ln>
        </p:spPr>
      </p:pic>
      <p:sp>
        <p:nvSpPr>
          <p:cNvPr id="13" name="Text Box 15"/>
          <p:cNvSpPr/>
          <p:nvPr/>
        </p:nvSpPr>
        <p:spPr>
          <a:xfrm>
            <a:off x="5181480" y="646128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CTVC-J0297: </a:t>
            </a:r>
            <a:br>
              <a:rPr sz="2800"/>
            </a:b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AHG5: High throughput binarization method for reference index coding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ng-Hwan Kim, Louis Kerofs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rew Seg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0353-0F33-48F4-BBCB-30D40E3FDD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tivat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492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 7.0 requires 15 context bins in worst case sce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ncated unary bina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aximum reference index is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ll bins are context co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to reduce the worst case number of context b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is designed considering the worst case-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399F-AB3A-4455-A99C-06F9FECB03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itle 1"/>
          <p:cNvSpPr/>
          <p:nvPr/>
        </p:nvSpPr>
        <p:spPr>
          <a:xfrm>
            <a:off x="272268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ed Metho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590920" y="2465280"/>
          <a:ext cx="4038480" cy="3859200"/>
        </p:xfrm>
        <a:graphic>
          <a:graphicData uri="http://schemas.openxmlformats.org/drawingml/2006/table">
            <a:tbl>
              <a:tblPr/>
              <a:tblGrid>
                <a:gridCol w="1266840"/>
                <a:gridCol w="1346040"/>
                <a:gridCol w="1425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ref_ind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HM 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TUF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1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1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1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1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11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1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111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1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1111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1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11111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1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111111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1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1111 … 11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1111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Content Placeholder 2"/>
          <p:cNvSpPr/>
          <p:nvPr/>
        </p:nvSpPr>
        <p:spPr>
          <a:xfrm>
            <a:off x="457200" y="12952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 TUFLC (Truncated Unary-Fixed Length Code) binar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improve throughput performance in the worst cas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context coded bins are marked with red col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26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Inven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itle 1"/>
          <p:cNvSpPr/>
          <p:nvPr/>
        </p:nvSpPr>
        <p:spPr>
          <a:xfrm>
            <a:off x="272268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rst case bin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Rectangle 18"/>
          <p:cNvSpPr/>
          <p:nvPr/>
        </p:nvSpPr>
        <p:spPr>
          <a:xfrm>
            <a:off x="380880" y="114300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worst case bin nu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752480" y="1981080"/>
          <a:ext cx="5486400" cy="1917720"/>
        </p:xfrm>
        <a:graphic>
          <a:graphicData uri="http://schemas.openxmlformats.org/drawingml/2006/table">
            <a:tbl>
              <a:tblPr/>
              <a:tblGrid>
                <a:gridCol w="2211480"/>
                <a:gridCol w="1227240"/>
                <a:gridCol w="2047680"/>
              </a:tblGrid>
              <a:tr h="69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M7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roposed 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(TUFL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ax_total_bi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ax_ctx_bi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ax_bypass_bi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6D5A-9073-4AD3-A888-52DB0EF2AA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Content Placeholder 2"/>
          <p:cNvSpPr/>
          <p:nvPr/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into HM 7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ding performance ch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133720" y="2400480"/>
          <a:ext cx="4863960" cy="1562040"/>
        </p:xfrm>
        <a:graphic>
          <a:graphicData uri="http://schemas.openxmlformats.org/drawingml/2006/table">
            <a:tbl>
              <a:tblPr/>
              <a:tblGrid>
                <a:gridCol w="825480"/>
                <a:gridCol w="676080"/>
                <a:gridCol w="666720"/>
                <a:gridCol w="676440"/>
                <a:gridCol w="677880"/>
                <a:gridCol w="665280"/>
                <a:gridCol w="676080"/>
              </a:tblGrid>
              <a:tr h="152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M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HE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2136600" y="4229280"/>
          <a:ext cx="4870800" cy="1562040"/>
        </p:xfrm>
        <a:graphic>
          <a:graphicData uri="http://schemas.openxmlformats.org/drawingml/2006/table">
            <a:tbl>
              <a:tblPr/>
              <a:tblGrid>
                <a:gridCol w="830520"/>
                <a:gridCol w="677880"/>
                <a:gridCol w="664920"/>
                <a:gridCol w="677880"/>
                <a:gridCol w="676440"/>
                <a:gridCol w="665280"/>
                <a:gridCol w="677880"/>
              </a:tblGrid>
              <a:tr h="152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M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HE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1599840"/>
            <a:ext cx="84582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high throughput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ding lo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uffix part (fixed length code) is efficiently coded because the number of bypass coded bits are fixed/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9567-ED01-4E41-89CA-E1A7D5F40C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828800" y="3886200"/>
          <a:ext cx="5486400" cy="1917720"/>
        </p:xfrm>
        <a:graphic>
          <a:graphicData uri="http://schemas.openxmlformats.org/drawingml/2006/table">
            <a:tbl>
              <a:tblPr/>
              <a:tblGrid>
                <a:gridCol w="2211480"/>
                <a:gridCol w="1226880"/>
                <a:gridCol w="2048040"/>
              </a:tblGrid>
              <a:tr h="698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M7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roposed 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(TUFL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ax_total_bi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ax_ctx_bi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ax_bypass_bi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20:05:40Z</dcterms:created>
  <dc:creator>lkerofsky</dc:creator>
  <dc:description/>
  <dc:language>en-US</dc:language>
  <cp:lastModifiedBy>Seung-Hwan (David) Kim</cp:lastModifiedBy>
  <dcterms:modified xsi:type="dcterms:W3CDTF">2012-07-10T22:52:24Z</dcterms:modified>
  <cp:revision>959</cp:revision>
  <dc:subject/>
  <dc:title>Slide 1</dc:title>
</cp:coreProperties>
</file>