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55B3E926-28BD-4527-9C05-8F15BFD560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A0086808-E167-4C15-B2A4-816BF60D5A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7F2FC8BB-5A1E-41EB-85AB-D357A5F6C1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6FF0CCDC-1D71-46A4-B250-3D34EF654E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57BF3-3CA2-4E48-BF9C-24A5D5DD1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610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769920"/>
            <a:ext cx="8610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1A01F-D4A2-4FC3-87DE-400E71556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4201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17080" y="1143000"/>
            <a:ext cx="4201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769920"/>
            <a:ext cx="4201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17080" y="3769920"/>
            <a:ext cx="4201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FBAF2-0E17-4388-B3B6-28B10751B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277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16240" y="1143000"/>
            <a:ext cx="277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27560" y="1143000"/>
            <a:ext cx="277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769920"/>
            <a:ext cx="277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16240" y="3769920"/>
            <a:ext cx="277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27560" y="3769920"/>
            <a:ext cx="277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5332D-34DE-476B-AF3E-D9D20C5B5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14300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FCBF0-3C3A-4D91-B19E-1C7BCFE80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D9739-D4A0-4EA3-93EE-40BDCB940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42015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143000"/>
            <a:ext cx="42015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4B40C-4024-467B-8473-1D44D9D1F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9FB91-5744-4868-A42E-189B3D40F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2722320" y="142920"/>
            <a:ext cx="64213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522B3-9CD7-47C8-8E25-2BDE5FA87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4201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17080" y="1143000"/>
            <a:ext cx="42015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769920"/>
            <a:ext cx="4201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555A3-A980-4BCA-8125-905E3AAED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42015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17080" y="1143000"/>
            <a:ext cx="4201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7080" y="3769920"/>
            <a:ext cx="4201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4F29D-159D-47B2-8ADD-47AEAD245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4201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17080" y="1143000"/>
            <a:ext cx="4201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769920"/>
            <a:ext cx="8610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2E1AB-E894-40C8-9F2E-EEC81CC11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2679840" y="0"/>
            <a:ext cx="6476760" cy="685800"/>
          </a:xfrm>
          <a:prstGeom prst="rect">
            <a:avLst/>
          </a:prstGeom>
          <a:solidFill>
            <a:srgbClr val="d630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2600" y="685800"/>
            <a:ext cx="2667240" cy="152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Picture 4" descr="sharplogo"/>
          <p:cNvPicPr/>
          <p:nvPr/>
        </p:nvPicPr>
        <p:blipFill>
          <a:blip r:embed="rId2"/>
          <a:stretch/>
        </p:blipFill>
        <p:spPr>
          <a:xfrm>
            <a:off x="5715000" y="2970360"/>
            <a:ext cx="1676520" cy="264960"/>
          </a:xfrm>
          <a:prstGeom prst="rect">
            <a:avLst/>
          </a:prstGeom>
          <a:ln w="0">
            <a:noFill/>
          </a:ln>
        </p:spPr>
      </p:pic>
      <p:sp>
        <p:nvSpPr>
          <p:cNvPr id="3" name="Rectangle 5"/>
          <p:cNvSpPr/>
          <p:nvPr/>
        </p:nvSpPr>
        <p:spPr>
          <a:xfrm>
            <a:off x="2679840" y="685800"/>
            <a:ext cx="6476760" cy="152280"/>
          </a:xfrm>
          <a:prstGeom prst="rect">
            <a:avLst/>
          </a:prstGeom>
          <a:solidFill>
            <a:srgbClr val="d5d1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d5d1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228600" y="458640"/>
            <a:ext cx="2340000" cy="2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LABORATORIES OF AMERICA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0" y="838080"/>
            <a:ext cx="9144000" cy="5715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4e6f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304920" y="114300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c0504d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4f81bd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28600" y="65527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552720"/>
            <a:ext cx="2895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ff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ahoma"/>
              </a:rPr>
              <a:t>Confidential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38720" y="655272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C9D7D-28E1-4177-AE25-FBC35520CC8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" name="Picture 14" descr=""/>
          <p:cNvPicPr/>
          <p:nvPr/>
        </p:nvPicPr>
        <p:blipFill>
          <a:blip r:embed="rId3"/>
          <a:stretch/>
        </p:blipFill>
        <p:spPr>
          <a:xfrm>
            <a:off x="500040" y="117360"/>
            <a:ext cx="1793880" cy="324000"/>
          </a:xfrm>
          <a:prstGeom prst="rect">
            <a:avLst/>
          </a:prstGeom>
          <a:ln w="0">
            <a:noFill/>
          </a:ln>
        </p:spPr>
      </p:pic>
      <p:sp>
        <p:nvSpPr>
          <p:cNvPr id="13" name="Text Box 15"/>
          <p:cNvSpPr/>
          <p:nvPr/>
        </p:nvSpPr>
        <p:spPr>
          <a:xfrm>
            <a:off x="5181480" y="6461280"/>
            <a:ext cx="9907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JCTVC-J0297: </a:t>
            </a:r>
            <a:br>
              <a:rPr sz="2800"/>
            </a:br>
            <a:r>
              <a:rPr b="1" lang="en-CA" sz="2800" spc="-1" strike="noStrike">
                <a:solidFill>
                  <a:srgbClr val="ff0000"/>
                </a:solidFill>
                <a:latin typeface="Arial"/>
              </a:rPr>
              <a:t>AHG5: High throughput binarization method for reference index coding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ung-Hwan Kim, Louis Kerofsky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rew Seg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Slide Number Placeholder 5"/>
          <p:cNvSpPr/>
          <p:nvPr/>
        </p:nvSpPr>
        <p:spPr>
          <a:xfrm>
            <a:off x="7039080" y="655308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4BB72-F54C-4D60-94DA-33681CC1511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tivation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304920" y="129492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 7.0 requires 15 context bins in worst case scenar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uncated unary binar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Maximum reference index is 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All bins are context co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ortant to reduce the worst case number of context bi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rdware is designed considering the worst case-scenar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7039080" y="655308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7141F-BA8E-4481-A972-E715BF6E1A1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itle 1"/>
          <p:cNvSpPr/>
          <p:nvPr/>
        </p:nvSpPr>
        <p:spPr>
          <a:xfrm>
            <a:off x="272268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posed Method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2286000" y="1962000"/>
          <a:ext cx="4267080" cy="3829320"/>
        </p:xfrm>
        <a:graphic>
          <a:graphicData uri="http://schemas.openxmlformats.org/drawingml/2006/table">
            <a:tbl>
              <a:tblPr/>
              <a:tblGrid>
                <a:gridCol w="870120"/>
                <a:gridCol w="1334880"/>
                <a:gridCol w="1031760"/>
                <a:gridCol w="103032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ref_inde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HM 7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Method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Method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굴림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굴림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굴림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굴림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굴림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굴림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8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굴림"/>
                        </a:rPr>
                        <a:t>1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굴림"/>
                        </a:rPr>
                        <a:t>1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굴림"/>
                        </a:rPr>
                        <a:t>11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굴림"/>
                        </a:rPr>
                        <a:t>11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굴림"/>
                        </a:rPr>
                        <a:t>11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굴림"/>
                        </a:rPr>
                        <a:t>11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굴림"/>
                        </a:rPr>
                        <a:t>111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굴림"/>
                        </a:rPr>
                        <a:t>1111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xxx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굴림"/>
                        </a:rPr>
                        <a:t>11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11</a:t>
                      </a: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굴림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xxx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굴림"/>
                        </a:rPr>
                        <a:t>1111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굴림"/>
                        </a:rPr>
                        <a:t>1111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xxx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굴림"/>
                        </a:rPr>
                        <a:t>11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11 xxx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굴림"/>
                        </a:rPr>
                        <a:t>11111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굴림"/>
                        </a:rPr>
                        <a:t>1111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xxx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굴림"/>
                        </a:rPr>
                        <a:t>11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11</a:t>
                      </a: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굴림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xxx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굴림"/>
                        </a:rPr>
                        <a:t>111111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굴림"/>
                        </a:rPr>
                        <a:t>1111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xxx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굴림"/>
                        </a:rPr>
                        <a:t>11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11</a:t>
                      </a: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굴림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xxx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굴림"/>
                        </a:rPr>
                        <a:t>1111111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굴림"/>
                        </a:rPr>
                        <a:t>1111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xxx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굴림"/>
                        </a:rPr>
                        <a:t>11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11</a:t>
                      </a: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굴림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xxx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8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굴림"/>
                        </a:rPr>
                        <a:t>11111111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굴림"/>
                        </a:rPr>
                        <a:t>1111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xxx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굴림"/>
                        </a:rPr>
                        <a:t>11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11</a:t>
                      </a: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굴림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xxx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굴림"/>
                        </a:rPr>
                        <a:t>111111111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굴림"/>
                        </a:rPr>
                        <a:t>1111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xxx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굴림"/>
                        </a:rPr>
                        <a:t>11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11</a:t>
                      </a: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굴림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xxx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굴림"/>
                        </a:rPr>
                        <a:t>1111111111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굴림"/>
                        </a:rPr>
                        <a:t>1111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xxx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굴림"/>
                        </a:rPr>
                        <a:t>11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11</a:t>
                      </a: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굴림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xxx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…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…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…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…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굴림"/>
                        </a:rPr>
                        <a:t>1111111 … 111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굴림"/>
                        </a:rPr>
                        <a:t>1111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xxx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굴림"/>
                        </a:rPr>
                        <a:t>11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11 xxx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5" name="Content Placeholder 2"/>
          <p:cNvSpPr/>
          <p:nvPr/>
        </p:nvSpPr>
        <p:spPr>
          <a:xfrm>
            <a:off x="457200" y="1066680"/>
            <a:ext cx="82296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ose TUFLC (Truncated Unary-Fixed Length Code) binar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* context coded bins are marked with red col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TextBox 9"/>
          <p:cNvSpPr/>
          <p:nvPr/>
        </p:nvSpPr>
        <p:spPr>
          <a:xfrm>
            <a:off x="762120" y="5867280"/>
            <a:ext cx="82296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*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thod 2 employs the same context model used in JCTVC-I352 JCTVC-J0098, and JCTVC-J0176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26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굴림"/>
              </a:rPr>
              <a:t>Inven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Title 1"/>
          <p:cNvSpPr/>
          <p:nvPr/>
        </p:nvSpPr>
        <p:spPr>
          <a:xfrm>
            <a:off x="272268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orst case bin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Rectangle 18"/>
          <p:cNvSpPr/>
          <p:nvPr/>
        </p:nvSpPr>
        <p:spPr>
          <a:xfrm>
            <a:off x="380880" y="1143000"/>
            <a:ext cx="708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roved worst case bin num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1371600" y="1981080"/>
          <a:ext cx="5562720" cy="1524240"/>
        </p:xfrm>
        <a:graphic>
          <a:graphicData uri="http://schemas.openxmlformats.org/drawingml/2006/table">
            <a:tbl>
              <a:tblPr/>
              <a:tblGrid>
                <a:gridCol w="1981080"/>
                <a:gridCol w="1143000"/>
                <a:gridCol w="1219320"/>
                <a:gridCol w="1219320"/>
              </a:tblGrid>
              <a:tr h="305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HM7.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Method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Method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8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Max_total_bi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8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Max_ctx_bi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Max_bypass_bi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sults: Method 1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Slide Number Placeholder 4"/>
          <p:cNvSpPr/>
          <p:nvPr/>
        </p:nvSpPr>
        <p:spPr>
          <a:xfrm>
            <a:off x="7039080" y="655308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F3395-9E70-4205-9B2F-8A721FD727B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Content Placeholder 2"/>
          <p:cNvSpPr/>
          <p:nvPr/>
        </p:nvSpPr>
        <p:spPr>
          <a:xfrm>
            <a:off x="38088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lemented into HM 7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ding performance ch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2133720" y="2400480"/>
          <a:ext cx="4863960" cy="1562040"/>
        </p:xfrm>
        <a:graphic>
          <a:graphicData uri="http://schemas.openxmlformats.org/drawingml/2006/table">
            <a:tbl>
              <a:tblPr/>
              <a:tblGrid>
                <a:gridCol w="825480"/>
                <a:gridCol w="676080"/>
                <a:gridCol w="666720"/>
                <a:gridCol w="676440"/>
                <a:gridCol w="677880"/>
                <a:gridCol w="665280"/>
                <a:gridCol w="676080"/>
              </a:tblGrid>
              <a:tr h="1522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andom Access Mai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andom Access HE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20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2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522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B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264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22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20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2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veral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0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0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0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620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0.0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0.0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0.0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0.0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0.0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0.0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0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5" name=""/>
          <p:cNvGraphicFramePr/>
          <p:nvPr/>
        </p:nvGraphicFramePr>
        <p:xfrm>
          <a:off x="2136600" y="4229280"/>
          <a:ext cx="4870800" cy="1562040"/>
        </p:xfrm>
        <a:graphic>
          <a:graphicData uri="http://schemas.openxmlformats.org/drawingml/2006/table">
            <a:tbl>
              <a:tblPr/>
              <a:tblGrid>
                <a:gridCol w="830520"/>
                <a:gridCol w="677880"/>
                <a:gridCol w="664920"/>
                <a:gridCol w="677880"/>
                <a:gridCol w="676440"/>
                <a:gridCol w="665280"/>
                <a:gridCol w="677880"/>
              </a:tblGrid>
              <a:tr h="1522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ow delay B Mai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ow delay B HE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20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2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522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B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264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22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20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2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veral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0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0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0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620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0.0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0.0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0.0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0.0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0.0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0.0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0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sults: Method 2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Slide Number Placeholder 4"/>
          <p:cNvSpPr/>
          <p:nvPr/>
        </p:nvSpPr>
        <p:spPr>
          <a:xfrm>
            <a:off x="7039080" y="655308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C7078-73CC-406B-B747-76C8CD5EA3E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Content Placeholder 2"/>
          <p:cNvSpPr/>
          <p:nvPr/>
        </p:nvSpPr>
        <p:spPr>
          <a:xfrm>
            <a:off x="38088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lemented into HM 7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2139840" y="2133720"/>
          <a:ext cx="4864320" cy="1562040"/>
        </p:xfrm>
        <a:graphic>
          <a:graphicData uri="http://schemas.openxmlformats.org/drawingml/2006/table">
            <a:tbl>
              <a:tblPr/>
              <a:tblGrid>
                <a:gridCol w="825480"/>
                <a:gridCol w="673200"/>
                <a:gridCol w="673200"/>
                <a:gridCol w="673200"/>
                <a:gridCol w="672840"/>
                <a:gridCol w="673200"/>
                <a:gridCol w="673200"/>
              </a:tblGrid>
              <a:tr h="152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ndom Access Mai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ndom Access HE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20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7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5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3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3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52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B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26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5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6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3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6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2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4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4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20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veral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5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3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620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.0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-0.04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-0.03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.0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-0.0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-0.0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0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6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4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0" name=""/>
          <p:cNvGraphicFramePr/>
          <p:nvPr/>
        </p:nvGraphicFramePr>
        <p:xfrm>
          <a:off x="2139840" y="3848040"/>
          <a:ext cx="4864320" cy="1562040"/>
        </p:xfrm>
        <a:graphic>
          <a:graphicData uri="http://schemas.openxmlformats.org/drawingml/2006/table">
            <a:tbl>
              <a:tblPr/>
              <a:tblGrid>
                <a:gridCol w="825480"/>
                <a:gridCol w="673200"/>
                <a:gridCol w="673200"/>
                <a:gridCol w="673200"/>
                <a:gridCol w="672840"/>
                <a:gridCol w="673200"/>
                <a:gridCol w="673200"/>
              </a:tblGrid>
              <a:tr h="1526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 delay B Mai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 delay B HE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16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52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B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3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9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3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7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2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6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5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26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6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3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3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4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16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4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5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7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9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34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5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veral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3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3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620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.0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.07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-0.0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.0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.06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.19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16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7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7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9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9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4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77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6840" y="1523520"/>
            <a:ext cx="84582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 high throughput 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ding los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Suffix part (fixed length code) is efficiently coded because the number of bypass coded bits are fixed/know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Slide Number Placeholder 5"/>
          <p:cNvSpPr/>
          <p:nvPr/>
        </p:nvSpPr>
        <p:spPr>
          <a:xfrm>
            <a:off x="7039080" y="655308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4D141-4B47-44CA-9E1B-66DAEEBD5B0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3505320"/>
          <a:ext cx="5562720" cy="1523880"/>
        </p:xfrm>
        <a:graphic>
          <a:graphicData uri="http://schemas.openxmlformats.org/drawingml/2006/table">
            <a:tbl>
              <a:tblPr/>
              <a:tblGrid>
                <a:gridCol w="1981440"/>
                <a:gridCol w="1143000"/>
                <a:gridCol w="1218960"/>
                <a:gridCol w="1219320"/>
              </a:tblGrid>
              <a:tr h="305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HM7.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Method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Method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8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Max_total_bi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8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Max_ctx_bi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Max_bypass_bi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7T20:05:40Z</dcterms:created>
  <dc:creator>lkerofsky</dc:creator>
  <dc:description/>
  <dc:language>en-US</dc:language>
  <cp:lastModifiedBy>Seung-Hwan (David) Kim</cp:lastModifiedBy>
  <dcterms:modified xsi:type="dcterms:W3CDTF">2012-07-11T17:19:42Z</dcterms:modified>
  <cp:revision>965</cp:revision>
  <dc:subject/>
  <dc:title>Slide 1</dc:title>
</cp:coreProperties>
</file>