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F64-ACA2-40BA-8FEE-44079171E5E9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8F87-911E-47E3-A07B-F59B6321C3D9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77CA-80F6-48FD-90B6-CF1E0ED29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D23E-5C85-4B94-83C9-2EF8369DB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E6A7-CA7C-4230-B780-993144713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DAB2-5F8A-4E2A-84A5-9A1218C50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414F-D32A-406E-9F79-37EAF67C0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BF70-7FB6-4D14-993C-3B9B69C20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28AF-9FAF-47D4-B0C8-9D3BFA234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4FCE-69C1-400F-94E8-596F46D2C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ADC4-6C2B-4D10-B015-32BA41097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D417-6475-421C-A9F3-CF43B7F1C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9526-1BBC-4D2D-B699-91491468F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2EEF-D744-4994-B488-1EFED3AE2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A06D-8631-4AB2-8E5B-2C12213683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HY헤드라인M"/>
              </a:rPr>
              <a:t>On Frame Packing Arrangement SE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ongdoo Choi, Chanyul Kim, Jaehyun Kim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uly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080" y="1033200"/>
            <a:ext cx="88534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s on full resolution frame compatible 3D deli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Compatible with ‘legacy 3D service’ :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Base only : Half resolution 3D (frame compatible, e.g. Side-by-Side format)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Base + enhancement layer : Full resolution 3D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Requirement from DVB-3DTV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DVB-3DTV phase 2b : ‘Legacy 3D service (frame-compatible) compatibility’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Phase 1 receiver : frame-compatible 3D video using the same broadcast Phase 2b receiver : enhanced quality 3D video.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MPEG frame compatible (MFC)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Preparing the CfP for full resolution 3D compatible with the legacy 3D system.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High-efficiency 3D solution with a lot of new coding tools will be investigated, however the standardization will be finished 2 years later.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074240" indent="-21456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698400" indent="-26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We propose a 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  <a:ea typeface="HY헤드라인M"/>
              </a:rPr>
              <a:t>Frame Packing Arrangement SEI for full resolution 3D</a:t>
            </a:r>
            <a:br>
              <a:rPr sz="2000"/>
            </a:br>
            <a:r>
              <a:rPr b="0" lang="en-US" sz="2000" spc="-1" strike="noStrike">
                <a:solidFill>
                  <a:srgbClr val="2d2db9"/>
                </a:solidFill>
                <a:latin typeface="Tahoma"/>
                <a:ea typeface="HY헤드라인M"/>
              </a:rPr>
              <a:t>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as a prompt/simple solution in respond to DVB-3DTV Phase 2b.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1F98-BCE7-4BDF-9C23-AED19FAE3F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아래쪽 화살표 4"/>
          <p:cNvSpPr/>
          <p:nvPr/>
        </p:nvSpPr>
        <p:spPr>
          <a:xfrm>
            <a:off x="4071960" y="4791240"/>
            <a:ext cx="8571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ame compatible full resolution 3D delivery in the scalable man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figure illustrates conceptually how to arrange the base and enhancement layers for scalable frame packing 3D data to support the full re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39A-D566-46A0-A735-219A8B3C8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개체 3" descr=""/>
          <p:cNvPicPr/>
          <p:nvPr/>
        </p:nvPicPr>
        <p:blipFill>
          <a:blip r:embed="rId1"/>
          <a:srcRect l="-929" t="0" r="-621" b="-385"/>
          <a:stretch/>
        </p:blipFill>
        <p:spPr>
          <a:xfrm>
            <a:off x="395280" y="2276640"/>
            <a:ext cx="7848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I message for frame compatible full resolution 3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Utilization of temporal layer id: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Half resolution 3D data is transmitted in the base temporal layer (temporal_id = 0)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If the base layer is only received and decoded, the half resolution 3D data is reconstructed.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The complementary half resolution 3D data is transmitted in the second temporal layer (temporal_id = 1).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If all two layers are received and decoded, the full resolution 3D data can be reconstructed.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EAD4-B1D5-4839-AAD0-06A5469A46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alable arrangement using temporal layer ID in case of Side-by-Side frame packing meth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355-6174-4456-B0F5-027BE7791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개체 4"/>
          <p:cNvGraphicFramePr/>
          <p:nvPr/>
        </p:nvGraphicFramePr>
        <p:xfrm>
          <a:off x="1692360" y="765000"/>
          <a:ext cx="515304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개체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15304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CD7-1FCB-40D4-89CE-D44957FC2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내용 개체 틀 6" descr=""/>
          <p:cNvPicPr/>
          <p:nvPr/>
        </p:nvPicPr>
        <p:blipFill>
          <a:blip r:embed="rId1"/>
          <a:stretch/>
        </p:blipFill>
        <p:spPr>
          <a:xfrm>
            <a:off x="1616040" y="792000"/>
            <a:ext cx="5065920" cy="58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emantic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se_temporal_layer_for_fullresolution_flag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qual to 1 indicates the temporal layers are used for the f</a:t>
            </a:r>
            <a:r>
              <a:rPr b="0" lang="en-CA" sz="1100" spc="-1" strike="noStrike">
                <a:solidFill>
                  <a:srgbClr val="000000"/>
                </a:solidFill>
                <a:latin typeface="Tahoma"/>
              </a:rPr>
              <a:t>rame packing for full resolution 3D. In t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e base temporal layer (temporal_id = 0), the half resolution 3D is frame-packed. </a:t>
            </a:r>
            <a:r>
              <a:rPr b="0" lang="en-CA" sz="1100" spc="-1" strike="noStrike">
                <a:solidFill>
                  <a:srgbClr val="000000"/>
                </a:solidFill>
                <a:latin typeface="Tahoma"/>
              </a:rPr>
              <a:t>In t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e second temporal layer (temporal_id = 1), the complementary data of the base layer is frame-packed in the same way. The second temporal layer can be extracted or not for full or half resolution 3D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emporal_id_one_is_complementary_data_flag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equal to 1, when frame_packing_arrangement is not equal to 5, indicates that the decoded frame in the second temporal layer (temporal_id = 1) is the complementary data of the previous frame in the base temporal layer (temporal_id = 0). The complementary data is used for the full resolution 3D reconstruction. temporal_id_one_is_complementary_data_flag equal to 0 indicates the decoded frame in the second temporal layer (temporal_id = 1) is associated with the upper-left sample of the original video when frame_packing_arrangement is not equal to 5, and the decoded frame in the base temporal layer (temporal_id = 0) is the complementary data. When frame_packing_arrangement is equal to 5, temporal_id_one_is_complementary_data_flag shall be equal to 0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emporal_id_one_is_frame1_flag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equal to 1, when frame_packing_arrangement is equal to 5, indicates that the decoded frame in the second temporal layer (temporal_id = 1) is constituent frame 1 and the previous decoded frame in the base temporal layer (temporal_id = 0) is constituent frame 0, and the display time of the constituent frame 0 should be delayed to coincide with the display time of constituent frame 1. temporal_id_one_is_frame1_flag equal to 1, when frame_packing_arrangement is equal to 5, indicates that the current decoded frame in the second temporal layer is constituent frame 1 and the previous decoded frame in the base temporal layer (temporal_id = 0) is constituent frame 0, and the display time of the constituent frame 1 should not be delayed for purposes of stereo-view pairing. When frame_packing_arrangement_type is not equal to 5, it is a requirement of bitstream conformance that temporal_id_one_is_frame1_flag shall be equal to 0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emporal_id_one_is_self_contained_flag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qual to 1 indicates that no inter prediction operations within the decoding process for the samples of the second temporal layer (temporal_id = 1) refer to samples of the base temporal layer (temporal_id = 0). frame1_self_contained_flag equal to 0 indicates that some inter prediction operations within the decoding process for the samples of the second temporal layer (temporal_id = 1) may or may not refer to samples of the base temporal layer (temporal_id = 0)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urrent_frame_is_complementary_data_flag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equal to 1, when frame_packing_arrangement is not equal to 5, indicates that the current decoded frame is the complementary data of the same POC frame in another bitstream which is also frame-packed 3D video stream. The complementary data is used for the full resolution 3D reconstruction. current_frame_is_complementary_data_flag equal to 0 indicates the current frame-packed data is associated with the upper-left sample of the original video when frame_packing_arrangement is not equal to 5. When frame_packing_arrangement is not equal to 5, current_frame_is_complementary_data_flag shall be equal to 0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76FC-1057-4031-A9F1-A1510EE2B0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6036-BCE6-4AF6-8BD9-60658BCB7A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</a:t>
            </a:r>
            <a:r>
              <a:rPr b="0" lang="en-US" sz="2000" spc="-1" strike="noStrike">
                <a:solidFill>
                  <a:srgbClr val="2d2db9"/>
                </a:solidFill>
                <a:latin typeface="Tahoma"/>
                <a:ea typeface="HY헤드라인M"/>
              </a:rPr>
              <a:t>Frame Packing Arrangement SEI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upport the full resolution 3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upport the compatibility with the frame compatible 3D (side-by-side)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For simplicity, the temporal_id is used for the resolution scalability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Respond to the requirement of DVB 3DTV phase 2b with only change of the SEI message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B30B-D837-45F5-A91D-695DF85050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BDCHOI</cp:lastModifiedBy>
  <dcterms:modified xsi:type="dcterms:W3CDTF">2012-07-10T05:56:10Z</dcterms:modified>
  <cp:revision>4606</cp:revision>
  <dc:subject/>
  <dc:title>Visual SNHC Tools</dc:title>
</cp:coreProperties>
</file>