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356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59360" y="-360"/>
            <a:ext cx="3024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23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356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59360" y="9713520"/>
            <a:ext cx="3024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BACA-0ADA-4A3C-A7BC-FB9CDB38D0FD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059360" y="9713880"/>
            <a:ext cx="3024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052C-11F0-4038-98D5-5B103B1A6FB4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0144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D3D2-8808-40BB-86E5-84AAA009E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B16F-0308-4048-9641-ADC6A3422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191D-9839-46E6-AAAF-9B1F57121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8915-10DA-4571-A058-B35CE4D1F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1EBB-3542-4B30-90DB-B0BD36249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90C9-A1F6-4AF9-BDC6-A4551D805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6DB8-CAD1-48A6-A582-E29309781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287D-4F50-4917-BC19-9EED7F3F3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FBB5-65B2-4878-8E1E-B5E3D4665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FD22F-9775-4770-A6C3-819DDCF3D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6359-9694-41D2-933B-8D334E0D6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5E1B-2084-422E-9AA2-AFDF2D836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75B9-7A08-4FC4-8B4E-365E6F39F8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ahoma"/>
                <a:ea typeface="HY헤드라인M"/>
              </a:rPr>
              <a:t>On Temporal Layer Access  Pictur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eongdoo Choi, Youngo Park, Ilkoo Kim, Jaehyun Kim, Jeonghoon Pa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July, 20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 pi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CRA picture with ‘broken link’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TFD pictures associated with the BLA cannot be correctly decoded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   </a:t>
            </a: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-&gt; will be discarded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oral layer swit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TLA picture : temporal layer access (from lower layer to higher layer)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Leading pictures associated with the TLA pictures are present, those pictures cannot be correctly decoded when the temporal layer switching is performed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     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8b"/>
                </a:solidFill>
                <a:latin typeface="맑은 고딕"/>
              </a:rPr>
              <a:t>Needs on new picture type for temporal layer access with broken link or temporal layer switching</a:t>
            </a:r>
            <a:br>
              <a:rPr sz="2000"/>
            </a:br>
            <a:endParaRPr b="0" lang="en-US" sz="20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D8FC-52A0-4956-898B-86EF05B24C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아래쪽 화살표 4"/>
          <p:cNvSpPr/>
          <p:nvPr/>
        </p:nvSpPr>
        <p:spPr>
          <a:xfrm>
            <a:off x="4071960" y="4143240"/>
            <a:ext cx="85716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87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ading pictures associated with TLA pictur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eading pictures, which are associated with the previous TLA picture in decoding order and precedes the TLA picture in output order, can be presen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BAF7-3A5C-4941-8EB9-80233E1C68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그룹 38"/>
          <p:cNvGrpSpPr/>
          <p:nvPr/>
        </p:nvGrpSpPr>
        <p:grpSpPr>
          <a:xfrm>
            <a:off x="38520" y="1951200"/>
            <a:ext cx="9008640" cy="3511440"/>
            <a:chOff x="38520" y="1951200"/>
            <a:chExt cx="9008640" cy="3511440"/>
          </a:xfrm>
        </p:grpSpPr>
        <p:sp>
          <p:nvSpPr>
            <p:cNvPr id="100" name="모서리가 둥근 직사각형 39"/>
            <p:cNvSpPr/>
            <p:nvPr/>
          </p:nvSpPr>
          <p:spPr>
            <a:xfrm>
              <a:off x="605520" y="4641480"/>
              <a:ext cx="8441640" cy="8211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모서리가 둥근 직사각형 40"/>
            <p:cNvSpPr/>
            <p:nvPr/>
          </p:nvSpPr>
          <p:spPr>
            <a:xfrm>
              <a:off x="605520" y="2246040"/>
              <a:ext cx="8441640" cy="2364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직사각형 41"/>
            <p:cNvSpPr/>
            <p:nvPr/>
          </p:nvSpPr>
          <p:spPr>
            <a:xfrm>
              <a:off x="1316880" y="4674960"/>
              <a:ext cx="517320" cy="68436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직사각형 42"/>
            <p:cNvSpPr/>
            <p:nvPr/>
          </p:nvSpPr>
          <p:spPr>
            <a:xfrm>
              <a:off x="4063680" y="3888720"/>
              <a:ext cx="517320" cy="684360"/>
            </a:xfrm>
            <a:prstGeom prst="rect">
              <a:avLst/>
            </a:prstGeom>
            <a:solidFill>
              <a:srgbClr val="fac0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직사각형 43"/>
            <p:cNvSpPr/>
            <p:nvPr/>
          </p:nvSpPr>
          <p:spPr>
            <a:xfrm>
              <a:off x="2036880" y="2314440"/>
              <a:ext cx="517320" cy="68436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직사각형 44"/>
            <p:cNvSpPr/>
            <p:nvPr/>
          </p:nvSpPr>
          <p:spPr>
            <a:xfrm>
              <a:off x="2752200" y="3135600"/>
              <a:ext cx="517320" cy="68436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직사각형 45"/>
            <p:cNvSpPr/>
            <p:nvPr/>
          </p:nvSpPr>
          <p:spPr>
            <a:xfrm>
              <a:off x="3408840" y="2314440"/>
              <a:ext cx="517320" cy="684360"/>
            </a:xfrm>
            <a:prstGeom prst="rect">
              <a:avLst/>
            </a:prstGeom>
            <a:solidFill>
              <a:srgbClr val="ebf1d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" name="직선 화살표 연결선 46"/>
            <p:cNvCxnSpPr/>
            <p:nvPr/>
          </p:nvCxnSpPr>
          <p:spPr>
            <a:xfrm flipV="1">
              <a:off x="1549080" y="2998080"/>
              <a:ext cx="682200" cy="1643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직선 화살표 연결선 47"/>
            <p:cNvCxnSpPr/>
            <p:nvPr/>
          </p:nvCxnSpPr>
          <p:spPr>
            <a:xfrm flipV="1">
              <a:off x="1874160" y="3819600"/>
              <a:ext cx="835200" cy="865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직선 화살표 연결선 48"/>
            <p:cNvCxnSpPr/>
            <p:nvPr/>
          </p:nvCxnSpPr>
          <p:spPr>
            <a:xfrm flipV="1">
              <a:off x="1906200" y="4435920"/>
              <a:ext cx="2097360" cy="479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직선 화살표 연결선 49"/>
            <p:cNvCxnSpPr/>
            <p:nvPr/>
          </p:nvCxnSpPr>
          <p:spPr>
            <a:xfrm flipH="1" flipV="1">
              <a:off x="2392560" y="3014640"/>
              <a:ext cx="341280" cy="317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직선 화살표 연결선 50"/>
            <p:cNvCxnSpPr/>
            <p:nvPr/>
          </p:nvCxnSpPr>
          <p:spPr>
            <a:xfrm flipH="1" flipV="1">
              <a:off x="3723840" y="3006360"/>
              <a:ext cx="409320" cy="821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TextBox 76"/>
            <p:cNvSpPr/>
            <p:nvPr/>
          </p:nvSpPr>
          <p:spPr>
            <a:xfrm>
              <a:off x="4024800" y="3554640"/>
              <a:ext cx="6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TL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Box 77"/>
            <p:cNvSpPr/>
            <p:nvPr/>
          </p:nvSpPr>
          <p:spPr>
            <a:xfrm>
              <a:off x="38520" y="3135600"/>
              <a:ext cx="13420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emporal_id &gt; 0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Box 78"/>
            <p:cNvSpPr/>
            <p:nvPr/>
          </p:nvSpPr>
          <p:spPr>
            <a:xfrm>
              <a:off x="46440" y="4778280"/>
              <a:ext cx="13420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emporal_id = 0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직사각형 54"/>
            <p:cNvSpPr/>
            <p:nvPr/>
          </p:nvSpPr>
          <p:spPr>
            <a:xfrm>
              <a:off x="6866280" y="4685040"/>
              <a:ext cx="517320" cy="68436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직선 화살표 연결선 55"/>
            <p:cNvCxnSpPr/>
            <p:nvPr/>
          </p:nvCxnSpPr>
          <p:spPr>
            <a:xfrm flipV="1">
              <a:off x="3304440" y="2998080"/>
              <a:ext cx="273240" cy="319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직사각형 56"/>
            <p:cNvSpPr/>
            <p:nvPr/>
          </p:nvSpPr>
          <p:spPr>
            <a:xfrm>
              <a:off x="4703040" y="2314440"/>
              <a:ext cx="517320" cy="68436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직사각형 57"/>
            <p:cNvSpPr/>
            <p:nvPr/>
          </p:nvSpPr>
          <p:spPr>
            <a:xfrm>
              <a:off x="5418360" y="3135600"/>
              <a:ext cx="517320" cy="68436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직사각형 58"/>
            <p:cNvSpPr/>
            <p:nvPr/>
          </p:nvSpPr>
          <p:spPr>
            <a:xfrm>
              <a:off x="6075000" y="2314440"/>
              <a:ext cx="517320" cy="68436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직선 화살표 연결선 59"/>
            <p:cNvCxnSpPr/>
            <p:nvPr/>
          </p:nvCxnSpPr>
          <p:spPr>
            <a:xfrm flipV="1">
              <a:off x="4611600" y="3775680"/>
              <a:ext cx="762120" cy="341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직선 화살표 연결선 60"/>
            <p:cNvCxnSpPr/>
            <p:nvPr/>
          </p:nvCxnSpPr>
          <p:spPr>
            <a:xfrm flipH="1" flipV="1">
              <a:off x="5059080" y="3014640"/>
              <a:ext cx="341280" cy="317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직선 화살표 연결선 61"/>
            <p:cNvCxnSpPr/>
            <p:nvPr/>
          </p:nvCxnSpPr>
          <p:spPr>
            <a:xfrm flipH="1" flipV="1">
              <a:off x="6390360" y="3014640"/>
              <a:ext cx="748440" cy="1634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직선 화살표 연결선 62"/>
            <p:cNvCxnSpPr/>
            <p:nvPr/>
          </p:nvCxnSpPr>
          <p:spPr>
            <a:xfrm flipV="1">
              <a:off x="5970960" y="2998080"/>
              <a:ext cx="273240" cy="319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직선 화살표 연결선 63"/>
            <p:cNvCxnSpPr/>
            <p:nvPr/>
          </p:nvCxnSpPr>
          <p:spPr>
            <a:xfrm flipV="1">
              <a:off x="4547880" y="3006720"/>
              <a:ext cx="273240" cy="813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직선 화살표 연결선 64"/>
            <p:cNvCxnSpPr/>
            <p:nvPr/>
          </p:nvCxnSpPr>
          <p:spPr>
            <a:xfrm>
              <a:off x="1891080" y="5052240"/>
              <a:ext cx="4975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6" name="직사각형 65"/>
            <p:cNvSpPr/>
            <p:nvPr/>
          </p:nvSpPr>
          <p:spPr>
            <a:xfrm>
              <a:off x="7650360" y="2314440"/>
              <a:ext cx="517320" cy="68436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직사각형 66"/>
            <p:cNvSpPr/>
            <p:nvPr/>
          </p:nvSpPr>
          <p:spPr>
            <a:xfrm>
              <a:off x="8365680" y="3135600"/>
              <a:ext cx="517320" cy="68436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직선 화살표 연결선 67"/>
            <p:cNvCxnSpPr/>
            <p:nvPr/>
          </p:nvCxnSpPr>
          <p:spPr>
            <a:xfrm flipV="1">
              <a:off x="7162920" y="2998080"/>
              <a:ext cx="682200" cy="1643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직선 화살표 연결선 68"/>
            <p:cNvCxnSpPr/>
            <p:nvPr/>
          </p:nvCxnSpPr>
          <p:spPr>
            <a:xfrm flipV="1">
              <a:off x="7411680" y="3819600"/>
              <a:ext cx="911520" cy="890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직선 화살표 연결선 69"/>
            <p:cNvCxnSpPr/>
            <p:nvPr/>
          </p:nvCxnSpPr>
          <p:spPr>
            <a:xfrm flipH="1" flipV="1">
              <a:off x="8006400" y="3014640"/>
              <a:ext cx="341280" cy="317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직선 화살표 연결선 70"/>
            <p:cNvCxnSpPr>
              <a:endCxn id="100" idx="3"/>
            </p:cNvCxnSpPr>
            <p:nvPr/>
          </p:nvCxnSpPr>
          <p:spPr>
            <a:xfrm>
              <a:off x="7411320" y="5052240"/>
              <a:ext cx="163620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TextBox 146"/>
            <p:cNvSpPr/>
            <p:nvPr/>
          </p:nvSpPr>
          <p:spPr>
            <a:xfrm>
              <a:off x="2585520" y="1951200"/>
              <a:ext cx="217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Leading picture of TLA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A picture with ‘broken link’ : BLT pi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The leading pictures associated with the TLA picture are marked as the TFD pictures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When a temporal layer switching is performed, the TLA picture is changed to the BLT picture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In decoders, the TFD pictures associated with the BLT pictures will be discarded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DCE5-9EE7-4381-AC58-53F9B82CD9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LT picture and the associated TFD pictur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eading pictures, which are associated with the previous TLA picture in decoding order and precedes the TLA picture in output order, can be presen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3B93-BD09-4232-95C8-B4856A5446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그룹 109"/>
          <p:cNvGrpSpPr/>
          <p:nvPr/>
        </p:nvGrpSpPr>
        <p:grpSpPr>
          <a:xfrm>
            <a:off x="-66240" y="2055960"/>
            <a:ext cx="9210240" cy="4325040"/>
            <a:chOff x="-66240" y="2055960"/>
            <a:chExt cx="9210240" cy="4325040"/>
          </a:xfrm>
        </p:grpSpPr>
        <p:sp>
          <p:nvSpPr>
            <p:cNvPr id="144" name="타원 110"/>
            <p:cNvSpPr/>
            <p:nvPr/>
          </p:nvSpPr>
          <p:spPr>
            <a:xfrm>
              <a:off x="3072960" y="2362320"/>
              <a:ext cx="1186560" cy="1071360"/>
            </a:xfrm>
            <a:prstGeom prst="ellipse">
              <a:avLst/>
            </a:pr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그룹 111"/>
            <p:cNvGrpSpPr/>
            <p:nvPr/>
          </p:nvGrpSpPr>
          <p:grpSpPr>
            <a:xfrm>
              <a:off x="-66240" y="2055960"/>
              <a:ext cx="9210240" cy="4325040"/>
              <a:chOff x="-66240" y="2055960"/>
              <a:chExt cx="9210240" cy="4325040"/>
            </a:xfrm>
          </p:grpSpPr>
          <p:sp>
            <p:nvSpPr>
              <p:cNvPr id="146" name="모서리가 둥근 직사각형 117"/>
              <p:cNvSpPr/>
              <p:nvPr/>
            </p:nvSpPr>
            <p:spPr>
              <a:xfrm>
                <a:off x="497880" y="4941000"/>
                <a:ext cx="8646120" cy="85716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모서리가 둥근 직사각형 118"/>
              <p:cNvSpPr/>
              <p:nvPr/>
            </p:nvSpPr>
            <p:spPr>
              <a:xfrm>
                <a:off x="497880" y="2369520"/>
                <a:ext cx="8646120" cy="2539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직사각형 119"/>
              <p:cNvSpPr/>
              <p:nvPr/>
            </p:nvSpPr>
            <p:spPr>
              <a:xfrm>
                <a:off x="1226520" y="4975920"/>
                <a:ext cx="529920" cy="714240"/>
              </a:xfrm>
              <a:prstGeom prst="rect">
                <a:avLst/>
              </a:prstGeom>
              <a:solidFill>
                <a:srgbClr val="dce6f2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I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직사각형 120"/>
              <p:cNvSpPr/>
              <p:nvPr/>
            </p:nvSpPr>
            <p:spPr>
              <a:xfrm>
                <a:off x="4039920" y="4155120"/>
                <a:ext cx="529920" cy="714240"/>
              </a:xfrm>
              <a:prstGeom prst="rect">
                <a:avLst/>
              </a:prstGeom>
              <a:solidFill>
                <a:srgbClr val="fac09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P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직사각형 121"/>
              <p:cNvSpPr/>
              <p:nvPr/>
            </p:nvSpPr>
            <p:spPr>
              <a:xfrm>
                <a:off x="3369240" y="2512440"/>
                <a:ext cx="529920" cy="714240"/>
              </a:xfrm>
              <a:prstGeom prst="rect">
                <a:avLst/>
              </a:prstGeom>
              <a:solidFill>
                <a:srgbClr val="ebf1de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B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1" name="직선 화살표 연결선 122"/>
              <p:cNvCxnSpPr/>
              <p:nvPr/>
            </p:nvCxnSpPr>
            <p:spPr>
              <a:xfrm flipV="1">
                <a:off x="1830600" y="4726080"/>
                <a:ext cx="2148480" cy="5007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2" name="직선 화살표 연결선 123"/>
              <p:cNvCxnSpPr/>
              <p:nvPr/>
            </p:nvCxnSpPr>
            <p:spPr>
              <a:xfrm flipH="1" flipV="1">
                <a:off x="3691800" y="3234600"/>
                <a:ext cx="419400" cy="857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53" name="TextBox 77"/>
              <p:cNvSpPr/>
              <p:nvPr/>
            </p:nvSpPr>
            <p:spPr>
              <a:xfrm>
                <a:off x="-66240" y="3369600"/>
                <a:ext cx="1342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temporal_id &gt; 0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Box 78"/>
              <p:cNvSpPr/>
              <p:nvPr/>
            </p:nvSpPr>
            <p:spPr>
              <a:xfrm>
                <a:off x="-57960" y="5083920"/>
                <a:ext cx="1342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temporal_id = 0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직사각형 126"/>
              <p:cNvSpPr/>
              <p:nvPr/>
            </p:nvSpPr>
            <p:spPr>
              <a:xfrm>
                <a:off x="6910560" y="4986360"/>
                <a:ext cx="529920" cy="714240"/>
              </a:xfrm>
              <a:prstGeom prst="rect">
                <a:avLst/>
              </a:prstGeom>
              <a:solidFill>
                <a:srgbClr val="dce6f2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P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6" name="직선 화살표 연결선 127"/>
              <p:cNvCxnSpPr/>
              <p:nvPr/>
            </p:nvCxnSpPr>
            <p:spPr>
              <a:xfrm flipV="1">
                <a:off x="3000960" y="3226320"/>
                <a:ext cx="541800" cy="3578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57" name="직사각형 128"/>
              <p:cNvSpPr/>
              <p:nvPr/>
            </p:nvSpPr>
            <p:spPr>
              <a:xfrm>
                <a:off x="4694760" y="2512440"/>
                <a:ext cx="529920" cy="714240"/>
              </a:xfrm>
              <a:prstGeom prst="rect">
                <a:avLst/>
              </a:prstGeom>
              <a:solidFill>
                <a:srgbClr val="dce6f2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B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직사각형 129"/>
              <p:cNvSpPr/>
              <p:nvPr/>
            </p:nvSpPr>
            <p:spPr>
              <a:xfrm>
                <a:off x="5427360" y="3369600"/>
                <a:ext cx="529920" cy="714240"/>
              </a:xfrm>
              <a:prstGeom prst="rect">
                <a:avLst/>
              </a:prstGeom>
              <a:solidFill>
                <a:srgbClr val="dce6f2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P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직사각형 130"/>
              <p:cNvSpPr/>
              <p:nvPr/>
            </p:nvSpPr>
            <p:spPr>
              <a:xfrm>
                <a:off x="6100200" y="2512440"/>
                <a:ext cx="529920" cy="714240"/>
              </a:xfrm>
              <a:prstGeom prst="rect">
                <a:avLst/>
              </a:prstGeom>
              <a:solidFill>
                <a:srgbClr val="dce6f2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B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0" name="직선 화살표 연결선 131"/>
              <p:cNvCxnSpPr/>
              <p:nvPr/>
            </p:nvCxnSpPr>
            <p:spPr>
              <a:xfrm flipV="1">
                <a:off x="4601520" y="4037040"/>
                <a:ext cx="780480" cy="3560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1" name="직선 화살표 연결선 132"/>
              <p:cNvCxnSpPr/>
              <p:nvPr/>
            </p:nvCxnSpPr>
            <p:spPr>
              <a:xfrm flipH="1" flipV="1">
                <a:off x="5059080" y="3243240"/>
                <a:ext cx="349560" cy="3315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2" name="직선 화살표 연결선 133"/>
              <p:cNvCxnSpPr/>
              <p:nvPr/>
            </p:nvCxnSpPr>
            <p:spPr>
              <a:xfrm flipH="1" flipV="1">
                <a:off x="6423120" y="3243600"/>
                <a:ext cx="766800" cy="17064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3" name="직선 화살표 연결선 134"/>
              <p:cNvCxnSpPr/>
              <p:nvPr/>
            </p:nvCxnSpPr>
            <p:spPr>
              <a:xfrm flipV="1">
                <a:off x="5993280" y="3226320"/>
                <a:ext cx="279720" cy="3333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4" name="직선 화살표 연결선 135"/>
              <p:cNvCxnSpPr/>
              <p:nvPr/>
            </p:nvCxnSpPr>
            <p:spPr>
              <a:xfrm flipV="1">
                <a:off x="4536000" y="3234960"/>
                <a:ext cx="279720" cy="848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5" name="직선 화살표 연결선 136"/>
              <p:cNvCxnSpPr/>
              <p:nvPr/>
            </p:nvCxnSpPr>
            <p:spPr>
              <a:xfrm>
                <a:off x="1814760" y="5369760"/>
                <a:ext cx="509616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66" name="직사각형 137"/>
              <p:cNvSpPr/>
              <p:nvPr/>
            </p:nvSpPr>
            <p:spPr>
              <a:xfrm>
                <a:off x="7713720" y="2512440"/>
                <a:ext cx="529920" cy="714240"/>
              </a:xfrm>
              <a:prstGeom prst="rect">
                <a:avLst/>
              </a:prstGeom>
              <a:solidFill>
                <a:srgbClr val="dce6f2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B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직사각형 138"/>
              <p:cNvSpPr/>
              <p:nvPr/>
            </p:nvSpPr>
            <p:spPr>
              <a:xfrm>
                <a:off x="8445960" y="3369600"/>
                <a:ext cx="529920" cy="714240"/>
              </a:xfrm>
              <a:prstGeom prst="rect">
                <a:avLst/>
              </a:prstGeom>
              <a:solidFill>
                <a:srgbClr val="dce6f2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P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8" name="직선 화살표 연결선 139"/>
              <p:cNvCxnSpPr/>
              <p:nvPr/>
            </p:nvCxnSpPr>
            <p:spPr>
              <a:xfrm flipV="1">
                <a:off x="7214040" y="3226320"/>
                <a:ext cx="698760" cy="17150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9" name="직선 화살표 연결선 140"/>
              <p:cNvCxnSpPr/>
              <p:nvPr/>
            </p:nvCxnSpPr>
            <p:spPr>
              <a:xfrm flipV="1">
                <a:off x="7468560" y="4083120"/>
                <a:ext cx="933480" cy="929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0" name="직선 화살표 연결선 141"/>
              <p:cNvCxnSpPr/>
              <p:nvPr/>
            </p:nvCxnSpPr>
            <p:spPr>
              <a:xfrm flipH="1" flipV="1">
                <a:off x="8077680" y="3243240"/>
                <a:ext cx="349560" cy="3315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1" name="직선 화살표 연결선 142"/>
              <p:cNvCxnSpPr>
                <a:endCxn id="146" idx="3"/>
              </p:cNvCxnSpPr>
              <p:nvPr/>
            </p:nvCxnSpPr>
            <p:spPr>
              <a:xfrm>
                <a:off x="7468560" y="5369760"/>
                <a:ext cx="167580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2" name="TextBox 48"/>
              <p:cNvSpPr/>
              <p:nvPr/>
            </p:nvSpPr>
            <p:spPr>
              <a:xfrm>
                <a:off x="2777040" y="6012720"/>
                <a:ext cx="304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temporal layer switching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Box 39"/>
              <p:cNvSpPr/>
              <p:nvPr/>
            </p:nvSpPr>
            <p:spPr>
              <a:xfrm>
                <a:off x="3363480" y="2055960"/>
                <a:ext cx="60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TFD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Box 50"/>
              <p:cNvSpPr/>
              <p:nvPr/>
            </p:nvSpPr>
            <p:spPr>
              <a:xfrm>
                <a:off x="4001040" y="3710880"/>
                <a:ext cx="5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BLT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타원 112"/>
            <p:cNvSpPr/>
            <p:nvPr/>
          </p:nvSpPr>
          <p:spPr>
            <a:xfrm>
              <a:off x="3699360" y="4012560"/>
              <a:ext cx="1186560" cy="1071360"/>
            </a:xfrm>
            <a:prstGeom prst="ellipse">
              <a:avLst/>
            </a:pr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6" name="직선 화살표 연결선 113"/>
            <p:cNvCxnSpPr/>
            <p:nvPr/>
          </p:nvCxnSpPr>
          <p:spPr>
            <a:xfrm flipV="1">
              <a:off x="3628440" y="4869720"/>
              <a:ext cx="559080" cy="1143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grpSp>
          <p:nvGrpSpPr>
            <p:cNvPr id="177" name="그룹 114"/>
            <p:cNvGrpSpPr/>
            <p:nvPr/>
          </p:nvGrpSpPr>
          <p:grpSpPr>
            <a:xfrm>
              <a:off x="3131640" y="3326040"/>
              <a:ext cx="209520" cy="214200"/>
              <a:chOff x="3131640" y="3326040"/>
              <a:chExt cx="209520" cy="214200"/>
            </a:xfrm>
          </p:grpSpPr>
          <p:sp>
            <p:nvSpPr>
              <p:cNvPr id="178" name="직선 연결선 115"/>
              <p:cNvSpPr/>
              <p:nvPr/>
            </p:nvSpPr>
            <p:spPr>
              <a:xfrm>
                <a:off x="3131640" y="3326040"/>
                <a:ext cx="209160" cy="21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직선 연결선 116"/>
              <p:cNvSpPr/>
              <p:nvPr/>
            </p:nvSpPr>
            <p:spPr>
              <a:xfrm flipH="1">
                <a:off x="3132000" y="3326040"/>
                <a:ext cx="209160" cy="21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yntax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F6F6-A5EC-469E-A095-FAF4AB43CA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내용 개체 틀 4" descr=""/>
          <p:cNvPicPr/>
          <p:nvPr/>
        </p:nvPicPr>
        <p:blipFill>
          <a:blip r:embed="rId1"/>
          <a:stretch/>
        </p:blipFill>
        <p:spPr>
          <a:xfrm>
            <a:off x="1968480" y="1176480"/>
            <a:ext cx="5187960" cy="4578120"/>
          </a:xfrm>
          <a:prstGeom prst="rect">
            <a:avLst/>
          </a:prstGeom>
          <a:ln w="0">
            <a:noFill/>
          </a:ln>
        </p:spPr>
      </p:pic>
      <p:sp>
        <p:nvSpPr>
          <p:cNvPr id="183" name="직사각형 6"/>
          <p:cNvSpPr/>
          <p:nvPr/>
        </p:nvSpPr>
        <p:spPr>
          <a:xfrm>
            <a:off x="1258920" y="5589720"/>
            <a:ext cx="712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BLT picture having nal_unit_type equal to 9 may have associated TFD pictures present in the bitstream. A BLT picture having nal_unit_type equal to 10 does not have associated TFD pictures present in the bitstream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직사각형 7"/>
          <p:cNvSpPr/>
          <p:nvPr/>
        </p:nvSpPr>
        <p:spPr>
          <a:xfrm>
            <a:off x="2432880" y="858960"/>
            <a:ext cx="42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AL unit type codes and NAL unit type class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8E29-36F5-4A2C-9C5A-6B3B4C9BFB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picture type for temporal layer access with ‘broken link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When the temporal layer switching is performed, the upper layer may have a broken link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Similarly to the CRA picture, the leading pictures associated with the TLA picture are marked as the TFD pictures for easy discarding in systems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The TLA picture when the temporal layer switching occurs is marked as the BLT picture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In decoders, the TFD pictures can be discarded before decoding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737E-CA77-4956-B70A-91938EAD00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BDCHOI</cp:lastModifiedBy>
  <dcterms:modified xsi:type="dcterms:W3CDTF">2012-07-10T07:31:34Z</dcterms:modified>
  <cp:revision>4592</cp:revision>
  <dc:subject/>
  <dc:title>Visual SNHC Tools</dc:title>
</cp:coreProperties>
</file>