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22AF9-127C-45A6-830C-EF03BDE33C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13FA5-2FB8-450B-973B-A72463029B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63029-A7D4-4C73-99BA-5A39E91C58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841D4-7B11-45F5-A7A3-DBEF381896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68C4A-D3D6-457D-88D5-111F00F9DE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44537-6DFB-4222-88DC-F896D0EFA3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A3652-AE9E-40E0-8E69-C042AC6BCB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7A3DC-BB34-4833-9063-640DD8611C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E0495-6EA0-4C1B-8BA9-5761BC5D02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DC0F7-77F0-4BA3-9A8B-1C85EA1734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CB31C-E5A2-4173-AA23-50EEC8EAAF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DC33E-B100-4188-A089-93F517847A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wmf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304920"/>
              <a:ext cx="9144000" cy="6400800"/>
              <a:chOff x="0" y="304920"/>
              <a:chExt cx="9144000" cy="64008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3049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9144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12193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15238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18288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21337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24382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27432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0481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526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6576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39625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42670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45720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48769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1814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4864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7913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60958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64008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67057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4" name=""/>
            <p:cNvGrpSpPr/>
            <p:nvPr/>
          </p:nvGrpSpPr>
          <p:grpSpPr>
            <a:xfrm>
              <a:off x="304920" y="0"/>
              <a:ext cx="8534160" cy="6858000"/>
              <a:chOff x="304920" y="0"/>
              <a:chExt cx="8534160" cy="6858000"/>
            </a:xfrm>
          </p:grpSpPr>
          <p:sp>
            <p:nvSpPr>
              <p:cNvPr id="25" name=""/>
              <p:cNvSpPr/>
              <p:nvPr/>
            </p:nvSpPr>
            <p:spPr>
              <a:xfrm>
                <a:off x="3049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094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9144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2193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15238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8288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21337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24382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7432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30481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33526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36576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39625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42670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45720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48769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51814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54864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57913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60958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4008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7057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0102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52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6201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9246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2296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5345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8390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" name=""/>
          <p:cNvSpPr/>
          <p:nvPr/>
        </p:nvSpPr>
        <p:spPr>
          <a:xfrm>
            <a:off x="3352680" y="0"/>
            <a:ext cx="5791320" cy="152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-76320" y="0"/>
            <a:ext cx="1828800" cy="5144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sldNum" idx="1"/>
          </p:nvPr>
        </p:nvSpPr>
        <p:spPr>
          <a:xfrm>
            <a:off x="7092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317E1-158C-4DB3-A8E4-50C68AA7B235}" type="slidenum">
              <a:rPr b="0" lang="zh-CN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0" y="512640"/>
            <a:ext cx="9144000" cy="1317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7059600" y="0"/>
            <a:ext cx="2084400" cy="5223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-76320" y="0"/>
            <a:ext cx="1828800" cy="5144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7772400" y="25560"/>
            <a:ext cx="126828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华文行楷"/>
              </a:rPr>
              <a:t>VLSI</a:t>
            </a: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华文行楷"/>
              </a:rPr>
              <a:t>所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华文行楷"/>
              <a:ea typeface="华文行楷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47640" y="1233360"/>
            <a:ext cx="7885080" cy="20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yntax and semantics of </a:t>
            </a:r>
            <a:r>
              <a:rPr b="1" lang="zh-CN" sz="3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ual-coder Mixed Chroma-sampling-rate (DMC) coding for 4:4:4 screen content</a:t>
            </a:r>
            <a:endParaRPr b="0" lang="en-US" sz="3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11280" y="3808080"/>
            <a:ext cx="7921440" cy="17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alibri"/>
              </a:rPr>
              <a:t>JCTVC-J0233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alibri"/>
              </a:rPr>
              <a:t>11 July – 20 July 2012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alibri"/>
              </a:rPr>
              <a:t>Tao Li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4720C-4317-4529-8523-1CFD6403A66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08000" y="1268280"/>
            <a:ext cx="8856720" cy="41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47840" indent="-447840">
              <a:spcBef>
                <a:spcPts val="14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een picture has two types of content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076400" indent="-44928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ontinuous-tone content + Discontinuous-tone conten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47840" indent="-447840">
              <a:spcBef>
                <a:spcPts val="14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brid coding is not discontinuous-tone oriented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076400" indent="-44928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ven 444 has bad quality (due to high QP) at low bit-rat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47840" indent="-447840">
              <a:spcBef>
                <a:spcPts val="14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-hybrid coder can do a much better job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076400" indent="-44928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Using a super-large predictor set (dictionary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076400" indent="-44928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ash table based quick string search can code the picture at much lower bitrat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24000" y="584280"/>
            <a:ext cx="6696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042920" y="5624640"/>
            <a:ext cx="2684520" cy="8096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743280" y="5913360"/>
            <a:ext cx="1513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47840" indent="-447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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030560" y="5337000"/>
            <a:ext cx="0" cy="756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F8CFD-9519-41C2-858F-955202723E9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511280" y="0"/>
            <a:ext cx="582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DMC Coding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97080" y="3305160"/>
            <a:ext cx="158436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For reference, prediction or dictionary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00720" y="4797360"/>
            <a:ext cx="2300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00000" y="1952640"/>
            <a:ext cx="104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8360" y="800280"/>
            <a:ext cx="15206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Original Input Macroblock 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15960" y="4454640"/>
            <a:ext cx="1436760" cy="7077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Full-chroma Predictio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6602040" y="3086280"/>
            <a:ext cx="41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00000" y="4797360"/>
            <a:ext cx="61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79480" y="1442880"/>
            <a:ext cx="0" cy="336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64000" y="4797360"/>
            <a:ext cx="322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234120" y="2114640"/>
            <a:ext cx="1289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018200" y="2055960"/>
            <a:ext cx="3240" cy="104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72480" y="2055960"/>
            <a:ext cx="91800" cy="117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44720" y="1622520"/>
            <a:ext cx="4289400" cy="690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Full-chroma Dictionary-entropy Coder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944720" y="2889360"/>
            <a:ext cx="4648320" cy="4190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Constructed Pixel Buffer 1 (Full-chroma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4429080" y="2312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524720" y="1268280"/>
            <a:ext cx="322200" cy="3897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R-D Performance Based Selector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846920" y="3295800"/>
            <a:ext cx="92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885080" y="2708280"/>
            <a:ext cx="103680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DMC Bitstream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997440" y="3701880"/>
            <a:ext cx="2039760" cy="312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Chroma Upsampler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5070600" y="4014360"/>
            <a:ext cx="0" cy="2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4573440" y="3305160"/>
            <a:ext cx="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129440" y="4653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7343280" y="4257720"/>
            <a:ext cx="1800" cy="3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00000" y="4508640"/>
            <a:ext cx="2779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481800" y="2097000"/>
            <a:ext cx="3333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40458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265800" y="1484280"/>
            <a:ext cx="2761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b</a:t>
            </a:r>
            <a:r>
              <a:rPr b="0" lang="en-US" sz="2000" spc="-1" strike="noStrike" baseline="-25000">
                <a:solidFill>
                  <a:srgbClr val="40458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900000" y="1442880"/>
            <a:ext cx="663732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129440" y="4941720"/>
            <a:ext cx="31896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b</a:t>
            </a:r>
            <a:r>
              <a:rPr b="0" lang="en-US" sz="2000" spc="-1" strike="noStrike" baseline="-25000">
                <a:solidFill>
                  <a:srgbClr val="40458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234120" y="1819440"/>
            <a:ext cx="1290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129440" y="4976640"/>
            <a:ext cx="3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618160" y="3571920"/>
            <a:ext cx="188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059440" y="4265640"/>
            <a:ext cx="22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618160" y="3571920"/>
            <a:ext cx="0" cy="11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165800" y="3089160"/>
            <a:ext cx="3304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40458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156440" y="1406520"/>
            <a:ext cx="2300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65120" y="2403360"/>
            <a:ext cx="428760" cy="12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Full-chroma Inpu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89440" y="4437000"/>
            <a:ext cx="2362320" cy="7444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Transform, Quantiza-tion, CABAC, etc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2124000" y="3321000"/>
            <a:ext cx="0" cy="11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952720" y="4834080"/>
            <a:ext cx="184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948360" y="3933720"/>
            <a:ext cx="32256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40458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32000" y="4454640"/>
            <a:ext cx="1333800" cy="707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Chroma Subsampler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20800" y="1917720"/>
            <a:ext cx="92160" cy="119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160720" y="6129360"/>
            <a:ext cx="1743120" cy="295200"/>
            <a:chOff x="2160720" y="6129360"/>
            <a:chExt cx="1743120" cy="295200"/>
          </a:xfrm>
        </p:grpSpPr>
        <p:sp>
          <p:nvSpPr>
            <p:cNvPr id="186" name=""/>
            <p:cNvSpPr/>
            <p:nvPr/>
          </p:nvSpPr>
          <p:spPr>
            <a:xfrm>
              <a:off x="2160720" y="6129360"/>
              <a:ext cx="183960" cy="295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390760" y="6129360"/>
              <a:ext cx="151308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</a:rPr>
                <a:t>= Full-chroma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4105440" y="6129360"/>
            <a:ext cx="2601720" cy="295200"/>
            <a:chOff x="4105440" y="6129360"/>
            <a:chExt cx="2601720" cy="295200"/>
          </a:xfrm>
        </p:grpSpPr>
        <p:sp>
          <p:nvSpPr>
            <p:cNvPr id="189" name=""/>
            <p:cNvSpPr/>
            <p:nvPr/>
          </p:nvSpPr>
          <p:spPr>
            <a:xfrm>
              <a:off x="4105440" y="6129360"/>
              <a:ext cx="183960" cy="2952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335480" y="6129360"/>
              <a:ext cx="237168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</a:rPr>
                <a:t>= Chroma-subsampled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 rot="16200000">
            <a:off x="4194360" y="2438280"/>
            <a:ext cx="287280" cy="5796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150840 h 5796000"/>
              <a:gd name="textAreaBottom" fmla="*/ 5645160 h 579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97080" y="5445000"/>
            <a:ext cx="6192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The existing HEVC YUV420 syntax and semantics are used AS I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440000" y="2600280"/>
            <a:ext cx="0" cy="1368360"/>
          </a:xfrm>
          <a:prstGeom prst="line">
            <a:avLst/>
          </a:prstGeom>
          <a:ln w="7632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34920" y="2241720"/>
            <a:ext cx="1081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Coder 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34920" y="3968640"/>
            <a:ext cx="1081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Coder 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162C8-1803-40F3-9EC4-A3BF14EBD4D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16000" y="5157720"/>
            <a:ext cx="8604000" cy="15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47840" indent="-447840">
              <a:spcBef>
                <a:spcPts val="14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al-coder Mixed Chroma-sampling-rate (DMC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076400" indent="-44928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n extension of HEVC 420 hybrid coding (used AS IS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076400" indent="-44928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dd 444 Dictionary coding (three new syntax elements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224000" y="584280"/>
            <a:ext cx="6696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Overall CODEC Landscape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97080" y="4581360"/>
            <a:ext cx="7522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1655280" y="1233000"/>
            <a:ext cx="1800" cy="3635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16360" y="4616280"/>
            <a:ext cx="539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47840" indent="-447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2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446880" y="4653000"/>
            <a:ext cx="539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47840" indent="-447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44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4720" y="3429000"/>
            <a:ext cx="1044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ybrid Cod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08000" y="1376280"/>
            <a:ext cx="1512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ctionary Cod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3095640" y="4471560"/>
            <a:ext cx="0" cy="181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6697800" y="4471560"/>
            <a:ext cx="0" cy="181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1585440" y="3789360"/>
            <a:ext cx="181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584000" y="1700280"/>
            <a:ext cx="181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800360" y="3249720"/>
            <a:ext cx="2555640" cy="10080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ost Application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464000" y="3573360"/>
            <a:ext cx="4392720" cy="863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roadcast, Producti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igh end equipment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rot="19944600">
            <a:off x="3456000" y="1915920"/>
            <a:ext cx="3603600" cy="10080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creen Content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rot="19944600">
            <a:off x="1512720" y="1699920"/>
            <a:ext cx="5673960" cy="2152440"/>
          </a:xfrm>
          <a:prstGeom prst="ellipse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MC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128000" y="873000"/>
            <a:ext cx="1209600" cy="2748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Too high bit-rate,High cos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767640" y="907920"/>
            <a:ext cx="1908000" cy="2484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317080" y="1160640"/>
            <a:ext cx="684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 Nee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B1A8C-0C6B-45AF-8C97-562B0E7C426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547640" y="0"/>
            <a:ext cx="5824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DMC Bitstream Syntax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42920" y="836640"/>
          <a:ext cx="8858160" cy="4470480"/>
        </p:xfrm>
        <a:graphic>
          <a:graphicData uri="http://schemas.openxmlformats.org/drawingml/2006/table">
            <a:tbl>
              <a:tblPr/>
              <a:tblGrid>
                <a:gridCol w="7500960"/>
                <a:gridCol w="1357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ding_unit( x0, y0, log2CbSize ) {</a:t>
                      </a:r>
                      <a:r>
                        <a:rPr b="0" lang="zh-CN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criptor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(profile_idc!=DMC) 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{the current YUV420 HEVC hybrid coder syntax is used AS IS}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se {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mc_coder_type_flag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e(v)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(dmc_coder_type_flag = = 0) //HYBRID_CODER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{the current YUV420 HEVC hybrid coder syntax is used AS IS}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se //DICTIONARY_ENTROPY_CODER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ctionary_entropy_coder(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0, y0, log2CbSize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}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}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24184-DA81-4E21-960C-936D9FF521F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547640" y="0"/>
            <a:ext cx="5824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DMC Bitstream Syntax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216000" y="650880"/>
          <a:ext cx="8640720" cy="6207120"/>
        </p:xfrm>
        <a:graphic>
          <a:graphicData uri="http://schemas.openxmlformats.org/drawingml/2006/table">
            <a:tbl>
              <a:tblPr/>
              <a:tblGrid>
                <a:gridCol w="6732360"/>
                <a:gridCol w="1908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ctionary_entropy_coder( x0, y0, log2CbSize ) {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criptor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coded_sample_count = 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SamplesInCU = (3 &lt;&lt; (log2CbSize &lt;&lt; 1))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hile(decoded_sample_count &lt; NumSamplesInCU) {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ching_string_flag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e(v)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f(matching_string_flag = = 1) {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ching_string_distance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e(v)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ching_string_length_minus2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e(v)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coded_sample_count += length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}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se {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matchable_sample_residual_abs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e(v)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matchable_sample_residual_sign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e(v)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coded_sample_count += 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}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}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}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36FB4-C30F-4EC7-AA96-4BC3DAEE862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547640" y="0"/>
            <a:ext cx="5824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DMC Bitstream Semantic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16000" y="788760"/>
            <a:ext cx="87850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dmc_coder_type_flag </a:t>
            </a: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specifies which coder is used to code the CU. If dmc_coder_type_flag = 0, hybrid coder is used to code the CU, otherwise, dictionary-entropy coder is used to code the CU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matching_string_flag</a:t>
            </a: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 specifies whether the succeeding dictionary coding element is a matching string or an unmatchable (luma or chroma) sample residual.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If matching_string_flag = 1, the succeeding dictionary coding element is a matching string, otherwise, the succeeding dictionary coding element is an unmatchable (luma or chroma) sample residual.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matching_string_distance</a:t>
            </a: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 specifies the distances between the first sample of current sample-string to be decoded/constructed and the first sample of matching sample-string previously decoded/constructed in the dictionary, which is actually DPB and the current decoded picture reordered in a “dictionary-scan” format defined as a column-wise-packed-pixel CU-by-CU format.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matching_string_length_minus2 </a:t>
            </a: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+ 2 specifies the length of the matching sample-string. The value of matching_string_length_minus2 shall be in the range of 0 to 271, inclusive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unmatchable_sample_residual_abs</a:t>
            </a: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 is the absolute difference between the unmatchable sample (y or u or v component of a pixel) to be decoded and its predictor that is the same component (y or u or v) of the previous pixel in the dictionary. The value of unmatchable_sample_residual_abs shall be in the range of 0 to (256&lt;&l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bit_depth_luma_minus8) – 1 for luma component or (256&lt;&l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bit_depth_chroma_minus8) – 1 for chroma component, inclusive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unmatchable_sample_residual_sign</a:t>
            </a: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 specifies the sign of an unmatchable sample residual. If unmatchable_sample_residual_sign is equal to 0, the corresponding unmatchable sample residual has a positive value. Otherwise (unmatchable_sample_residual_sign is equal to 1), the corresponding unmatchable sample residual has a negative value.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0C157-D05A-49F0-A6DF-9729E6706D6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224000" y="692280"/>
            <a:ext cx="6696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31640" y="1484280"/>
            <a:ext cx="8425080" cy="44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20000"/>
              </a:lnSpc>
              <a:spcBef>
                <a:spcPts val="2100"/>
              </a:spcBef>
              <a:buClr>
                <a:srgbClr val="40458c"/>
              </a:buClr>
              <a:buFont typeface="Wingdings" charset="2"/>
              <a:buChar char="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DMC coding is a straightforward yet very effective extension of the state of the art HEVC for SCC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55680" indent="-355680">
              <a:lnSpc>
                <a:spcPct val="120000"/>
              </a:lnSpc>
              <a:spcBef>
                <a:spcPts val="2100"/>
              </a:spcBef>
              <a:buClr>
                <a:srgbClr val="40458c"/>
              </a:buClr>
              <a:buFont typeface="Wingdings" charset="2"/>
              <a:buChar char="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Just adding three new syntax element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55680" indent="-355680">
              <a:lnSpc>
                <a:spcPct val="120000"/>
              </a:lnSpc>
              <a:spcBef>
                <a:spcPts val="2100"/>
              </a:spcBef>
              <a:buClr>
                <a:srgbClr val="40458c"/>
              </a:buClr>
              <a:buFont typeface="Wingdings" charset="2"/>
              <a:buChar char="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Significant BD-rate and subjective improvement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55680" indent="-355680">
              <a:lnSpc>
                <a:spcPct val="120000"/>
              </a:lnSpc>
              <a:spcBef>
                <a:spcPts val="2100"/>
              </a:spcBef>
              <a:buClr>
                <a:srgbClr val="40458c"/>
              </a:buClr>
              <a:buFont typeface="Wingdings" charset="2"/>
              <a:buChar char="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Plan to integrate DMC to HM7.x and HM8.x and let more people to join further investigation, cross-check and other activiti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17D3B-609B-422A-98D3-D3DE8FD5561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2637000"/>
            <a:ext cx="91440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40458c"/>
                </a:solidFill>
                <a:latin typeface="Times New Roman"/>
              </a:rPr>
              <a:t>THANK  YOU</a:t>
            </a:r>
            <a:endParaRPr b="0" lang="en-US" sz="8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89A04-0B1C-4F3F-B8F6-D9DEC179500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7T03:13:52Z</dcterms:created>
  <dc:creator>tao lin</dc:creator>
  <dc:description/>
  <dc:language>en-US</dc:language>
  <cp:lastModifiedBy>m</cp:lastModifiedBy>
  <dcterms:modified xsi:type="dcterms:W3CDTF">2012-07-10T02:18:44Z</dcterms:modified>
  <cp:revision>1292</cp:revision>
  <dc:subject/>
  <dc:title>学习及工作简历</dc:title>
</cp:coreProperties>
</file>