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63F5-6FD2-48A7-AF1A-CBFFF4C30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DA2B-14D1-4D43-A013-564BBED7E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085F-9A86-4FC3-B840-95E8A5E61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4B1E-AE50-401C-98DA-51950E763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7B21-3AAB-40E2-9AC5-257E55666A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A35B-88D4-4449-AF6D-2E3FEA7E7C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F1210-160D-4FE3-8E38-B4287BB54D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385B-9BED-4F23-A253-712D5608F7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03F0D-3297-47FC-8ED6-1F3EDF72DF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A0C9C-77D8-4276-AB30-9B2520EDF2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D8E3-1008-4294-97DB-807FE8DDC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F0EE-2F0D-4367-8C8B-21B669A14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C33A-5B5F-43C2-83B6-C0C3751B63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90DC-8696-4153-945D-DDACA5C1E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82D4-AEAC-4D0D-B559-9B114F2C7C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6387-D8F9-43FF-83CE-129D9CD5A0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B8E8-F930-4D8D-8C84-C65D8C98A3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061-3835-4EE3-9A5F-A61CE6ECD3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9E4-2AD0-473E-AFA5-C8CE8DD32E7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F244-C542-43C0-A551-313C80580E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456-1A7F-4F48-A412-C084CD9424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2BE2-F145-41B0-9D0E-4530E0CF4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9BC6-CDBE-4939-865D-E12478C7E9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7FE-2DE9-4FFD-B58C-BE4906A648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3D4C-4EE4-461E-A4AE-03E8F34BD8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9B6-69D4-4E24-AC49-95C22D5019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7DD-2919-4EB6-9C2B-8FCE40A552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9DB-D4A0-4F72-9D77-1305BC3C11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ADAD-1207-45DD-8AA3-8BFE96FC51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F86-0E42-4F43-BECF-10DCB5175C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E4F7-531B-49D1-958C-B19D02600D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CCA6-8C60-492D-BF8A-9CE0DEACA9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87038-33C8-4F07-B426-F05EC1B12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8D74-678D-4ED9-88B1-0E800A4DC7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A2015-E1AA-41CE-8F99-8887BD4246C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3B289-C567-4511-B7B3-3947843DBC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8FFD-ABA7-406C-A3F0-8FA5134A20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EBC5B-4814-4502-9560-F4DEEC13EF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6FA69-9453-4268-80AF-BC88425C03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39349-56DE-4311-9630-63F1DAF29F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3FAA-8658-46CC-B4A1-3BDF9555BD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E9C2-C806-4D47-A549-866BED1CF0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BCEEB-5D4E-44A6-861E-C4C0D2442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3BDE-9083-4206-AF19-54912BC51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C7D9D-C338-42CE-BA3D-E4A644CC7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DC86-09D7-46BA-A190-7721B80BC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7989-3E3C-4C27-A761-ABAB5D998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8D71-2DB1-4E16-BE68-C94411ED8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6FD0-B8F8-4255-AE58-4876D255F454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DD65-C6C9-4807-9A7C-0005EB64C74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J0213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8E3-C912-44D3-A290-F2295C4CDC0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26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9" name="テキスト ボックス 7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J0213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ldNum" idx="4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2340-35AC-4195-8B7D-5A148B2C1502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95FF-11D9-4E6B-A17E-3B929AC634A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J0213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HG6: A threshold for SAO edge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図 2" descr="PeopleOnStreet_2560x1600_30_crop_2.bmp"/>
          <p:cNvPicPr/>
          <p:nvPr/>
        </p:nvPicPr>
        <p:blipFill>
          <a:blip r:embed="rId1"/>
          <a:stretch/>
        </p:blipFill>
        <p:spPr>
          <a:xfrm>
            <a:off x="14400" y="552600"/>
            <a:ext cx="4867200" cy="6016320"/>
          </a:xfrm>
          <a:prstGeom prst="rect">
            <a:avLst/>
          </a:prstGeom>
          <a:ln w="0">
            <a:noFill/>
          </a:ln>
        </p:spPr>
      </p:pic>
      <p:sp>
        <p:nvSpPr>
          <p:cNvPr id="552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B7EA-3F98-4645-909D-E2940CF71BB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53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54" name="図 6" descr="MAIN_Ref_PeopleOnStreet_2560x1600_30_crop_qp22_S14R4HB7_2.bmp"/>
          <p:cNvPicPr/>
          <p:nvPr/>
        </p:nvPicPr>
        <p:blipFill>
          <a:blip r:embed="rId2"/>
          <a:stretch/>
        </p:blipFill>
        <p:spPr>
          <a:xfrm>
            <a:off x="4967280" y="549360"/>
            <a:ext cx="4867200" cy="6022800"/>
          </a:xfrm>
          <a:prstGeom prst="rect">
            <a:avLst/>
          </a:prstGeom>
          <a:ln w="0">
            <a:noFill/>
          </a:ln>
        </p:spPr>
      </p:pic>
      <p:sp>
        <p:nvSpPr>
          <p:cNvPr id="555" name="テキスト ボックス 10"/>
          <p:cNvSpPr/>
          <p:nvPr/>
        </p:nvSpPr>
        <p:spPr>
          <a:xfrm>
            <a:off x="810360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HM7.0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eopleOnStreet ( 2560x1600, 30p, frame no. 1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57" name="円/楕円 7"/>
          <p:cNvSpPr/>
          <p:nvPr/>
        </p:nvSpPr>
        <p:spPr>
          <a:xfrm>
            <a:off x="6321600" y="1628640"/>
            <a:ext cx="3024000" cy="3095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58" name="テキスト ボックス 10"/>
          <p:cNvSpPr/>
          <p:nvPr/>
        </p:nvSpPr>
        <p:spPr>
          <a:xfrm>
            <a:off x="7261920" y="1268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lurr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図 2" descr="PeopleOnStreet_2560x1600_30_crop_2.bmp"/>
          <p:cNvPicPr/>
          <p:nvPr/>
        </p:nvPicPr>
        <p:blipFill>
          <a:blip r:embed="rId1"/>
          <a:stretch/>
        </p:blipFill>
        <p:spPr>
          <a:xfrm>
            <a:off x="14400" y="552600"/>
            <a:ext cx="4867200" cy="6016320"/>
          </a:xfrm>
          <a:prstGeom prst="rect">
            <a:avLst/>
          </a:prstGeom>
          <a:ln w="0">
            <a:noFill/>
          </a:ln>
        </p:spPr>
      </p:pic>
      <p:sp>
        <p:nvSpPr>
          <p:cNvPr id="56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E0B-8DD0-40D5-B4F8-06C1CD2296F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61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62" name="図 7" descr="MAIN_SaoEOTransThY4C0IP1w0_PeopleOnStreet_2560x1600_30_crop_qp22_S14R4HB7_2.bmp"/>
          <p:cNvPicPr/>
          <p:nvPr/>
        </p:nvPicPr>
        <p:blipFill>
          <a:blip r:embed="rId2"/>
          <a:stretch/>
        </p:blipFill>
        <p:spPr>
          <a:xfrm>
            <a:off x="4968720" y="550800"/>
            <a:ext cx="4865760" cy="6019920"/>
          </a:xfrm>
          <a:prstGeom prst="rect">
            <a:avLst/>
          </a:prstGeom>
          <a:ln w="0">
            <a:noFill/>
          </a:ln>
        </p:spPr>
      </p:pic>
      <p:sp>
        <p:nvSpPr>
          <p:cNvPr id="563" name="テキスト ボックス 10"/>
          <p:cNvSpPr/>
          <p:nvPr/>
        </p:nvSpPr>
        <p:spPr>
          <a:xfrm>
            <a:off x="5407200" y="580536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oposal with setting 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fset value 0 to weak edge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eopleOnStreet ( 2560x1600, 30p, frame no. 1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2F2A-BFE4-4750-9E81-3E23AE54B9B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66" name="図 4" descr="Panslow_org_514.bmp"/>
          <p:cNvPicPr/>
          <p:nvPr/>
        </p:nvPicPr>
        <p:blipFill>
          <a:blip r:embed="rId1"/>
          <a:stretch/>
        </p:blipFill>
        <p:spPr>
          <a:xfrm>
            <a:off x="6480" y="642960"/>
            <a:ext cx="9893160" cy="557208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anslow ( 1280x720, 60p, frame no. 513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68" name="正方形/長方形 6"/>
          <p:cNvSpPr/>
          <p:nvPr/>
        </p:nvSpPr>
        <p:spPr>
          <a:xfrm>
            <a:off x="776160" y="4581360"/>
            <a:ext cx="936720" cy="13687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69" name="テキスト ボックス 9"/>
          <p:cNvSpPr/>
          <p:nvPr/>
        </p:nvSpPr>
        <p:spPr>
          <a:xfrm>
            <a:off x="3929040" y="623736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: “Description of new High Definition Video Test Sequences”,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/IEC JTC1/SC29/WG11, MPEG02/N5125, Shanghai, Oct, 2002.</a:t>
            </a:r>
            <a:endParaRPr b="0" lang="en-US" sz="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624D-BCDD-4BFC-87D0-13CD30B9456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71" name="図 2" descr="Panslow_org_514.bmp"/>
          <p:cNvPicPr/>
          <p:nvPr/>
        </p:nvPicPr>
        <p:blipFill>
          <a:blip r:embed="rId1"/>
          <a:stretch/>
        </p:blipFill>
        <p:spPr>
          <a:xfrm>
            <a:off x="33480" y="622440"/>
            <a:ext cx="4848120" cy="5829120"/>
          </a:xfrm>
          <a:prstGeom prst="rect">
            <a:avLst/>
          </a:prstGeom>
          <a:ln w="0">
            <a:noFill/>
          </a:ln>
        </p:spPr>
      </p:pic>
      <p:sp>
        <p:nvSpPr>
          <p:cNvPr id="572" name="テキスト ボックス 10"/>
          <p:cNvSpPr/>
          <p:nvPr/>
        </p:nvSpPr>
        <p:spPr>
          <a:xfrm>
            <a:off x="2872440" y="5732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73" name="図 5" descr="MAIN_SaoOff_Panslow_qp22_S05R4HB7_514.bmp"/>
          <p:cNvPicPr/>
          <p:nvPr/>
        </p:nvPicPr>
        <p:blipFill>
          <a:blip r:embed="rId2"/>
          <a:stretch/>
        </p:blipFill>
        <p:spPr>
          <a:xfrm>
            <a:off x="4954680" y="620640"/>
            <a:ext cx="4844880" cy="5832720"/>
          </a:xfrm>
          <a:prstGeom prst="rect">
            <a:avLst/>
          </a:prstGeom>
          <a:ln w="0">
            <a:noFill/>
          </a:ln>
        </p:spPr>
      </p:pic>
      <p:sp>
        <p:nvSpPr>
          <p:cNvPr id="574" name="テキスト ボックス 10"/>
          <p:cNvSpPr/>
          <p:nvPr/>
        </p:nvSpPr>
        <p:spPr>
          <a:xfrm>
            <a:off x="7952040" y="5805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AO off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anslow ( 1280x720, 60p, frame no. 513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図 2" descr="Panslow_org_514.bmp"/>
          <p:cNvPicPr/>
          <p:nvPr/>
        </p:nvPicPr>
        <p:blipFill>
          <a:blip r:embed="rId1"/>
          <a:stretch/>
        </p:blipFill>
        <p:spPr>
          <a:xfrm>
            <a:off x="33480" y="622440"/>
            <a:ext cx="4848120" cy="5829120"/>
          </a:xfrm>
          <a:prstGeom prst="rect">
            <a:avLst/>
          </a:prstGeom>
          <a:ln w="0">
            <a:noFill/>
          </a:ln>
        </p:spPr>
      </p:pic>
      <p:sp>
        <p:nvSpPr>
          <p:cNvPr id="577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C38D-A4EE-408D-B25A-BFA61ECEAA4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78" name="テキスト ボックス 10"/>
          <p:cNvSpPr/>
          <p:nvPr/>
        </p:nvSpPr>
        <p:spPr>
          <a:xfrm>
            <a:off x="2872440" y="5732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79" name="図 7" descr="MAIN_Ref_Panslow_qp22_S05R4HB7_514.bmp"/>
          <p:cNvPicPr/>
          <p:nvPr/>
        </p:nvPicPr>
        <p:blipFill>
          <a:blip r:embed="rId2"/>
          <a:stretch/>
        </p:blipFill>
        <p:spPr>
          <a:xfrm>
            <a:off x="4954680" y="620640"/>
            <a:ext cx="4844880" cy="5832720"/>
          </a:xfrm>
          <a:prstGeom prst="rect">
            <a:avLst/>
          </a:prstGeom>
          <a:ln w="0">
            <a:noFill/>
          </a:ln>
        </p:spPr>
      </p:pic>
      <p:sp>
        <p:nvSpPr>
          <p:cNvPr id="580" name="テキスト ボックス 10"/>
          <p:cNvSpPr/>
          <p:nvPr/>
        </p:nvSpPr>
        <p:spPr>
          <a:xfrm>
            <a:off x="8308440" y="580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HM7.0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anslow ( 1280x720, 60p, frame no. 513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82" name="円/楕円 7"/>
          <p:cNvSpPr/>
          <p:nvPr/>
        </p:nvSpPr>
        <p:spPr>
          <a:xfrm>
            <a:off x="5313240" y="1628640"/>
            <a:ext cx="3024360" cy="30956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83" name="テキスト ボックス 10"/>
          <p:cNvSpPr/>
          <p:nvPr/>
        </p:nvSpPr>
        <p:spPr>
          <a:xfrm>
            <a:off x="6253920" y="1268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lurr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図 2" descr="Panslow_org_514.bmp"/>
          <p:cNvPicPr/>
          <p:nvPr/>
        </p:nvPicPr>
        <p:blipFill>
          <a:blip r:embed="rId1"/>
          <a:stretch/>
        </p:blipFill>
        <p:spPr>
          <a:xfrm>
            <a:off x="33480" y="622440"/>
            <a:ext cx="4848120" cy="5829120"/>
          </a:xfrm>
          <a:prstGeom prst="rect">
            <a:avLst/>
          </a:prstGeom>
          <a:ln w="0">
            <a:noFill/>
          </a:ln>
        </p:spPr>
      </p:pic>
      <p:sp>
        <p:nvSpPr>
          <p:cNvPr id="585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F731-AE8B-4A34-B7AD-2D78E343A06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86" name="テキスト ボックス 10"/>
          <p:cNvSpPr/>
          <p:nvPr/>
        </p:nvSpPr>
        <p:spPr>
          <a:xfrm>
            <a:off x="2872440" y="57326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87" name="図 6" descr="MAIN_SaoEOTransThY4C0IP1w0_Panslow_qp22_S05R4HB7_514.bmp"/>
          <p:cNvPicPr/>
          <p:nvPr/>
        </p:nvPicPr>
        <p:blipFill>
          <a:blip r:embed="rId2"/>
          <a:stretch/>
        </p:blipFill>
        <p:spPr>
          <a:xfrm>
            <a:off x="4954680" y="620640"/>
            <a:ext cx="4844880" cy="5832720"/>
          </a:xfrm>
          <a:prstGeom prst="rect">
            <a:avLst/>
          </a:prstGeom>
          <a:ln w="0">
            <a:noFill/>
          </a:ln>
        </p:spPr>
      </p:pic>
      <p:sp>
        <p:nvSpPr>
          <p:cNvPr id="588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anslow ( 1280x720, 60p, frame no. 513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89" name="テキスト ボックス 10"/>
          <p:cNvSpPr/>
          <p:nvPr/>
        </p:nvSpPr>
        <p:spPr>
          <a:xfrm>
            <a:off x="5407200" y="580536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oposal with setting 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fset value 0 to weak edge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図 7" descr="MAIN_SaoOff_Spincalendar_qp22_S01R4HB7_9.bmp"/>
          <p:cNvPicPr/>
          <p:nvPr/>
        </p:nvPicPr>
        <p:blipFill>
          <a:blip r:embed="rId1"/>
          <a:stretch/>
        </p:blipFill>
        <p:spPr>
          <a:xfrm>
            <a:off x="6480" y="642960"/>
            <a:ext cx="9893160" cy="5572080"/>
          </a:xfrm>
          <a:prstGeom prst="rect">
            <a:avLst/>
          </a:prstGeom>
          <a:ln w="0">
            <a:noFill/>
          </a:ln>
        </p:spPr>
      </p:pic>
      <p:sp>
        <p:nvSpPr>
          <p:cNvPr id="59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2C35-B1BC-4A0E-9795-9E3471C2561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pincalendar ( 1280x720, 60p, frame no. 8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93" name="正方形/長方形 6"/>
          <p:cNvSpPr/>
          <p:nvPr/>
        </p:nvSpPr>
        <p:spPr>
          <a:xfrm>
            <a:off x="2936880" y="5013360"/>
            <a:ext cx="936720" cy="1079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94" name="テキスト ボックス 8"/>
          <p:cNvSpPr/>
          <p:nvPr/>
        </p:nvSpPr>
        <p:spPr>
          <a:xfrm>
            <a:off x="3929040" y="623736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: “Description of new High Definition Video Test Sequences”,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/IEC JTC1/SC29/WG11, MPEG02/N5125, Shanghai, Oct, 2002.</a:t>
            </a:r>
            <a:endParaRPr b="0" lang="en-US" sz="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図 7" descr="Spincalendar_9.bmp"/>
          <p:cNvPicPr/>
          <p:nvPr/>
        </p:nvPicPr>
        <p:blipFill>
          <a:blip r:embed="rId1"/>
          <a:stretch/>
        </p:blipFill>
        <p:spPr>
          <a:xfrm>
            <a:off x="33480" y="693720"/>
            <a:ext cx="4848120" cy="5829480"/>
          </a:xfrm>
          <a:prstGeom prst="rect">
            <a:avLst/>
          </a:prstGeom>
          <a:ln w="0">
            <a:noFill/>
          </a:ln>
        </p:spPr>
      </p:pic>
      <p:sp>
        <p:nvSpPr>
          <p:cNvPr id="596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732-5C81-4251-A4E5-CE8BE8DD342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97" name="図 4" descr="MAIN_SaoOff_Spincalendar_qp22_S01R4HB7_9.bmp"/>
          <p:cNvPicPr/>
          <p:nvPr/>
        </p:nvPicPr>
        <p:blipFill>
          <a:blip r:embed="rId2"/>
          <a:stretch/>
        </p:blipFill>
        <p:spPr>
          <a:xfrm>
            <a:off x="4954680" y="692280"/>
            <a:ext cx="4843440" cy="5832360"/>
          </a:xfrm>
          <a:prstGeom prst="rect">
            <a:avLst/>
          </a:prstGeom>
          <a:ln w="0">
            <a:noFill/>
          </a:ln>
        </p:spPr>
      </p:pic>
      <p:sp>
        <p:nvSpPr>
          <p:cNvPr id="598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99" name="テキスト ボックス 10"/>
          <p:cNvSpPr/>
          <p:nvPr/>
        </p:nvSpPr>
        <p:spPr>
          <a:xfrm>
            <a:off x="7623360" y="587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AO off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pincalendar ( 1280x720, 60p, frame no. 8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図 7" descr="Spincalendar_9.bmp"/>
          <p:cNvPicPr/>
          <p:nvPr/>
        </p:nvPicPr>
        <p:blipFill>
          <a:blip r:embed="rId1"/>
          <a:stretch/>
        </p:blipFill>
        <p:spPr>
          <a:xfrm>
            <a:off x="33480" y="693720"/>
            <a:ext cx="4848120" cy="5829480"/>
          </a:xfrm>
          <a:prstGeom prst="rect">
            <a:avLst/>
          </a:prstGeom>
          <a:ln w="0">
            <a:noFill/>
          </a:ln>
        </p:spPr>
      </p:pic>
      <p:sp>
        <p:nvSpPr>
          <p:cNvPr id="602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2557-9F79-4D03-B0B4-117EC21CF46F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603" name="図 5" descr="MAIN_Ref_Spincalendar_qp22_S01R4HB7_9.bmp"/>
          <p:cNvPicPr/>
          <p:nvPr/>
        </p:nvPicPr>
        <p:blipFill>
          <a:blip r:embed="rId2"/>
          <a:stretch/>
        </p:blipFill>
        <p:spPr>
          <a:xfrm>
            <a:off x="4954680" y="692280"/>
            <a:ext cx="4843440" cy="5832360"/>
          </a:xfrm>
          <a:prstGeom prst="rect">
            <a:avLst/>
          </a:prstGeom>
          <a:ln w="0">
            <a:noFill/>
          </a:ln>
        </p:spPr>
      </p:pic>
      <p:sp>
        <p:nvSpPr>
          <p:cNvPr id="604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05" name="テキスト ボックス 10"/>
          <p:cNvSpPr/>
          <p:nvPr/>
        </p:nvSpPr>
        <p:spPr>
          <a:xfrm>
            <a:off x="8103600" y="5958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HM7.0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pincalendar ( 1280x720, 60p, frame no. 8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07" name="円/楕円 7"/>
          <p:cNvSpPr/>
          <p:nvPr/>
        </p:nvSpPr>
        <p:spPr>
          <a:xfrm>
            <a:off x="5600880" y="2276640"/>
            <a:ext cx="3024000" cy="3097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08" name="テキスト ボックス 10"/>
          <p:cNvSpPr/>
          <p:nvPr/>
        </p:nvSpPr>
        <p:spPr>
          <a:xfrm>
            <a:off x="6541920" y="1916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lurr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図 7" descr="Spincalendar_9.bmp"/>
          <p:cNvPicPr/>
          <p:nvPr/>
        </p:nvPicPr>
        <p:blipFill>
          <a:blip r:embed="rId1"/>
          <a:stretch/>
        </p:blipFill>
        <p:spPr>
          <a:xfrm>
            <a:off x="33480" y="693720"/>
            <a:ext cx="4848120" cy="5829480"/>
          </a:xfrm>
          <a:prstGeom prst="rect">
            <a:avLst/>
          </a:prstGeom>
          <a:ln w="0">
            <a:noFill/>
          </a:ln>
        </p:spPr>
      </p:pic>
      <p:sp>
        <p:nvSpPr>
          <p:cNvPr id="610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1306-1A7D-40D9-8E84-4437D80F2841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11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612" name="図 8" descr="MAIN_SaoEOTransThY4C0IP1w0_Spincalendar_qp22_S01R4HB7_9.bmp"/>
          <p:cNvPicPr/>
          <p:nvPr/>
        </p:nvPicPr>
        <p:blipFill>
          <a:blip r:embed="rId2"/>
          <a:stretch/>
        </p:blipFill>
        <p:spPr>
          <a:xfrm>
            <a:off x="4954680" y="692280"/>
            <a:ext cx="4843440" cy="583236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pincalendar ( 1280x720, 60p, frame no. 8, B-slice, QP22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14" name="テキスト ボックス 10"/>
          <p:cNvSpPr/>
          <p:nvPr/>
        </p:nvSpPr>
        <p:spPr>
          <a:xfrm>
            <a:off x="5407200" y="580536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roposal with setting 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ffset value 0 to weak edge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15440" y="76500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proposal, we introduc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reshold for SAO edge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ould be helpful for encoder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control the categorization for a strong edge and a weak edge inside L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ould improve the flexibility of SAO in terms of a subjective quality and an objectiv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pplying edge offset only for a strong edge inside LCU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 a blurring degradation due to the loss of an original weak edge, such as a camera noise or a film gr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% gain for RA, 0.2% gain for LDB in Main setting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improving the flexibility of S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94E-3724-42AA-9D03-AF21C559ABF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ummary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B827-60ED-41CA-9244-78A309EA0A10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272880" y="731520"/>
            <a:ext cx="92822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introduce a threshold for SAO 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improve the flexibility of EO in terms of a subjective quality and an objective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By applying EO only for a strong edge inside LCU in encoder tun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vent a blurring degradation due to the loss of an original weak edge, such as a camera noise or a film g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DIS of HE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53E8-2DB7-4A2C-9882-E4AD13A71D8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75" name="コンテンツ プレースホルダ 2"/>
          <p:cNvSpPr/>
          <p:nvPr/>
        </p:nvSpPr>
        <p:spPr>
          <a:xfrm>
            <a:off x="200160" y="549360"/>
            <a:ext cx="9577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O (Edge Offset) has four categories with different features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categorization, a strong edge and a weak edge could be included in the same categor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re is no threshold to distinguish th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would be difficult for encoder to tune SA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Difficult to apply EO for only strong edge inside LCU to keep an original weak edge (camera noise, film grain)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mprove it, an adjustable parameter for EO would be need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176" name="グループ化 91"/>
          <p:cNvGrpSpPr/>
          <p:nvPr/>
        </p:nvGrpSpPr>
        <p:grpSpPr>
          <a:xfrm>
            <a:off x="1352520" y="984600"/>
            <a:ext cx="5353920" cy="1787400"/>
            <a:chOff x="1352520" y="984600"/>
            <a:chExt cx="5353920" cy="1787400"/>
          </a:xfrm>
        </p:grpSpPr>
        <p:sp>
          <p:nvSpPr>
            <p:cNvPr id="177" name="テキスト ボックス 10"/>
            <p:cNvSpPr/>
            <p:nvPr/>
          </p:nvSpPr>
          <p:spPr>
            <a:xfrm>
              <a:off x="2941200" y="254088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pixel index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78" name="テキスト ボックス 10"/>
            <p:cNvSpPr/>
            <p:nvPr/>
          </p:nvSpPr>
          <p:spPr>
            <a:xfrm>
              <a:off x="4448160" y="254088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pixel index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179" name="グループ化 90"/>
            <p:cNvGrpSpPr/>
            <p:nvPr/>
          </p:nvGrpSpPr>
          <p:grpSpPr>
            <a:xfrm>
              <a:off x="1352520" y="984600"/>
              <a:ext cx="5353920" cy="1691640"/>
              <a:chOff x="1352520" y="984600"/>
              <a:chExt cx="5353920" cy="1691640"/>
            </a:xfrm>
          </p:grpSpPr>
          <p:grpSp>
            <p:nvGrpSpPr>
              <p:cNvPr id="180" name="グループ化 108"/>
              <p:cNvGrpSpPr/>
              <p:nvPr/>
            </p:nvGrpSpPr>
            <p:grpSpPr>
              <a:xfrm>
                <a:off x="5542200" y="984600"/>
                <a:ext cx="1098720" cy="935280"/>
                <a:chOff x="5542200" y="984600"/>
                <a:chExt cx="1098720" cy="935280"/>
              </a:xfrm>
            </p:grpSpPr>
            <p:cxnSp>
              <p:nvCxnSpPr>
                <p:cNvPr id="181" name="直線矢印コネクタ 2"/>
                <p:cNvCxnSpPr/>
                <p:nvPr/>
              </p:nvCxnSpPr>
              <p:spPr>
                <a:xfrm flipV="1">
                  <a:off x="5766120" y="1198800"/>
                  <a:ext cx="1080" cy="47700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82" name="直線矢印コネクタ 3"/>
                <p:cNvCxnSpPr/>
                <p:nvPr/>
              </p:nvCxnSpPr>
              <p:spPr>
                <a:xfrm>
                  <a:off x="5766120" y="1675800"/>
                  <a:ext cx="875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83" name="直線コネクタ 4"/>
                <p:cNvSpPr/>
                <p:nvPr/>
              </p:nvSpPr>
              <p:spPr>
                <a:xfrm flipV="1">
                  <a:off x="5918400" y="1318680"/>
                  <a:ext cx="227880" cy="178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4" name="直線コネクタ 5"/>
                <p:cNvSpPr/>
                <p:nvPr/>
              </p:nvSpPr>
              <p:spPr>
                <a:xfrm flipH="1" flipV="1">
                  <a:off x="6146280" y="1318680"/>
                  <a:ext cx="227880" cy="1785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5" name="直線コネクタ 6"/>
                <p:cNvSpPr/>
                <p:nvPr/>
              </p:nvSpPr>
              <p:spPr>
                <a:xfrm>
                  <a:off x="5918400" y="1497240"/>
                  <a:ext cx="0" cy="1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6" name="直線コネクタ 7"/>
                <p:cNvSpPr/>
                <p:nvPr/>
              </p:nvSpPr>
              <p:spPr>
                <a:xfrm>
                  <a:off x="6146640" y="1318680"/>
                  <a:ext cx="0" cy="35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7" name="直線コネクタ 8"/>
                <p:cNvSpPr/>
                <p:nvPr/>
              </p:nvSpPr>
              <p:spPr>
                <a:xfrm>
                  <a:off x="6374880" y="1497240"/>
                  <a:ext cx="0" cy="1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8" name="テキスト ボックス 10"/>
                <p:cNvSpPr/>
                <p:nvPr/>
              </p:nvSpPr>
              <p:spPr>
                <a:xfrm>
                  <a:off x="5781960" y="16678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-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89" name="テキスト ボックス 10"/>
                <p:cNvSpPr/>
                <p:nvPr/>
              </p:nvSpPr>
              <p:spPr>
                <a:xfrm>
                  <a:off x="6046920" y="1667880"/>
                  <a:ext cx="234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90" name="テキスト ボックス 10"/>
                <p:cNvSpPr/>
                <p:nvPr/>
              </p:nvSpPr>
              <p:spPr>
                <a:xfrm>
                  <a:off x="6238080" y="16678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+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91" name="テキスト ボックス 10"/>
                <p:cNvSpPr/>
                <p:nvPr/>
              </p:nvSpPr>
              <p:spPr>
                <a:xfrm rot="16200000">
                  <a:off x="5190120" y="1336680"/>
                  <a:ext cx="93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pixel level</a:t>
                  </a:r>
                  <a:endParaRPr b="0" lang="en-US" sz="9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192" name="テキスト ボックス 10"/>
              <p:cNvSpPr/>
              <p:nvPr/>
            </p:nvSpPr>
            <p:spPr>
              <a:xfrm>
                <a:off x="5771160" y="1028160"/>
                <a:ext cx="86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category 4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193" name="テキスト ボックス 10"/>
              <p:cNvSpPr/>
              <p:nvPr/>
            </p:nvSpPr>
            <p:spPr>
              <a:xfrm>
                <a:off x="4440960" y="1028160"/>
                <a:ext cx="86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category 3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grpSp>
            <p:nvGrpSpPr>
              <p:cNvPr id="194" name="グループ化 107"/>
              <p:cNvGrpSpPr/>
              <p:nvPr/>
            </p:nvGrpSpPr>
            <p:grpSpPr>
              <a:xfrm>
                <a:off x="4210920" y="984600"/>
                <a:ext cx="1098720" cy="935280"/>
                <a:chOff x="4210920" y="984600"/>
                <a:chExt cx="1098720" cy="935280"/>
              </a:xfrm>
            </p:grpSpPr>
            <p:cxnSp>
              <p:nvCxnSpPr>
                <p:cNvPr id="195" name="直線矢印コネクタ 19"/>
                <p:cNvCxnSpPr/>
                <p:nvPr/>
              </p:nvCxnSpPr>
              <p:spPr>
                <a:xfrm flipV="1">
                  <a:off x="4434840" y="1199520"/>
                  <a:ext cx="1080" cy="47664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196" name="直線矢印コネクタ 20"/>
                <p:cNvCxnSpPr/>
                <p:nvPr/>
              </p:nvCxnSpPr>
              <p:spPr>
                <a:xfrm>
                  <a:off x="4434840" y="1675440"/>
                  <a:ext cx="875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197" name="直線コネクタ 23"/>
                <p:cNvSpPr/>
                <p:nvPr/>
              </p:nvSpPr>
              <p:spPr>
                <a:xfrm>
                  <a:off x="4587120" y="133920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98" name="直線コネクタ 24"/>
                <p:cNvSpPr/>
                <p:nvPr/>
              </p:nvSpPr>
              <p:spPr>
                <a:xfrm>
                  <a:off x="4815360" y="1318680"/>
                  <a:ext cx="0" cy="35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199" name="直線コネクタ 25"/>
                <p:cNvSpPr/>
                <p:nvPr/>
              </p:nvSpPr>
              <p:spPr>
                <a:xfrm>
                  <a:off x="5043600" y="1497240"/>
                  <a:ext cx="0" cy="17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0" name="テキスト ボックス 10"/>
                <p:cNvSpPr/>
                <p:nvPr/>
              </p:nvSpPr>
              <p:spPr>
                <a:xfrm>
                  <a:off x="4439520" y="16714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-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1" name="テキスト ボックス 27"/>
                <p:cNvSpPr/>
                <p:nvPr/>
              </p:nvSpPr>
              <p:spPr>
                <a:xfrm>
                  <a:off x="4704840" y="1671480"/>
                  <a:ext cx="234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2" name="テキスト ボックス 10"/>
                <p:cNvSpPr/>
                <p:nvPr/>
              </p:nvSpPr>
              <p:spPr>
                <a:xfrm>
                  <a:off x="4896000" y="16714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+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3" name="テキスト ボックス 10"/>
                <p:cNvSpPr/>
                <p:nvPr/>
              </p:nvSpPr>
              <p:spPr>
                <a:xfrm rot="16200000">
                  <a:off x="3858840" y="1336680"/>
                  <a:ext cx="93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pixel level</a:t>
                  </a:r>
                  <a:endParaRPr b="0" lang="en-US" sz="9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4" name="直線コネクタ 38"/>
                <p:cNvSpPr/>
                <p:nvPr/>
              </p:nvSpPr>
              <p:spPr>
                <a:xfrm flipH="1" flipV="1">
                  <a:off x="4812840" y="1311120"/>
                  <a:ext cx="227880" cy="178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05" name="直線コネクタ 43"/>
                <p:cNvSpPr/>
                <p:nvPr/>
              </p:nvSpPr>
              <p:spPr>
                <a:xfrm>
                  <a:off x="4584240" y="1316520"/>
                  <a:ext cx="23004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06" name="グループ化 110"/>
              <p:cNvGrpSpPr/>
              <p:nvPr/>
            </p:nvGrpSpPr>
            <p:grpSpPr>
              <a:xfrm>
                <a:off x="4207680" y="1740960"/>
                <a:ext cx="1098720" cy="935280"/>
                <a:chOff x="4207680" y="1740960"/>
                <a:chExt cx="1098720" cy="935280"/>
              </a:xfrm>
            </p:grpSpPr>
            <p:cxnSp>
              <p:nvCxnSpPr>
                <p:cNvPr id="207" name="直線矢印コネクタ 47"/>
                <p:cNvCxnSpPr/>
                <p:nvPr/>
              </p:nvCxnSpPr>
              <p:spPr>
                <a:xfrm flipV="1">
                  <a:off x="4431600" y="1955160"/>
                  <a:ext cx="1080" cy="477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08" name="直線矢印コネクタ 48"/>
                <p:cNvCxnSpPr/>
                <p:nvPr/>
              </p:nvCxnSpPr>
              <p:spPr>
                <a:xfrm>
                  <a:off x="4431600" y="2432160"/>
                  <a:ext cx="875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09" name="テキスト ボックス 10"/>
                <p:cNvSpPr/>
                <p:nvPr/>
              </p:nvSpPr>
              <p:spPr>
                <a:xfrm>
                  <a:off x="4441680" y="242064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-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10" name="テキスト ボックス 53"/>
                <p:cNvSpPr/>
                <p:nvPr/>
              </p:nvSpPr>
              <p:spPr>
                <a:xfrm>
                  <a:off x="4707000" y="2420640"/>
                  <a:ext cx="234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11" name="テキスト ボックス 10"/>
                <p:cNvSpPr/>
                <p:nvPr/>
              </p:nvSpPr>
              <p:spPr>
                <a:xfrm>
                  <a:off x="4898160" y="242064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+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12" name="テキスト ボックス 10"/>
                <p:cNvSpPr/>
                <p:nvPr/>
              </p:nvSpPr>
              <p:spPr>
                <a:xfrm rot="16200000">
                  <a:off x="3855600" y="2093040"/>
                  <a:ext cx="93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pixel level</a:t>
                  </a:r>
                  <a:endParaRPr b="0" lang="en-US" sz="9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grpSp>
              <p:nvGrpSpPr>
                <p:cNvPr id="213" name="グループ化 60"/>
                <p:cNvGrpSpPr/>
                <p:nvPr/>
              </p:nvGrpSpPr>
              <p:grpSpPr>
                <a:xfrm>
                  <a:off x="4580640" y="2067480"/>
                  <a:ext cx="459000" cy="365040"/>
                  <a:chOff x="4580640" y="2067480"/>
                  <a:chExt cx="459000" cy="365040"/>
                </a:xfrm>
              </p:grpSpPr>
              <p:sp>
                <p:nvSpPr>
                  <p:cNvPr id="214" name="直線コネクタ 49"/>
                  <p:cNvSpPr/>
                  <p:nvPr/>
                </p:nvSpPr>
                <p:spPr>
                  <a:xfrm>
                    <a:off x="5036760" y="2095200"/>
                    <a:ext cx="0" cy="33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  <p:sp>
                <p:nvSpPr>
                  <p:cNvPr id="215" name="直線コネクタ 50"/>
                  <p:cNvSpPr/>
                  <p:nvPr/>
                </p:nvSpPr>
                <p:spPr>
                  <a:xfrm>
                    <a:off x="4808520" y="2074680"/>
                    <a:ext cx="0" cy="35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  <p:sp>
                <p:nvSpPr>
                  <p:cNvPr id="216" name="直線コネクタ 51"/>
                  <p:cNvSpPr/>
                  <p:nvPr/>
                </p:nvSpPr>
                <p:spPr>
                  <a:xfrm>
                    <a:off x="4580640" y="2253600"/>
                    <a:ext cx="0" cy="178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  <p:grpSp>
                <p:nvGrpSpPr>
                  <p:cNvPr id="217" name="グループ化 59"/>
                  <p:cNvGrpSpPr/>
                  <p:nvPr/>
                </p:nvGrpSpPr>
                <p:grpSpPr>
                  <a:xfrm>
                    <a:off x="4582440" y="2067480"/>
                    <a:ext cx="457200" cy="178920"/>
                    <a:chOff x="4582440" y="2067480"/>
                    <a:chExt cx="457200" cy="178920"/>
                  </a:xfrm>
                </p:grpSpPr>
                <p:sp>
                  <p:nvSpPr>
                    <p:cNvPr id="218" name="直線コネクタ 57"/>
                    <p:cNvSpPr/>
                    <p:nvPr/>
                  </p:nvSpPr>
                  <p:spPr>
                    <a:xfrm flipV="1">
                      <a:off x="4582440" y="2067480"/>
                      <a:ext cx="228240" cy="17892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head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p:txBody>
                </p:sp>
                <p:sp>
                  <p:nvSpPr>
                    <p:cNvPr id="219" name="直線コネクタ 58"/>
                    <p:cNvSpPr/>
                    <p:nvPr/>
                  </p:nvSpPr>
                  <p:spPr>
                    <a:xfrm flipH="1">
                      <a:off x="4809240" y="2072520"/>
                      <a:ext cx="230400" cy="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  <a:headEnd len="med" type="oval" w="med"/>
                      <a:tailEnd len="med" type="oval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3300"/>
                        </a:solidFill>
                        <a:latin typeface="Courier New"/>
                      </a:endParaRPr>
                    </a:p>
                  </p:txBody>
                </p:sp>
              </p:grpSp>
            </p:grpSp>
          </p:grpSp>
          <p:sp>
            <p:nvSpPr>
              <p:cNvPr id="220" name="テキスト ボックス 10"/>
              <p:cNvSpPr/>
              <p:nvPr/>
            </p:nvSpPr>
            <p:spPr>
              <a:xfrm>
                <a:off x="3010680" y="1028160"/>
                <a:ext cx="86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category 2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grpSp>
            <p:nvGrpSpPr>
              <p:cNvPr id="221" name="グループ化 109"/>
              <p:cNvGrpSpPr/>
              <p:nvPr/>
            </p:nvGrpSpPr>
            <p:grpSpPr>
              <a:xfrm>
                <a:off x="2778480" y="1740960"/>
                <a:ext cx="1098360" cy="935280"/>
                <a:chOff x="2778480" y="1740960"/>
                <a:chExt cx="1098360" cy="935280"/>
              </a:xfrm>
            </p:grpSpPr>
            <p:grpSp>
              <p:nvGrpSpPr>
                <p:cNvPr id="222" name="グループ化 86"/>
                <p:cNvGrpSpPr/>
                <p:nvPr/>
              </p:nvGrpSpPr>
              <p:grpSpPr>
                <a:xfrm>
                  <a:off x="3151800" y="2067840"/>
                  <a:ext cx="456480" cy="178560"/>
                  <a:chOff x="3151800" y="2067840"/>
                  <a:chExt cx="456480" cy="178560"/>
                </a:xfrm>
              </p:grpSpPr>
              <p:sp>
                <p:nvSpPr>
                  <p:cNvPr id="223" name="直線コネクタ 71"/>
                  <p:cNvSpPr/>
                  <p:nvPr/>
                </p:nvSpPr>
                <p:spPr>
                  <a:xfrm flipH="1">
                    <a:off x="3380400" y="2067840"/>
                    <a:ext cx="227880" cy="17856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  <p:sp>
                <p:nvSpPr>
                  <p:cNvPr id="224" name="直線コネクタ 72"/>
                  <p:cNvSpPr/>
                  <p:nvPr/>
                </p:nvSpPr>
                <p:spPr>
                  <a:xfrm>
                    <a:off x="3151800" y="2241720"/>
                    <a:ext cx="23004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</p:grpSp>
            <p:cxnSp>
              <p:nvCxnSpPr>
                <p:cNvPr id="225" name="直線矢印コネクタ 73"/>
                <p:cNvCxnSpPr/>
                <p:nvPr/>
              </p:nvCxnSpPr>
              <p:spPr>
                <a:xfrm flipV="1">
                  <a:off x="3002040" y="1955160"/>
                  <a:ext cx="1080" cy="477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26" name="直線矢印コネクタ 74"/>
                <p:cNvCxnSpPr/>
                <p:nvPr/>
              </p:nvCxnSpPr>
              <p:spPr>
                <a:xfrm>
                  <a:off x="3002400" y="2432160"/>
                  <a:ext cx="87480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27" name="テキスト ボックス 10"/>
                <p:cNvSpPr/>
                <p:nvPr/>
              </p:nvSpPr>
              <p:spPr>
                <a:xfrm>
                  <a:off x="3012840" y="242064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-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28" name="テキスト ボックス 76"/>
                <p:cNvSpPr/>
                <p:nvPr/>
              </p:nvSpPr>
              <p:spPr>
                <a:xfrm>
                  <a:off x="3278160" y="2420640"/>
                  <a:ext cx="234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29" name="テキスト ボックス 10"/>
                <p:cNvSpPr/>
                <p:nvPr/>
              </p:nvSpPr>
              <p:spPr>
                <a:xfrm>
                  <a:off x="3469320" y="242064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+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0" name="テキスト ボックス 10"/>
                <p:cNvSpPr/>
                <p:nvPr/>
              </p:nvSpPr>
              <p:spPr>
                <a:xfrm rot="16200000">
                  <a:off x="2426400" y="2093040"/>
                  <a:ext cx="93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pixel level</a:t>
                  </a:r>
                  <a:endParaRPr b="0" lang="en-US" sz="9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1" name="直線コネクタ 80"/>
                <p:cNvSpPr/>
                <p:nvPr/>
              </p:nvSpPr>
              <p:spPr>
                <a:xfrm>
                  <a:off x="3607560" y="2095200"/>
                  <a:ext cx="0" cy="336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2" name="直線コネクタ 81"/>
                <p:cNvSpPr/>
                <p:nvPr/>
              </p:nvSpPr>
              <p:spPr>
                <a:xfrm>
                  <a:off x="3379680" y="2255040"/>
                  <a:ext cx="0" cy="17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3" name="直線コネクタ 82"/>
                <p:cNvSpPr/>
                <p:nvPr/>
              </p:nvSpPr>
              <p:spPr>
                <a:xfrm>
                  <a:off x="3151800" y="2253600"/>
                  <a:ext cx="0" cy="178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grpSp>
            <p:nvGrpSpPr>
              <p:cNvPr id="234" name="グループ化 106"/>
              <p:cNvGrpSpPr/>
              <p:nvPr/>
            </p:nvGrpSpPr>
            <p:grpSpPr>
              <a:xfrm>
                <a:off x="2782080" y="984600"/>
                <a:ext cx="1098720" cy="935280"/>
                <a:chOff x="2782080" y="984600"/>
                <a:chExt cx="1098720" cy="935280"/>
              </a:xfrm>
            </p:grpSpPr>
            <p:cxnSp>
              <p:nvCxnSpPr>
                <p:cNvPr id="235" name="直線矢印コネクタ 61"/>
                <p:cNvCxnSpPr/>
                <p:nvPr/>
              </p:nvCxnSpPr>
              <p:spPr>
                <a:xfrm flipV="1">
                  <a:off x="3006000" y="1199520"/>
                  <a:ext cx="1080" cy="47664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cxnSp>
              <p:nvCxnSpPr>
                <p:cNvPr id="236" name="直線矢印コネクタ 62"/>
                <p:cNvCxnSpPr/>
                <p:nvPr/>
              </p:nvCxnSpPr>
              <p:spPr>
                <a:xfrm>
                  <a:off x="3006000" y="1675440"/>
                  <a:ext cx="875160" cy="108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arrow" w="med"/>
                </a:ln>
              </p:spPr>
            </p:cxnSp>
            <p:sp>
              <p:nvSpPr>
                <p:cNvPr id="237" name="直線コネクタ 63"/>
                <p:cNvSpPr/>
                <p:nvPr/>
              </p:nvSpPr>
              <p:spPr>
                <a:xfrm>
                  <a:off x="3158280" y="1339200"/>
                  <a:ext cx="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8" name="直線コネクタ 64"/>
                <p:cNvSpPr/>
                <p:nvPr/>
              </p:nvSpPr>
              <p:spPr>
                <a:xfrm>
                  <a:off x="3386520" y="1499400"/>
                  <a:ext cx="0" cy="17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39" name="直線コネクタ 65"/>
                <p:cNvSpPr/>
                <p:nvPr/>
              </p:nvSpPr>
              <p:spPr>
                <a:xfrm>
                  <a:off x="3614760" y="1497240"/>
                  <a:ext cx="0" cy="178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40" name="テキスト ボックス 10"/>
                <p:cNvSpPr/>
                <p:nvPr/>
              </p:nvSpPr>
              <p:spPr>
                <a:xfrm>
                  <a:off x="3010680" y="16714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-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41" name="テキスト ボックス 67"/>
                <p:cNvSpPr/>
                <p:nvPr/>
              </p:nvSpPr>
              <p:spPr>
                <a:xfrm>
                  <a:off x="3276000" y="1671480"/>
                  <a:ext cx="23400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42" name="テキスト ボックス 10"/>
                <p:cNvSpPr/>
                <p:nvPr/>
              </p:nvSpPr>
              <p:spPr>
                <a:xfrm>
                  <a:off x="3467160" y="1671480"/>
                  <a:ext cx="340920" cy="20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x+1</a:t>
                  </a:r>
                  <a:endParaRPr b="0" lang="en-US" sz="7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43" name="テキスト ボックス 10"/>
                <p:cNvSpPr/>
                <p:nvPr/>
              </p:nvSpPr>
              <p:spPr>
                <a:xfrm rot="16200000">
                  <a:off x="2430000" y="1336680"/>
                  <a:ext cx="935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pixel level</a:t>
                  </a:r>
                  <a:endParaRPr b="0" lang="en-US" sz="9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grpSp>
              <p:nvGrpSpPr>
                <p:cNvPr id="244" name="グループ化 59"/>
                <p:cNvGrpSpPr/>
                <p:nvPr/>
              </p:nvGrpSpPr>
              <p:grpSpPr>
                <a:xfrm>
                  <a:off x="3160800" y="1320480"/>
                  <a:ext cx="457200" cy="178200"/>
                  <a:chOff x="3160800" y="1320480"/>
                  <a:chExt cx="457200" cy="178200"/>
                </a:xfrm>
              </p:grpSpPr>
              <p:sp>
                <p:nvSpPr>
                  <p:cNvPr id="245" name="直線コネクタ 84"/>
                  <p:cNvSpPr/>
                  <p:nvPr/>
                </p:nvSpPr>
                <p:spPr>
                  <a:xfrm>
                    <a:off x="3160800" y="1320480"/>
                    <a:ext cx="228240" cy="1782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  <p:sp>
                <p:nvSpPr>
                  <p:cNvPr id="246" name="直線コネクタ 85"/>
                  <p:cNvSpPr/>
                  <p:nvPr/>
                </p:nvSpPr>
                <p:spPr>
                  <a:xfrm flipH="1">
                    <a:off x="3387600" y="1493640"/>
                    <a:ext cx="2304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  <a:headEnd len="med" type="oval" w="med"/>
                    <a:tail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000" spc="-1" strike="noStrike">
                      <a:solidFill>
                        <a:srgbClr val="ff3300"/>
                      </a:solidFill>
                      <a:latin typeface="Courier New"/>
                    </a:endParaRPr>
                  </a:p>
                </p:txBody>
              </p:sp>
            </p:grpSp>
          </p:grpSp>
          <p:cxnSp>
            <p:nvCxnSpPr>
              <p:cNvPr id="247" name="直線矢印コネクタ 89"/>
              <p:cNvCxnSpPr/>
              <p:nvPr/>
            </p:nvCxnSpPr>
            <p:spPr>
              <a:xfrm flipV="1">
                <a:off x="1576800" y="1198440"/>
                <a:ext cx="1080" cy="47772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48" name="直線矢印コネクタ 90"/>
              <p:cNvCxnSpPr/>
              <p:nvPr/>
            </p:nvCxnSpPr>
            <p:spPr>
              <a:xfrm>
                <a:off x="1576800" y="1675800"/>
                <a:ext cx="874440" cy="10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arrow" w="med"/>
              </a:ln>
            </p:spPr>
          </p:cxnSp>
          <p:grpSp>
            <p:nvGrpSpPr>
              <p:cNvPr id="249" name="グループ化 101"/>
              <p:cNvGrpSpPr/>
              <p:nvPr/>
            </p:nvGrpSpPr>
            <p:grpSpPr>
              <a:xfrm>
                <a:off x="1729080" y="1319040"/>
                <a:ext cx="455040" cy="178200"/>
                <a:chOff x="1729080" y="1319040"/>
                <a:chExt cx="455040" cy="178200"/>
              </a:xfrm>
            </p:grpSpPr>
            <p:sp>
              <p:nvSpPr>
                <p:cNvPr id="250" name="直線コネクタ 91"/>
                <p:cNvSpPr/>
                <p:nvPr/>
              </p:nvSpPr>
              <p:spPr>
                <a:xfrm>
                  <a:off x="1729080" y="1319040"/>
                  <a:ext cx="227520" cy="178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51" name="直線コネクタ 92"/>
                <p:cNvSpPr/>
                <p:nvPr/>
              </p:nvSpPr>
              <p:spPr>
                <a:xfrm flipH="1">
                  <a:off x="1956600" y="1319040"/>
                  <a:ext cx="227520" cy="17820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252" name="直線コネクタ 93"/>
              <p:cNvSpPr/>
              <p:nvPr/>
            </p:nvSpPr>
            <p:spPr>
              <a:xfrm>
                <a:off x="1729080" y="130140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3" name="直線コネクタ 94"/>
              <p:cNvSpPr/>
              <p:nvPr/>
            </p:nvSpPr>
            <p:spPr>
              <a:xfrm>
                <a:off x="1956240" y="148896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4" name="直線コネクタ 95"/>
              <p:cNvSpPr/>
              <p:nvPr/>
            </p:nvSpPr>
            <p:spPr>
              <a:xfrm>
                <a:off x="2184480" y="1301400"/>
                <a:ext cx="0" cy="37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5" name="テキスト ボックス 10"/>
              <p:cNvSpPr/>
              <p:nvPr/>
            </p:nvSpPr>
            <p:spPr>
              <a:xfrm>
                <a:off x="1587240" y="1672200"/>
                <a:ext cx="340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x-1</a:t>
                </a:r>
                <a:endParaRPr b="0" lang="en-US" sz="7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6" name="テキスト ボックス 97"/>
              <p:cNvSpPr/>
              <p:nvPr/>
            </p:nvSpPr>
            <p:spPr>
              <a:xfrm>
                <a:off x="1852200" y="1672200"/>
                <a:ext cx="2340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endParaRPr b="0" lang="en-US" sz="7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7" name="テキスト ボックス 10"/>
              <p:cNvSpPr/>
              <p:nvPr/>
            </p:nvSpPr>
            <p:spPr>
              <a:xfrm>
                <a:off x="2043720" y="1672200"/>
                <a:ext cx="340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x+1</a:t>
                </a:r>
                <a:endParaRPr b="0" lang="en-US" sz="7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8" name="テキスト ボックス 10"/>
              <p:cNvSpPr/>
              <p:nvPr/>
            </p:nvSpPr>
            <p:spPr>
              <a:xfrm rot="16200000">
                <a:off x="1000440" y="1336680"/>
                <a:ext cx="93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pixel level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59" name="テキスト ボックス 10"/>
              <p:cNvSpPr/>
              <p:nvPr/>
            </p:nvSpPr>
            <p:spPr>
              <a:xfrm>
                <a:off x="1581840" y="1028160"/>
                <a:ext cx="86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category 1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60" name="テキスト ボックス 10"/>
              <p:cNvSpPr/>
              <p:nvPr/>
            </p:nvSpPr>
            <p:spPr>
              <a:xfrm>
                <a:off x="1531800" y="1758960"/>
                <a:ext cx="93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pixel index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61" name="テキスト ボックス 10"/>
              <p:cNvSpPr/>
              <p:nvPr/>
            </p:nvSpPr>
            <p:spPr>
              <a:xfrm>
                <a:off x="3010680" y="1758960"/>
                <a:ext cx="93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pixel index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62" name="テキスト ボックス 10"/>
              <p:cNvSpPr/>
              <p:nvPr/>
            </p:nvSpPr>
            <p:spPr>
              <a:xfrm>
                <a:off x="4440960" y="1758960"/>
                <a:ext cx="93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pixel index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63" name="テキスト ボックス 10"/>
              <p:cNvSpPr/>
              <p:nvPr/>
            </p:nvSpPr>
            <p:spPr>
              <a:xfrm>
                <a:off x="5771160" y="1758960"/>
                <a:ext cx="9352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ourier New"/>
                  </a:rPr>
                  <a:t>pixel index</a:t>
                </a:r>
                <a:endParaRPr b="0" lang="en-US" sz="9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</p:grpSp>
      <p:grpSp>
        <p:nvGrpSpPr>
          <p:cNvPr id="264" name="グループ化 92"/>
          <p:cNvGrpSpPr/>
          <p:nvPr/>
        </p:nvGrpSpPr>
        <p:grpSpPr>
          <a:xfrm>
            <a:off x="543960" y="4076640"/>
            <a:ext cx="7403760" cy="1848240"/>
            <a:chOff x="543960" y="4076640"/>
            <a:chExt cx="7403760" cy="1848240"/>
          </a:xfrm>
        </p:grpSpPr>
        <p:sp>
          <p:nvSpPr>
            <p:cNvPr id="265" name="円/楕円 178"/>
            <p:cNvSpPr/>
            <p:nvPr/>
          </p:nvSpPr>
          <p:spPr>
            <a:xfrm>
              <a:off x="5802480" y="4280040"/>
              <a:ext cx="273240" cy="487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66" name="円/楕円 83"/>
            <p:cNvSpPr/>
            <p:nvPr/>
          </p:nvSpPr>
          <p:spPr>
            <a:xfrm>
              <a:off x="2417040" y="4280040"/>
              <a:ext cx="273240" cy="487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67" name="円/楕円 85"/>
            <p:cNvSpPr/>
            <p:nvPr/>
          </p:nvSpPr>
          <p:spPr>
            <a:xfrm>
              <a:off x="1760760" y="4280040"/>
              <a:ext cx="382680" cy="1017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268" name="グループ化 99"/>
            <p:cNvGrpSpPr/>
            <p:nvPr/>
          </p:nvGrpSpPr>
          <p:grpSpPr>
            <a:xfrm>
              <a:off x="1623600" y="4523760"/>
              <a:ext cx="1528920" cy="691200"/>
              <a:chOff x="1623600" y="4523760"/>
              <a:chExt cx="1528920" cy="691200"/>
            </a:xfrm>
          </p:grpSpPr>
          <p:grpSp>
            <p:nvGrpSpPr>
              <p:cNvPr id="269" name="グループ化 97"/>
              <p:cNvGrpSpPr/>
              <p:nvPr/>
            </p:nvGrpSpPr>
            <p:grpSpPr>
              <a:xfrm>
                <a:off x="1623600" y="4524120"/>
                <a:ext cx="1528920" cy="690840"/>
                <a:chOff x="1623600" y="4524120"/>
                <a:chExt cx="1528920" cy="690840"/>
              </a:xfrm>
            </p:grpSpPr>
            <p:sp>
              <p:nvSpPr>
                <p:cNvPr id="270" name="直線コネクタ 88"/>
                <p:cNvSpPr/>
                <p:nvPr/>
              </p:nvSpPr>
              <p:spPr>
                <a:xfrm flipV="1">
                  <a:off x="1896480" y="4645800"/>
                  <a:ext cx="109080" cy="56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1" name="直線コネクタ 89"/>
                <p:cNvSpPr/>
                <p:nvPr/>
              </p:nvSpPr>
              <p:spPr>
                <a:xfrm>
                  <a:off x="2005560" y="4646160"/>
                  <a:ext cx="10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2" name="直線コネクタ 90"/>
                <p:cNvSpPr/>
                <p:nvPr/>
              </p:nvSpPr>
              <p:spPr>
                <a:xfrm>
                  <a:off x="2115000" y="464616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3" name="直線コネクタ 91"/>
                <p:cNvSpPr/>
                <p:nvPr/>
              </p:nvSpPr>
              <p:spPr>
                <a:xfrm flipV="1">
                  <a:off x="2278800" y="4604760"/>
                  <a:ext cx="218160" cy="4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4" name="直線コネクタ 92"/>
                <p:cNvSpPr/>
                <p:nvPr/>
              </p:nvSpPr>
              <p:spPr>
                <a:xfrm>
                  <a:off x="2606400" y="4524120"/>
                  <a:ext cx="5436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5" name="直線コネクタ 93"/>
                <p:cNvSpPr/>
                <p:nvPr/>
              </p:nvSpPr>
              <p:spPr>
                <a:xfrm>
                  <a:off x="2661120" y="4646160"/>
                  <a:ext cx="16380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6" name="直線コネクタ 94"/>
                <p:cNvSpPr/>
                <p:nvPr/>
              </p:nvSpPr>
              <p:spPr>
                <a:xfrm>
                  <a:off x="2824920" y="468648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7" name="直線コネクタ 95"/>
                <p:cNvSpPr/>
                <p:nvPr/>
              </p:nvSpPr>
              <p:spPr>
                <a:xfrm>
                  <a:off x="1623600" y="5174640"/>
                  <a:ext cx="27288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278" name="直線コネクタ 96"/>
                <p:cNvSpPr/>
                <p:nvPr/>
              </p:nvSpPr>
              <p:spPr>
                <a:xfrm>
                  <a:off x="2988720" y="468648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279" name="直線コネクタ 98"/>
              <p:cNvSpPr/>
              <p:nvPr/>
            </p:nvSpPr>
            <p:spPr>
              <a:xfrm flipV="1">
                <a:off x="2497320" y="4523760"/>
                <a:ext cx="1090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280" name="直線コネクタ 44"/>
            <p:cNvSpPr/>
            <p:nvPr/>
          </p:nvSpPr>
          <p:spPr>
            <a:xfrm flipV="1">
              <a:off x="2471040" y="4524120"/>
              <a:ext cx="109440" cy="80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81" name="直線コネクタ 56"/>
            <p:cNvSpPr/>
            <p:nvPr/>
          </p:nvSpPr>
          <p:spPr>
            <a:xfrm>
              <a:off x="1488600" y="5337720"/>
              <a:ext cx="180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82" name="直線コネクタ 58"/>
            <p:cNvSpPr/>
            <p:nvPr/>
          </p:nvSpPr>
          <p:spPr>
            <a:xfrm>
              <a:off x="1706400" y="4238640"/>
              <a:ext cx="0" cy="118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83" name="直線コネクタ 59"/>
            <p:cNvSpPr/>
            <p:nvPr/>
          </p:nvSpPr>
          <p:spPr>
            <a:xfrm>
              <a:off x="3071880" y="4238640"/>
              <a:ext cx="0" cy="118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284" name="グループ化 109"/>
            <p:cNvGrpSpPr/>
            <p:nvPr/>
          </p:nvGrpSpPr>
          <p:grpSpPr>
            <a:xfrm>
              <a:off x="1596960" y="4401720"/>
              <a:ext cx="1528920" cy="813240"/>
              <a:chOff x="1596960" y="4401720"/>
              <a:chExt cx="1528920" cy="813240"/>
            </a:xfrm>
          </p:grpSpPr>
          <p:sp>
            <p:nvSpPr>
              <p:cNvPr id="285" name="直線コネクタ 34"/>
              <p:cNvSpPr/>
              <p:nvPr/>
            </p:nvSpPr>
            <p:spPr>
              <a:xfrm flipV="1">
                <a:off x="1869840" y="4401720"/>
                <a:ext cx="109080" cy="813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86" name="直線コネクタ 36"/>
              <p:cNvSpPr/>
              <p:nvPr/>
            </p:nvSpPr>
            <p:spPr>
              <a:xfrm>
                <a:off x="1978920" y="4402080"/>
                <a:ext cx="109080" cy="243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87" name="直線コネクタ 38"/>
              <p:cNvSpPr/>
              <p:nvPr/>
            </p:nvSpPr>
            <p:spPr>
              <a:xfrm>
                <a:off x="2088360" y="464580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88" name="直線コネクタ 42"/>
              <p:cNvSpPr/>
              <p:nvPr/>
            </p:nvSpPr>
            <p:spPr>
              <a:xfrm flipV="1">
                <a:off x="2252160" y="4605480"/>
                <a:ext cx="21816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89" name="直線コネクタ 48"/>
              <p:cNvSpPr/>
              <p:nvPr/>
            </p:nvSpPr>
            <p:spPr>
              <a:xfrm>
                <a:off x="2579760" y="4523760"/>
                <a:ext cx="54360" cy="121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90" name="直線コネクタ 50"/>
              <p:cNvSpPr/>
              <p:nvPr/>
            </p:nvSpPr>
            <p:spPr>
              <a:xfrm>
                <a:off x="2634480" y="4645800"/>
                <a:ext cx="16380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91" name="直線コネクタ 52"/>
              <p:cNvSpPr/>
              <p:nvPr/>
            </p:nvSpPr>
            <p:spPr>
              <a:xfrm>
                <a:off x="2798280" y="468648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92" name="直線コネクタ 60"/>
              <p:cNvSpPr/>
              <p:nvPr/>
            </p:nvSpPr>
            <p:spPr>
              <a:xfrm>
                <a:off x="1596960" y="5174640"/>
                <a:ext cx="27288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293" name="直線コネクタ 62"/>
              <p:cNvSpPr/>
              <p:nvPr/>
            </p:nvSpPr>
            <p:spPr>
              <a:xfrm>
                <a:off x="2962080" y="468648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294" name="テキスト ボックス 10"/>
            <p:cNvSpPr/>
            <p:nvPr/>
          </p:nvSpPr>
          <p:spPr>
            <a:xfrm>
              <a:off x="2189520" y="5337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CU</a:t>
              </a:r>
              <a:endParaRPr b="0" lang="en-US" sz="14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295" name="テキスト ボックス 10"/>
            <p:cNvSpPr/>
            <p:nvPr/>
          </p:nvSpPr>
          <p:spPr>
            <a:xfrm>
              <a:off x="543960" y="4564440"/>
              <a:ext cx="11026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trong edge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96" name="直線矢印コネクタ 67"/>
            <p:cNvCxnSpPr/>
            <p:nvPr/>
          </p:nvCxnSpPr>
          <p:spPr>
            <a:xfrm>
              <a:off x="1131840" y="4737960"/>
              <a:ext cx="79380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7" name="テキスト ボックス 10"/>
            <p:cNvSpPr/>
            <p:nvPr/>
          </p:nvSpPr>
          <p:spPr>
            <a:xfrm>
              <a:off x="3111840" y="4198320"/>
              <a:ext cx="93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weak edge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298" name="直線矢印コネクタ 69"/>
            <p:cNvCxnSpPr/>
            <p:nvPr/>
          </p:nvCxnSpPr>
          <p:spPr>
            <a:xfrm flipH="1">
              <a:off x="2689920" y="4320000"/>
              <a:ext cx="491760" cy="24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9" name="テキスト ボックス 10"/>
            <p:cNvSpPr/>
            <p:nvPr/>
          </p:nvSpPr>
          <p:spPr>
            <a:xfrm>
              <a:off x="930600" y="4198320"/>
              <a:ext cx="7675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ringing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noise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300" name="直線矢印コネクタ 72"/>
            <p:cNvCxnSpPr/>
            <p:nvPr/>
          </p:nvCxnSpPr>
          <p:spPr>
            <a:xfrm>
              <a:off x="1488600" y="4402080"/>
              <a:ext cx="43776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01" name="テキスト ボックス 10"/>
            <p:cNvSpPr/>
            <p:nvPr/>
          </p:nvSpPr>
          <p:spPr>
            <a:xfrm>
              <a:off x="1856160" y="4076640"/>
              <a:ext cx="93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ategory4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2" name="直線コネクタ 111"/>
            <p:cNvSpPr/>
            <p:nvPr/>
          </p:nvSpPr>
          <p:spPr>
            <a:xfrm>
              <a:off x="1581120" y="558180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3" name="テキスト ボックス 10"/>
            <p:cNvSpPr/>
            <p:nvPr/>
          </p:nvSpPr>
          <p:spPr>
            <a:xfrm>
              <a:off x="1887480" y="5500080"/>
              <a:ext cx="1354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original pixel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4" name="直線コネクタ 113"/>
            <p:cNvSpPr/>
            <p:nvPr/>
          </p:nvSpPr>
          <p:spPr>
            <a:xfrm>
              <a:off x="1581120" y="5744880"/>
              <a:ext cx="327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5" name="テキスト ボックス 10"/>
            <p:cNvSpPr/>
            <p:nvPr/>
          </p:nvSpPr>
          <p:spPr>
            <a:xfrm>
              <a:off x="1881000" y="5663520"/>
              <a:ext cx="1773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reconstructed pixel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6" name="直線コネクタ 116"/>
            <p:cNvSpPr/>
            <p:nvPr/>
          </p:nvSpPr>
          <p:spPr>
            <a:xfrm flipH="1">
              <a:off x="1979640" y="4328280"/>
              <a:ext cx="34380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7" name="直線コネクタ 117"/>
            <p:cNvSpPr/>
            <p:nvPr/>
          </p:nvSpPr>
          <p:spPr>
            <a:xfrm>
              <a:off x="2323800" y="4328280"/>
              <a:ext cx="20232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08" name="円/楕円 165"/>
            <p:cNvSpPr/>
            <p:nvPr/>
          </p:nvSpPr>
          <p:spPr>
            <a:xfrm>
              <a:off x="5147640" y="4280040"/>
              <a:ext cx="381600" cy="1017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309" name="グループ化 166"/>
            <p:cNvGrpSpPr/>
            <p:nvPr/>
          </p:nvGrpSpPr>
          <p:grpSpPr>
            <a:xfrm>
              <a:off x="5009040" y="4523760"/>
              <a:ext cx="1528920" cy="691200"/>
              <a:chOff x="5009040" y="4523760"/>
              <a:chExt cx="1528920" cy="691200"/>
            </a:xfrm>
          </p:grpSpPr>
          <p:grpSp>
            <p:nvGrpSpPr>
              <p:cNvPr id="310" name="グループ化 97"/>
              <p:cNvGrpSpPr/>
              <p:nvPr/>
            </p:nvGrpSpPr>
            <p:grpSpPr>
              <a:xfrm>
                <a:off x="5009040" y="4524120"/>
                <a:ext cx="1528920" cy="690840"/>
                <a:chOff x="5009040" y="4524120"/>
                <a:chExt cx="1528920" cy="690840"/>
              </a:xfrm>
            </p:grpSpPr>
            <p:sp>
              <p:nvSpPr>
                <p:cNvPr id="311" name="直線コネクタ 169"/>
                <p:cNvSpPr/>
                <p:nvPr/>
              </p:nvSpPr>
              <p:spPr>
                <a:xfrm flipV="1">
                  <a:off x="5281920" y="4645800"/>
                  <a:ext cx="109080" cy="56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2" name="直線コネクタ 170"/>
                <p:cNvSpPr/>
                <p:nvPr/>
              </p:nvSpPr>
              <p:spPr>
                <a:xfrm>
                  <a:off x="5391000" y="4646160"/>
                  <a:ext cx="10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3" name="直線コネクタ 171"/>
                <p:cNvSpPr/>
                <p:nvPr/>
              </p:nvSpPr>
              <p:spPr>
                <a:xfrm>
                  <a:off x="5500440" y="464616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4" name="直線コネクタ 172"/>
                <p:cNvSpPr/>
                <p:nvPr/>
              </p:nvSpPr>
              <p:spPr>
                <a:xfrm flipV="1">
                  <a:off x="5664240" y="4604760"/>
                  <a:ext cx="218160" cy="40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5" name="直線コネクタ 173"/>
                <p:cNvSpPr/>
                <p:nvPr/>
              </p:nvSpPr>
              <p:spPr>
                <a:xfrm>
                  <a:off x="5991840" y="4524120"/>
                  <a:ext cx="54360" cy="122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6" name="直線コネクタ 174"/>
                <p:cNvSpPr/>
                <p:nvPr/>
              </p:nvSpPr>
              <p:spPr>
                <a:xfrm>
                  <a:off x="6046560" y="4646160"/>
                  <a:ext cx="16380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7" name="直線コネクタ 175"/>
                <p:cNvSpPr/>
                <p:nvPr/>
              </p:nvSpPr>
              <p:spPr>
                <a:xfrm>
                  <a:off x="6210360" y="468648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8" name="直線コネクタ 176"/>
                <p:cNvSpPr/>
                <p:nvPr/>
              </p:nvSpPr>
              <p:spPr>
                <a:xfrm>
                  <a:off x="5009040" y="5174640"/>
                  <a:ext cx="27288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319" name="直線コネクタ 177"/>
                <p:cNvSpPr/>
                <p:nvPr/>
              </p:nvSpPr>
              <p:spPr>
                <a:xfrm>
                  <a:off x="6374160" y="4686480"/>
                  <a:ext cx="16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320" name="直線コネクタ 168"/>
              <p:cNvSpPr/>
              <p:nvPr/>
            </p:nvSpPr>
            <p:spPr>
              <a:xfrm flipV="1">
                <a:off x="5882760" y="4523760"/>
                <a:ext cx="10908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321" name="直線コネクタ 179"/>
            <p:cNvSpPr/>
            <p:nvPr/>
          </p:nvSpPr>
          <p:spPr>
            <a:xfrm>
              <a:off x="5856480" y="4604760"/>
              <a:ext cx="109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22" name="直線コネクタ 180"/>
            <p:cNvSpPr/>
            <p:nvPr/>
          </p:nvSpPr>
          <p:spPr>
            <a:xfrm>
              <a:off x="4874040" y="5337720"/>
              <a:ext cx="180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23" name="直線コネクタ 181"/>
            <p:cNvSpPr/>
            <p:nvPr/>
          </p:nvSpPr>
          <p:spPr>
            <a:xfrm>
              <a:off x="5092200" y="4238640"/>
              <a:ext cx="0" cy="118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24" name="直線コネクタ 182"/>
            <p:cNvSpPr/>
            <p:nvPr/>
          </p:nvSpPr>
          <p:spPr>
            <a:xfrm>
              <a:off x="6457320" y="4238640"/>
              <a:ext cx="0" cy="118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325" name="グループ化 183"/>
            <p:cNvGrpSpPr/>
            <p:nvPr/>
          </p:nvGrpSpPr>
          <p:grpSpPr>
            <a:xfrm>
              <a:off x="4983840" y="4524120"/>
              <a:ext cx="1528920" cy="691200"/>
              <a:chOff x="4983840" y="4524120"/>
              <a:chExt cx="1528920" cy="691200"/>
            </a:xfrm>
          </p:grpSpPr>
          <p:sp>
            <p:nvSpPr>
              <p:cNvPr id="326" name="直線コネクタ 184"/>
              <p:cNvSpPr/>
              <p:nvPr/>
            </p:nvSpPr>
            <p:spPr>
              <a:xfrm flipV="1">
                <a:off x="5256720" y="4524120"/>
                <a:ext cx="109080" cy="691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27" name="直線コネクタ 185"/>
              <p:cNvSpPr/>
              <p:nvPr/>
            </p:nvSpPr>
            <p:spPr>
              <a:xfrm>
                <a:off x="5365800" y="4524120"/>
                <a:ext cx="109080" cy="1216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28" name="直線コネクタ 186"/>
              <p:cNvSpPr/>
              <p:nvPr/>
            </p:nvSpPr>
            <p:spPr>
              <a:xfrm>
                <a:off x="5475240" y="464580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29" name="直線コネクタ 187"/>
              <p:cNvSpPr/>
              <p:nvPr/>
            </p:nvSpPr>
            <p:spPr>
              <a:xfrm flipV="1">
                <a:off x="5639040" y="4605480"/>
                <a:ext cx="21816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30" name="直線コネクタ 188"/>
              <p:cNvSpPr/>
              <p:nvPr/>
            </p:nvSpPr>
            <p:spPr>
              <a:xfrm>
                <a:off x="5966640" y="4605480"/>
                <a:ext cx="5436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31" name="直線コネクタ 189"/>
              <p:cNvSpPr/>
              <p:nvPr/>
            </p:nvSpPr>
            <p:spPr>
              <a:xfrm>
                <a:off x="6021360" y="4645800"/>
                <a:ext cx="16380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32" name="直線コネクタ 190"/>
              <p:cNvSpPr/>
              <p:nvPr/>
            </p:nvSpPr>
            <p:spPr>
              <a:xfrm>
                <a:off x="6185160" y="468648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33" name="直線コネクタ 191"/>
              <p:cNvSpPr/>
              <p:nvPr/>
            </p:nvSpPr>
            <p:spPr>
              <a:xfrm>
                <a:off x="4983840" y="5174640"/>
                <a:ext cx="272880" cy="40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334" name="直線コネクタ 192"/>
              <p:cNvSpPr/>
              <p:nvPr/>
            </p:nvSpPr>
            <p:spPr>
              <a:xfrm>
                <a:off x="6348960" y="4686480"/>
                <a:ext cx="1638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335" name="テキスト ボックス 10"/>
            <p:cNvSpPr/>
            <p:nvPr/>
          </p:nvSpPr>
          <p:spPr>
            <a:xfrm>
              <a:off x="5576400" y="5337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CU</a:t>
              </a:r>
              <a:endParaRPr b="0" lang="en-US" sz="14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36" name="テキスト ボックス 10"/>
            <p:cNvSpPr/>
            <p:nvPr/>
          </p:nvSpPr>
          <p:spPr>
            <a:xfrm>
              <a:off x="6522480" y="4198320"/>
              <a:ext cx="13543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lose original 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weak edge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337" name="直線矢印コネクタ 197"/>
            <p:cNvCxnSpPr/>
            <p:nvPr/>
          </p:nvCxnSpPr>
          <p:spPr>
            <a:xfrm flipH="1">
              <a:off x="6075360" y="4320000"/>
              <a:ext cx="491760" cy="24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38" name="テキスト ボックス 10"/>
            <p:cNvSpPr/>
            <p:nvPr/>
          </p:nvSpPr>
          <p:spPr>
            <a:xfrm>
              <a:off x="4152240" y="4116960"/>
              <a:ext cx="767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remain 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ringing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noise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339" name="直線矢印コネクタ 199"/>
            <p:cNvCxnSpPr/>
            <p:nvPr/>
          </p:nvCxnSpPr>
          <p:spPr>
            <a:xfrm>
              <a:off x="4874040" y="4402080"/>
              <a:ext cx="437760" cy="16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40" name="テキスト ボックス 10"/>
            <p:cNvSpPr/>
            <p:nvPr/>
          </p:nvSpPr>
          <p:spPr>
            <a:xfrm>
              <a:off x="5241960" y="4076640"/>
              <a:ext cx="935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ategory4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1" name="直線コネクタ 201"/>
            <p:cNvSpPr/>
            <p:nvPr/>
          </p:nvSpPr>
          <p:spPr>
            <a:xfrm>
              <a:off x="4966560" y="5581800"/>
              <a:ext cx="3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2" name="テキスト ボックス 10"/>
            <p:cNvSpPr/>
            <p:nvPr/>
          </p:nvSpPr>
          <p:spPr>
            <a:xfrm>
              <a:off x="5273280" y="5500080"/>
              <a:ext cx="1354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original pixel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3" name="直線コネクタ 203"/>
            <p:cNvSpPr/>
            <p:nvPr/>
          </p:nvSpPr>
          <p:spPr>
            <a:xfrm>
              <a:off x="4966560" y="5744880"/>
              <a:ext cx="327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4" name="テキスト ボックス 10"/>
            <p:cNvSpPr/>
            <p:nvPr/>
          </p:nvSpPr>
          <p:spPr>
            <a:xfrm>
              <a:off x="5252400" y="5663520"/>
              <a:ext cx="26953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reconstructed pixel applied EO</a:t>
              </a:r>
              <a:endParaRPr b="0" lang="en-US" sz="11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5" name="直線コネクタ 205"/>
            <p:cNvSpPr/>
            <p:nvPr/>
          </p:nvSpPr>
          <p:spPr>
            <a:xfrm flipH="1">
              <a:off x="5365080" y="4328280"/>
              <a:ext cx="34380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6" name="直線コネクタ 206"/>
            <p:cNvSpPr/>
            <p:nvPr/>
          </p:nvSpPr>
          <p:spPr>
            <a:xfrm>
              <a:off x="5709240" y="4328280"/>
              <a:ext cx="20232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47" name="右矢印 215"/>
            <p:cNvSpPr/>
            <p:nvPr/>
          </p:nvSpPr>
          <p:spPr>
            <a:xfrm>
              <a:off x="3726720" y="4726800"/>
              <a:ext cx="492120" cy="285120"/>
            </a:xfrm>
            <a:prstGeom prst="rightArrow">
              <a:avLst>
                <a:gd name="adj1" fmla="val 50000"/>
                <a:gd name="adj2" fmla="val 6712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sp>
        <p:nvSpPr>
          <p:cNvPr id="348" name="正方形/長方形 179"/>
          <p:cNvSpPr/>
          <p:nvPr/>
        </p:nvSpPr>
        <p:spPr>
          <a:xfrm>
            <a:off x="6897600" y="4727520"/>
            <a:ext cx="2735280" cy="641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weak edge, such as a camera noise or a film grain, would be lost 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ight cause a blurring degradation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6DEE-FC5C-40BC-8A71-D78EF7CE7270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50" name="角丸四角形 283"/>
          <p:cNvSpPr/>
          <p:nvPr/>
        </p:nvSpPr>
        <p:spPr>
          <a:xfrm>
            <a:off x="1281240" y="2719440"/>
            <a:ext cx="2663640" cy="1227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51" name="テキスト ボックス 10"/>
          <p:cNvSpPr/>
          <p:nvPr/>
        </p:nvSpPr>
        <p:spPr>
          <a:xfrm>
            <a:off x="2409840" y="1614600"/>
            <a:ext cx="34113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tegory = 2 + Sign(P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P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-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+ Sign(P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+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-P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352" name="グループ化 288"/>
          <p:cNvGrpSpPr/>
          <p:nvPr/>
        </p:nvGrpSpPr>
        <p:grpSpPr>
          <a:xfrm>
            <a:off x="1717920" y="2046240"/>
            <a:ext cx="1968480" cy="550800"/>
            <a:chOff x="1717920" y="2046240"/>
            <a:chExt cx="1968480" cy="550800"/>
          </a:xfrm>
        </p:grpSpPr>
        <p:sp>
          <p:nvSpPr>
            <p:cNvPr id="353" name="テキスト ボックス 10"/>
            <p:cNvSpPr/>
            <p:nvPr/>
          </p:nvSpPr>
          <p:spPr>
            <a:xfrm>
              <a:off x="1717920" y="220536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ign(x)=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54" name="左中かっこ 238"/>
            <p:cNvSpPr/>
            <p:nvPr/>
          </p:nvSpPr>
          <p:spPr>
            <a:xfrm>
              <a:off x="2382480" y="2070000"/>
              <a:ext cx="99000" cy="457200"/>
            </a:xfrm>
            <a:custGeom>
              <a:avLst/>
              <a:gdLst>
                <a:gd name="textAreaLeft" fmla="*/ 63360 w 99000"/>
                <a:gd name="textAreaRight" fmla="*/ 99360 w 99000"/>
                <a:gd name="textAreaTop" fmla="*/ 2520 h 457200"/>
                <a:gd name="textAreaBottom" fmla="*/ 454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00"/>
                    <a:pt x="10800" y="400"/>
                  </a:cubicBezTo>
                  <a:lnTo>
                    <a:pt x="10800" y="10400"/>
                  </a:lnTo>
                  <a:cubicBezTo>
                    <a:pt x="10800" y="10600"/>
                    <a:pt x="5400" y="10800"/>
                    <a:pt x="0" y="10800"/>
                  </a:cubicBezTo>
                  <a:cubicBezTo>
                    <a:pt x="5400" y="10800"/>
                    <a:pt x="10800" y="11000"/>
                    <a:pt x="10800" y="11200"/>
                  </a:cubicBezTo>
                  <a:lnTo>
                    <a:pt x="10800" y="21200"/>
                  </a:lnTo>
                  <a:cubicBezTo>
                    <a:pt x="10800" y="214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55" name="テキスト ボックス 10"/>
            <p:cNvSpPr/>
            <p:nvPr/>
          </p:nvSpPr>
          <p:spPr>
            <a:xfrm>
              <a:off x="2439000" y="2046240"/>
              <a:ext cx="1247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1  (x&gt;0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-1 (x&lt;0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0  (otherwise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grpSp>
        <p:nvGrpSpPr>
          <p:cNvPr id="356" name="グループ化 289"/>
          <p:cNvGrpSpPr/>
          <p:nvPr/>
        </p:nvGrpSpPr>
        <p:grpSpPr>
          <a:xfrm>
            <a:off x="4562640" y="2046240"/>
            <a:ext cx="2657520" cy="550800"/>
            <a:chOff x="4562640" y="2046240"/>
            <a:chExt cx="2657520" cy="550800"/>
          </a:xfrm>
        </p:grpSpPr>
        <p:sp>
          <p:nvSpPr>
            <p:cNvPr id="357" name="テキスト ボックス 10"/>
            <p:cNvSpPr/>
            <p:nvPr/>
          </p:nvSpPr>
          <p:spPr>
            <a:xfrm>
              <a:off x="4562640" y="220536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ign(x)=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58" name="左中かっこ 241"/>
            <p:cNvSpPr/>
            <p:nvPr/>
          </p:nvSpPr>
          <p:spPr>
            <a:xfrm>
              <a:off x="5226840" y="2070000"/>
              <a:ext cx="99000" cy="457200"/>
            </a:xfrm>
            <a:custGeom>
              <a:avLst/>
              <a:gdLst>
                <a:gd name="textAreaLeft" fmla="*/ 63360 w 99000"/>
                <a:gd name="textAreaRight" fmla="*/ 99360 w 99000"/>
                <a:gd name="textAreaTop" fmla="*/ 2520 h 457200"/>
                <a:gd name="textAreaBottom" fmla="*/ 454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00"/>
                    <a:pt x="10800" y="400"/>
                  </a:cubicBezTo>
                  <a:lnTo>
                    <a:pt x="10800" y="10400"/>
                  </a:lnTo>
                  <a:cubicBezTo>
                    <a:pt x="10800" y="10600"/>
                    <a:pt x="5400" y="10800"/>
                    <a:pt x="0" y="10800"/>
                  </a:cubicBezTo>
                  <a:cubicBezTo>
                    <a:pt x="5400" y="10800"/>
                    <a:pt x="10800" y="11000"/>
                    <a:pt x="10800" y="11200"/>
                  </a:cubicBezTo>
                  <a:lnTo>
                    <a:pt x="10800" y="21200"/>
                  </a:lnTo>
                  <a:cubicBezTo>
                    <a:pt x="10800" y="214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59" name="テキスト ボックス 10"/>
            <p:cNvSpPr/>
            <p:nvPr/>
          </p:nvSpPr>
          <p:spPr>
            <a:xfrm>
              <a:off x="5286960" y="2046240"/>
              <a:ext cx="193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1  (x&gt;0 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&amp; x&lt;threshold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-1 (x&lt;0 </a:t>
              </a:r>
              <a:r>
                <a:rPr b="1" lang="en-US" sz="1000" spc="-1" strike="noStrike">
                  <a:solidFill>
                    <a:srgbClr val="ff0000"/>
                  </a:solidFill>
                  <a:latin typeface="Courier New"/>
                </a:rPr>
                <a:t>&amp; x&gt;-threshold</a:t>
              </a: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0  (otherwise)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cxnSp>
        <p:nvCxnSpPr>
          <p:cNvPr id="360" name="直線矢印コネクタ 248"/>
          <p:cNvCxnSpPr/>
          <p:nvPr/>
        </p:nvCxnSpPr>
        <p:spPr>
          <a:xfrm flipV="1">
            <a:off x="2918880" y="3050640"/>
            <a:ext cx="1080" cy="6105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61" name="直線矢印コネクタ 249"/>
          <p:cNvCxnSpPr/>
          <p:nvPr/>
        </p:nvCxnSpPr>
        <p:spPr>
          <a:xfrm>
            <a:off x="2918880" y="3660480"/>
            <a:ext cx="83124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2" name="直線コネクタ 250"/>
          <p:cNvSpPr/>
          <p:nvPr/>
        </p:nvSpPr>
        <p:spPr>
          <a:xfrm flipV="1">
            <a:off x="3063960" y="2974680"/>
            <a:ext cx="215640" cy="57132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3" name="直線コネクタ 251"/>
          <p:cNvSpPr/>
          <p:nvPr/>
        </p:nvSpPr>
        <p:spPr>
          <a:xfrm flipH="1" flipV="1">
            <a:off x="3279600" y="2975040"/>
            <a:ext cx="216000" cy="3816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4" name="直線コネクタ 252"/>
          <p:cNvSpPr/>
          <p:nvPr/>
        </p:nvSpPr>
        <p:spPr>
          <a:xfrm>
            <a:off x="3063960" y="354636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5" name="直線コネクタ 253"/>
          <p:cNvSpPr/>
          <p:nvPr/>
        </p:nvSpPr>
        <p:spPr>
          <a:xfrm>
            <a:off x="3279600" y="2975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6" name="直線コネクタ 254"/>
          <p:cNvSpPr/>
          <p:nvPr/>
        </p:nvSpPr>
        <p:spPr>
          <a:xfrm>
            <a:off x="3495600" y="30132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7" name="テキスト ボックス 10"/>
          <p:cNvSpPr/>
          <p:nvPr/>
        </p:nvSpPr>
        <p:spPr>
          <a:xfrm>
            <a:off x="2958480" y="36608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8" name="テキスト ボックス 10"/>
          <p:cNvSpPr/>
          <p:nvPr/>
        </p:nvSpPr>
        <p:spPr>
          <a:xfrm>
            <a:off x="3210480" y="3660840"/>
            <a:ext cx="23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69" name="テキスト ボックス 10"/>
          <p:cNvSpPr/>
          <p:nvPr/>
        </p:nvSpPr>
        <p:spPr>
          <a:xfrm>
            <a:off x="3391560" y="36608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+1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0" name="テキスト ボックス 10"/>
          <p:cNvSpPr/>
          <p:nvPr/>
        </p:nvSpPr>
        <p:spPr>
          <a:xfrm rot="16200000">
            <a:off x="2348280" y="325764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xel level</a:t>
            </a:r>
            <a:endParaRPr b="0" lang="en-US" sz="9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1" name="テキスト ボックス 10"/>
          <p:cNvSpPr/>
          <p:nvPr/>
        </p:nvSpPr>
        <p:spPr>
          <a:xfrm>
            <a:off x="2993040" y="377352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ixel index</a:t>
            </a:r>
            <a:endParaRPr b="0" lang="en-US" sz="800" spc="-1" strike="noStrike">
              <a:solidFill>
                <a:srgbClr val="ff3300"/>
              </a:solidFill>
              <a:latin typeface="Courier New"/>
            </a:endParaRPr>
          </a:p>
        </p:txBody>
      </p:sp>
      <p:cxnSp>
        <p:nvCxnSpPr>
          <p:cNvPr id="372" name="直線矢印コネクタ 266"/>
          <p:cNvCxnSpPr/>
          <p:nvPr/>
        </p:nvCxnSpPr>
        <p:spPr>
          <a:xfrm flipV="1">
            <a:off x="1642680" y="3036600"/>
            <a:ext cx="1080" cy="6228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直線矢印コネクタ 267"/>
          <p:cNvCxnSpPr/>
          <p:nvPr/>
        </p:nvCxnSpPr>
        <p:spPr>
          <a:xfrm>
            <a:off x="1642680" y="3658680"/>
            <a:ext cx="88668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4" name="直線コネクタ 268"/>
          <p:cNvSpPr/>
          <p:nvPr/>
        </p:nvSpPr>
        <p:spPr>
          <a:xfrm flipV="1">
            <a:off x="1798560" y="3192480"/>
            <a:ext cx="230400" cy="2318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5" name="直線コネクタ 269"/>
          <p:cNvSpPr/>
          <p:nvPr/>
        </p:nvSpPr>
        <p:spPr>
          <a:xfrm flipH="1" flipV="1">
            <a:off x="2028600" y="3192480"/>
            <a:ext cx="230040" cy="23184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6" name="直線コネクタ 270"/>
          <p:cNvSpPr/>
          <p:nvPr/>
        </p:nvSpPr>
        <p:spPr>
          <a:xfrm>
            <a:off x="1798560" y="34243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7" name="直線コネクタ 271"/>
          <p:cNvSpPr/>
          <p:nvPr/>
        </p:nvSpPr>
        <p:spPr>
          <a:xfrm>
            <a:off x="2028960" y="319248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8" name="直線コネクタ 272"/>
          <p:cNvSpPr/>
          <p:nvPr/>
        </p:nvSpPr>
        <p:spPr>
          <a:xfrm>
            <a:off x="2259000" y="34243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79" name="テキスト ボックス 10"/>
          <p:cNvSpPr/>
          <p:nvPr/>
        </p:nvSpPr>
        <p:spPr>
          <a:xfrm>
            <a:off x="1686600" y="36590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80" name="テキスト ボックス 10"/>
          <p:cNvSpPr/>
          <p:nvPr/>
        </p:nvSpPr>
        <p:spPr>
          <a:xfrm>
            <a:off x="1954440" y="3659040"/>
            <a:ext cx="234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81" name="テキスト ボックス 10"/>
          <p:cNvSpPr/>
          <p:nvPr/>
        </p:nvSpPr>
        <p:spPr>
          <a:xfrm>
            <a:off x="2148120" y="3659040"/>
            <a:ext cx="3409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x+1</a:t>
            </a:r>
            <a:endParaRPr b="0" lang="en-US" sz="7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82" name="テキスト ボックス 10"/>
          <p:cNvSpPr/>
          <p:nvPr/>
        </p:nvSpPr>
        <p:spPr>
          <a:xfrm rot="16200000">
            <a:off x="1067040" y="3249720"/>
            <a:ext cx="93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xel level</a:t>
            </a:r>
            <a:endParaRPr b="0" lang="en-US" sz="9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83" name="テキスト ボックス 10"/>
          <p:cNvSpPr/>
          <p:nvPr/>
        </p:nvSpPr>
        <p:spPr>
          <a:xfrm>
            <a:off x="1594800" y="2722680"/>
            <a:ext cx="86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tegory 4</a:t>
            </a:r>
            <a:endParaRPr b="0" lang="en-US" sz="9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384" name="テキスト ボックス 10"/>
          <p:cNvSpPr/>
          <p:nvPr/>
        </p:nvSpPr>
        <p:spPr>
          <a:xfrm>
            <a:off x="1661760" y="377496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ixel index</a:t>
            </a:r>
            <a:endParaRPr b="0" lang="en-US" sz="8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385" name="グループ化 168"/>
          <p:cNvGrpSpPr/>
          <p:nvPr/>
        </p:nvGrpSpPr>
        <p:grpSpPr>
          <a:xfrm>
            <a:off x="4718160" y="2695680"/>
            <a:ext cx="3544200" cy="1338120"/>
            <a:chOff x="4718160" y="2695680"/>
            <a:chExt cx="3544200" cy="1338120"/>
          </a:xfrm>
        </p:grpSpPr>
        <p:cxnSp>
          <p:nvCxnSpPr>
            <p:cNvPr id="386" name="直線矢印コネクタ 182"/>
            <p:cNvCxnSpPr/>
            <p:nvPr/>
          </p:nvCxnSpPr>
          <p:spPr>
            <a:xfrm flipV="1">
              <a:off x="6773400" y="3088440"/>
              <a:ext cx="1080" cy="6098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87" name="直線矢印コネクタ 184"/>
            <p:cNvCxnSpPr/>
            <p:nvPr/>
          </p:nvCxnSpPr>
          <p:spPr>
            <a:xfrm>
              <a:off x="6773400" y="3697560"/>
              <a:ext cx="83196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88" name="直線コネクタ 186"/>
            <p:cNvSpPr/>
            <p:nvPr/>
          </p:nvSpPr>
          <p:spPr>
            <a:xfrm flipV="1">
              <a:off x="6918120" y="3012480"/>
              <a:ext cx="216360" cy="570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89" name="直線コネクタ 187"/>
            <p:cNvSpPr/>
            <p:nvPr/>
          </p:nvSpPr>
          <p:spPr>
            <a:xfrm flipH="1" flipV="1">
              <a:off x="7134480" y="3012120"/>
              <a:ext cx="216360" cy="37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0" name="直線コネクタ 190"/>
            <p:cNvSpPr/>
            <p:nvPr/>
          </p:nvSpPr>
          <p:spPr>
            <a:xfrm>
              <a:off x="6918120" y="3583800"/>
              <a:ext cx="0" cy="114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1" name="直線コネクタ 191"/>
            <p:cNvSpPr/>
            <p:nvPr/>
          </p:nvSpPr>
          <p:spPr>
            <a:xfrm>
              <a:off x="7134840" y="3012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2" name="直線コネクタ 193"/>
            <p:cNvSpPr/>
            <p:nvPr/>
          </p:nvSpPr>
          <p:spPr>
            <a:xfrm>
              <a:off x="7351560" y="305064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3" name="テキスト ボックス 10"/>
            <p:cNvSpPr/>
            <p:nvPr/>
          </p:nvSpPr>
          <p:spPr>
            <a:xfrm>
              <a:off x="6813720" y="3697920"/>
              <a:ext cx="340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4" name="テキスト ボックス 10"/>
            <p:cNvSpPr/>
            <p:nvPr/>
          </p:nvSpPr>
          <p:spPr>
            <a:xfrm>
              <a:off x="7065360" y="3697920"/>
              <a:ext cx="23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5" name="テキスト ボックス 10"/>
            <p:cNvSpPr/>
            <p:nvPr/>
          </p:nvSpPr>
          <p:spPr>
            <a:xfrm>
              <a:off x="7246800" y="3697920"/>
              <a:ext cx="340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+1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6" name="テキスト ボックス 10"/>
            <p:cNvSpPr/>
            <p:nvPr/>
          </p:nvSpPr>
          <p:spPr>
            <a:xfrm rot="16200000">
              <a:off x="6202440" y="329616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pixel leve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397" name="直線矢印コネクタ 229"/>
            <p:cNvCxnSpPr/>
            <p:nvPr/>
          </p:nvCxnSpPr>
          <p:spPr>
            <a:xfrm>
              <a:off x="7460640" y="3012120"/>
              <a:ext cx="1080" cy="381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398" name="テキスト ボックス 10"/>
            <p:cNvSpPr/>
            <p:nvPr/>
          </p:nvSpPr>
          <p:spPr>
            <a:xfrm>
              <a:off x="7464240" y="31266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threshold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399" name="直線コネクタ 231"/>
            <p:cNvSpPr/>
            <p:nvPr/>
          </p:nvSpPr>
          <p:spPr>
            <a:xfrm>
              <a:off x="6846120" y="3012480"/>
              <a:ext cx="79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0" name="直線コネクタ 232"/>
            <p:cNvSpPr/>
            <p:nvPr/>
          </p:nvSpPr>
          <p:spPr>
            <a:xfrm>
              <a:off x="6846120" y="3393360"/>
              <a:ext cx="79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1" name="テキスト ボックス 10"/>
            <p:cNvSpPr/>
            <p:nvPr/>
          </p:nvSpPr>
          <p:spPr>
            <a:xfrm>
              <a:off x="6983280" y="2695680"/>
              <a:ext cx="86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ategory 3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2" name="テキスト ボックス 10"/>
            <p:cNvSpPr/>
            <p:nvPr/>
          </p:nvSpPr>
          <p:spPr>
            <a:xfrm>
              <a:off x="6847560" y="381204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pixel index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403" name="直線矢印コネクタ 198"/>
            <p:cNvCxnSpPr/>
            <p:nvPr/>
          </p:nvCxnSpPr>
          <p:spPr>
            <a:xfrm flipV="1">
              <a:off x="4942440" y="3035160"/>
              <a:ext cx="1080" cy="6231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04" name="直線矢印コネクタ 199"/>
            <p:cNvCxnSpPr/>
            <p:nvPr/>
          </p:nvCxnSpPr>
          <p:spPr>
            <a:xfrm>
              <a:off x="4942800" y="3658320"/>
              <a:ext cx="8856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05" name="直線コネクタ 200"/>
            <p:cNvSpPr/>
            <p:nvPr/>
          </p:nvSpPr>
          <p:spPr>
            <a:xfrm flipV="1">
              <a:off x="5096880" y="3191400"/>
              <a:ext cx="230760" cy="23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6" name="直線コネクタ 201"/>
            <p:cNvSpPr/>
            <p:nvPr/>
          </p:nvSpPr>
          <p:spPr>
            <a:xfrm flipH="1" flipV="1">
              <a:off x="5327640" y="3191400"/>
              <a:ext cx="230760" cy="23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7" name="直線コネクタ 202"/>
            <p:cNvSpPr/>
            <p:nvPr/>
          </p:nvSpPr>
          <p:spPr>
            <a:xfrm>
              <a:off x="5096880" y="342468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8" name="直線コネクタ 203"/>
            <p:cNvSpPr/>
            <p:nvPr/>
          </p:nvSpPr>
          <p:spPr>
            <a:xfrm>
              <a:off x="5328000" y="319176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09" name="直線コネクタ 204"/>
            <p:cNvSpPr/>
            <p:nvPr/>
          </p:nvSpPr>
          <p:spPr>
            <a:xfrm>
              <a:off x="5558760" y="342468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0" name="テキスト ボックス 10"/>
            <p:cNvSpPr/>
            <p:nvPr/>
          </p:nvSpPr>
          <p:spPr>
            <a:xfrm>
              <a:off x="4985640" y="3658680"/>
              <a:ext cx="340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-1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1" name="テキスト ボックス 10"/>
            <p:cNvSpPr/>
            <p:nvPr/>
          </p:nvSpPr>
          <p:spPr>
            <a:xfrm>
              <a:off x="5253840" y="3658680"/>
              <a:ext cx="234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2" name="テキスト ボックス 10"/>
            <p:cNvSpPr/>
            <p:nvPr/>
          </p:nvSpPr>
          <p:spPr>
            <a:xfrm>
              <a:off x="5447520" y="3658680"/>
              <a:ext cx="3409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urier New"/>
                </a:rPr>
                <a:t>x+1</a:t>
              </a:r>
              <a:endParaRPr b="0" lang="en-US" sz="7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3" name="テキスト ボックス 10"/>
            <p:cNvSpPr/>
            <p:nvPr/>
          </p:nvSpPr>
          <p:spPr>
            <a:xfrm rot="16200000">
              <a:off x="4366080" y="325008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pixel leve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414" name="直線矢印コネクタ 221"/>
            <p:cNvCxnSpPr/>
            <p:nvPr/>
          </p:nvCxnSpPr>
          <p:spPr>
            <a:xfrm>
              <a:off x="5674320" y="3191400"/>
              <a:ext cx="1080" cy="38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415" name="テキスト ボックス 10"/>
            <p:cNvSpPr/>
            <p:nvPr/>
          </p:nvSpPr>
          <p:spPr>
            <a:xfrm>
              <a:off x="5677920" y="330804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threshold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6" name="直線コネクタ 223"/>
            <p:cNvSpPr/>
            <p:nvPr/>
          </p:nvSpPr>
          <p:spPr>
            <a:xfrm>
              <a:off x="5020560" y="3191760"/>
              <a:ext cx="84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7" name="直線コネクタ 225"/>
            <p:cNvSpPr/>
            <p:nvPr/>
          </p:nvSpPr>
          <p:spPr>
            <a:xfrm>
              <a:off x="5020560" y="3580200"/>
              <a:ext cx="84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8" name="テキスト ボックス 10"/>
            <p:cNvSpPr/>
            <p:nvPr/>
          </p:nvSpPr>
          <p:spPr>
            <a:xfrm>
              <a:off x="5164200" y="2721240"/>
              <a:ext cx="866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ategory 4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19" name="テキスト ボックス 10"/>
            <p:cNvSpPr/>
            <p:nvPr/>
          </p:nvSpPr>
          <p:spPr>
            <a:xfrm>
              <a:off x="5022000" y="3775320"/>
              <a:ext cx="851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pixel index</a:t>
              </a:r>
              <a:endParaRPr b="0" lang="en-US" sz="8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20" name="角丸四角形 284"/>
            <p:cNvSpPr/>
            <p:nvPr/>
          </p:nvSpPr>
          <p:spPr>
            <a:xfrm>
              <a:off x="6534360" y="2695680"/>
              <a:ext cx="1636200" cy="1321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21" name="角丸四角形 285"/>
            <p:cNvSpPr/>
            <p:nvPr/>
          </p:nvSpPr>
          <p:spPr>
            <a:xfrm>
              <a:off x="4738320" y="2713320"/>
              <a:ext cx="1636200" cy="1320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sp>
        <p:nvSpPr>
          <p:cNvPr id="422" name="テキスト ボックス 10"/>
          <p:cNvSpPr/>
          <p:nvPr/>
        </p:nvSpPr>
        <p:spPr>
          <a:xfrm>
            <a:off x="1210320" y="18302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Courier New"/>
              </a:rPr>
              <a:t>HM7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3" name="テキスト ボックス 10"/>
          <p:cNvSpPr/>
          <p:nvPr/>
        </p:nvSpPr>
        <p:spPr>
          <a:xfrm>
            <a:off x="3960360" y="18464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Courier New"/>
              </a:rPr>
              <a:t>proposal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4" name="テキスト ボックス 10"/>
          <p:cNvSpPr/>
          <p:nvPr/>
        </p:nvSpPr>
        <p:spPr>
          <a:xfrm>
            <a:off x="1593360" y="3246480"/>
            <a:ext cx="348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500" spc="-1" strike="noStrike">
                <a:solidFill>
                  <a:srgbClr val="000000"/>
                </a:solidFill>
                <a:latin typeface="Courier New"/>
              </a:rPr>
              <a:t>x-1</a:t>
            </a:r>
            <a:endParaRPr b="0" lang="en-US" sz="5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5" name="テキスト ボックス 10"/>
          <p:cNvSpPr/>
          <p:nvPr/>
        </p:nvSpPr>
        <p:spPr>
          <a:xfrm>
            <a:off x="1941120" y="3017880"/>
            <a:ext cx="272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5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5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6" name="テキスト ボックス 10"/>
          <p:cNvSpPr/>
          <p:nvPr/>
        </p:nvSpPr>
        <p:spPr>
          <a:xfrm>
            <a:off x="2188080" y="3220920"/>
            <a:ext cx="348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500" spc="-1" strike="noStrike">
                <a:solidFill>
                  <a:srgbClr val="000000"/>
                </a:solidFill>
                <a:latin typeface="Courier New"/>
              </a:rPr>
              <a:t>x+1</a:t>
            </a:r>
            <a:endParaRPr b="0" lang="en-US" sz="5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7" name="右矢印 293"/>
          <p:cNvSpPr/>
          <p:nvPr/>
        </p:nvSpPr>
        <p:spPr>
          <a:xfrm>
            <a:off x="4160880" y="3029040"/>
            <a:ext cx="36036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00160" y="44280"/>
            <a:ext cx="884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9" name="コンテンツ プレースホルダ 2"/>
          <p:cNvSpPr/>
          <p:nvPr/>
        </p:nvSpPr>
        <p:spPr>
          <a:xfrm>
            <a:off x="200160" y="549360"/>
            <a:ext cx="9577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introduce a threshold for EO to distinguish a strong edge and a weak edg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hanging the threshold, the assignment of a strong edge and a weak edge could be controll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categorization as HM7.0 is possible by setting a maximum pixel value to the threshol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would be helpful for encoder in tuning SA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) Possible to apply EO for only strong edge inside LCU to keep an original weak edge (for content including camera noise, film grain)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30" name="正方形/長方形 82"/>
          <p:cNvSpPr/>
          <p:nvPr/>
        </p:nvSpPr>
        <p:spPr>
          <a:xfrm>
            <a:off x="7256520" y="2046240"/>
            <a:ext cx="252072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hreshold is added to the condition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to distinguish them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431" name="グループ化 83"/>
          <p:cNvGrpSpPr/>
          <p:nvPr/>
        </p:nvGrpSpPr>
        <p:grpSpPr>
          <a:xfrm>
            <a:off x="995760" y="4773600"/>
            <a:ext cx="6760080" cy="1967400"/>
            <a:chOff x="995760" y="4773600"/>
            <a:chExt cx="6760080" cy="1967400"/>
          </a:xfrm>
        </p:grpSpPr>
        <p:sp>
          <p:nvSpPr>
            <p:cNvPr id="432" name="円/楕円 6"/>
            <p:cNvSpPr/>
            <p:nvPr/>
          </p:nvSpPr>
          <p:spPr>
            <a:xfrm>
              <a:off x="5902560" y="5092200"/>
              <a:ext cx="255960" cy="45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33" name="円/楕円 7"/>
            <p:cNvSpPr/>
            <p:nvPr/>
          </p:nvSpPr>
          <p:spPr>
            <a:xfrm>
              <a:off x="2730960" y="5092200"/>
              <a:ext cx="255960" cy="45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34" name="円/楕円 8"/>
            <p:cNvSpPr/>
            <p:nvPr/>
          </p:nvSpPr>
          <p:spPr>
            <a:xfrm>
              <a:off x="2116440" y="5092200"/>
              <a:ext cx="358560" cy="948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435" name="グループ化 10"/>
            <p:cNvGrpSpPr/>
            <p:nvPr/>
          </p:nvGrpSpPr>
          <p:grpSpPr>
            <a:xfrm>
              <a:off x="1987920" y="5319720"/>
              <a:ext cx="1432080" cy="645120"/>
              <a:chOff x="1987920" y="5319720"/>
              <a:chExt cx="1432080" cy="645120"/>
            </a:xfrm>
          </p:grpSpPr>
          <p:grpSp>
            <p:nvGrpSpPr>
              <p:cNvPr id="436" name="グループ化 97"/>
              <p:cNvGrpSpPr/>
              <p:nvPr/>
            </p:nvGrpSpPr>
            <p:grpSpPr>
              <a:xfrm>
                <a:off x="1987920" y="5319720"/>
                <a:ext cx="1432080" cy="645120"/>
                <a:chOff x="1987920" y="5319720"/>
                <a:chExt cx="1432080" cy="645120"/>
              </a:xfrm>
            </p:grpSpPr>
            <p:sp>
              <p:nvSpPr>
                <p:cNvPr id="437" name="直線コネクタ 15"/>
                <p:cNvSpPr/>
                <p:nvPr/>
              </p:nvSpPr>
              <p:spPr>
                <a:xfrm flipV="1">
                  <a:off x="2243520" y="5433480"/>
                  <a:ext cx="102240" cy="53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38" name="直線コネクタ 16"/>
                <p:cNvSpPr/>
                <p:nvPr/>
              </p:nvSpPr>
              <p:spPr>
                <a:xfrm>
                  <a:off x="2345760" y="5433480"/>
                  <a:ext cx="10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39" name="直線コネクタ 17"/>
                <p:cNvSpPr/>
                <p:nvPr/>
              </p:nvSpPr>
              <p:spPr>
                <a:xfrm>
                  <a:off x="2448000" y="54334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0" name="直線コネクタ 18"/>
                <p:cNvSpPr/>
                <p:nvPr/>
              </p:nvSpPr>
              <p:spPr>
                <a:xfrm flipV="1">
                  <a:off x="2601720" y="5394960"/>
                  <a:ext cx="20448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1" name="直線コネクタ 19"/>
                <p:cNvSpPr/>
                <p:nvPr/>
              </p:nvSpPr>
              <p:spPr>
                <a:xfrm>
                  <a:off x="2908440" y="5319720"/>
                  <a:ext cx="511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2" name="直線コネクタ 20"/>
                <p:cNvSpPr/>
                <p:nvPr/>
              </p:nvSpPr>
              <p:spPr>
                <a:xfrm>
                  <a:off x="2959920" y="5433480"/>
                  <a:ext cx="15336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3" name="直線コネクタ 21"/>
                <p:cNvSpPr/>
                <p:nvPr/>
              </p:nvSpPr>
              <p:spPr>
                <a:xfrm>
                  <a:off x="3113280" y="54712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4" name="直線コネクタ 22"/>
                <p:cNvSpPr/>
                <p:nvPr/>
              </p:nvSpPr>
              <p:spPr>
                <a:xfrm>
                  <a:off x="1987920" y="5927040"/>
                  <a:ext cx="25560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45" name="直線コネクタ 23"/>
                <p:cNvSpPr/>
                <p:nvPr/>
              </p:nvSpPr>
              <p:spPr>
                <a:xfrm>
                  <a:off x="3266640" y="54712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446" name="直線コネクタ 14"/>
              <p:cNvSpPr/>
              <p:nvPr/>
            </p:nvSpPr>
            <p:spPr>
              <a:xfrm flipV="1">
                <a:off x="2806200" y="5319720"/>
                <a:ext cx="10224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447" name="直線コネクタ 24"/>
            <p:cNvSpPr/>
            <p:nvPr/>
          </p:nvSpPr>
          <p:spPr>
            <a:xfrm flipV="1">
              <a:off x="2781720" y="5319360"/>
              <a:ext cx="102600" cy="7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48" name="直線コネクタ 25"/>
            <p:cNvSpPr/>
            <p:nvPr/>
          </p:nvSpPr>
          <p:spPr>
            <a:xfrm>
              <a:off x="1861560" y="6078960"/>
              <a:ext cx="168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49" name="直線コネクタ 26"/>
            <p:cNvSpPr/>
            <p:nvPr/>
          </p:nvSpPr>
          <p:spPr>
            <a:xfrm>
              <a:off x="2065680" y="5053680"/>
              <a:ext cx="0" cy="110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50" name="直線コネクタ 27"/>
            <p:cNvSpPr/>
            <p:nvPr/>
          </p:nvSpPr>
          <p:spPr>
            <a:xfrm>
              <a:off x="3344760" y="5053680"/>
              <a:ext cx="0" cy="110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451" name="グループ化 28"/>
            <p:cNvGrpSpPr/>
            <p:nvPr/>
          </p:nvGrpSpPr>
          <p:grpSpPr>
            <a:xfrm>
              <a:off x="1963080" y="5205960"/>
              <a:ext cx="1432080" cy="758880"/>
              <a:chOff x="1963080" y="5205960"/>
              <a:chExt cx="1432080" cy="758880"/>
            </a:xfrm>
          </p:grpSpPr>
          <p:sp>
            <p:nvSpPr>
              <p:cNvPr id="452" name="直線コネクタ 29"/>
              <p:cNvSpPr/>
              <p:nvPr/>
            </p:nvSpPr>
            <p:spPr>
              <a:xfrm flipV="1">
                <a:off x="2218680" y="5205960"/>
                <a:ext cx="102240" cy="758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3" name="直線コネクタ 30"/>
              <p:cNvSpPr/>
              <p:nvPr/>
            </p:nvSpPr>
            <p:spPr>
              <a:xfrm>
                <a:off x="2320920" y="5205960"/>
                <a:ext cx="102240" cy="227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4" name="直線コネクタ 31"/>
              <p:cNvSpPr/>
              <p:nvPr/>
            </p:nvSpPr>
            <p:spPr>
              <a:xfrm>
                <a:off x="2423160" y="543348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5" name="直線コネクタ 32"/>
              <p:cNvSpPr/>
              <p:nvPr/>
            </p:nvSpPr>
            <p:spPr>
              <a:xfrm flipV="1">
                <a:off x="2576880" y="5395320"/>
                <a:ext cx="20448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6" name="直線コネクタ 33"/>
              <p:cNvSpPr/>
              <p:nvPr/>
            </p:nvSpPr>
            <p:spPr>
              <a:xfrm>
                <a:off x="2883600" y="5319720"/>
                <a:ext cx="51120" cy="11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7" name="直線コネクタ 34"/>
              <p:cNvSpPr/>
              <p:nvPr/>
            </p:nvSpPr>
            <p:spPr>
              <a:xfrm>
                <a:off x="2935080" y="5433480"/>
                <a:ext cx="15336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8" name="直線コネクタ 35"/>
              <p:cNvSpPr/>
              <p:nvPr/>
            </p:nvSpPr>
            <p:spPr>
              <a:xfrm>
                <a:off x="3088440" y="547164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59" name="直線コネクタ 36"/>
              <p:cNvSpPr/>
              <p:nvPr/>
            </p:nvSpPr>
            <p:spPr>
              <a:xfrm>
                <a:off x="1963080" y="5927040"/>
                <a:ext cx="25560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60" name="直線コネクタ 37"/>
              <p:cNvSpPr/>
              <p:nvPr/>
            </p:nvSpPr>
            <p:spPr>
              <a:xfrm>
                <a:off x="3241800" y="547164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461" name="テキスト ボックス 10"/>
            <p:cNvSpPr/>
            <p:nvPr/>
          </p:nvSpPr>
          <p:spPr>
            <a:xfrm>
              <a:off x="2533680" y="60786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CU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62" name="テキスト ボックス 10"/>
            <p:cNvSpPr/>
            <p:nvPr/>
          </p:nvSpPr>
          <p:spPr>
            <a:xfrm>
              <a:off x="995760" y="5357520"/>
              <a:ext cx="9352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strong edg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463" name="直線矢印コネクタ 40"/>
            <p:cNvCxnSpPr/>
            <p:nvPr/>
          </p:nvCxnSpPr>
          <p:spPr>
            <a:xfrm>
              <a:off x="1527840" y="5519520"/>
              <a:ext cx="743760" cy="17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4" name="テキスト ボックス 10"/>
            <p:cNvSpPr/>
            <p:nvPr/>
          </p:nvSpPr>
          <p:spPr>
            <a:xfrm>
              <a:off x="3398760" y="501588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weak edg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465" name="直線矢印コネクタ 42"/>
            <p:cNvCxnSpPr/>
            <p:nvPr/>
          </p:nvCxnSpPr>
          <p:spPr>
            <a:xfrm flipH="1">
              <a:off x="2986920" y="5129640"/>
              <a:ext cx="460800" cy="228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6" name="テキスト ボックス 10"/>
            <p:cNvSpPr/>
            <p:nvPr/>
          </p:nvSpPr>
          <p:spPr>
            <a:xfrm>
              <a:off x="1352520" y="5015880"/>
              <a:ext cx="66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inging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nois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467" name="直線矢印コネクタ 44"/>
            <p:cNvCxnSpPr/>
            <p:nvPr/>
          </p:nvCxnSpPr>
          <p:spPr>
            <a:xfrm>
              <a:off x="1861200" y="5205960"/>
              <a:ext cx="41004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68" name="テキスト ボックス 10"/>
            <p:cNvSpPr/>
            <p:nvPr/>
          </p:nvSpPr>
          <p:spPr>
            <a:xfrm>
              <a:off x="2222280" y="490212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ategory4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69" name="直線コネクタ 46"/>
            <p:cNvSpPr/>
            <p:nvPr/>
          </p:nvSpPr>
          <p:spPr>
            <a:xfrm>
              <a:off x="1963440" y="6296760"/>
              <a:ext cx="30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0" name="テキスト ボックス 10"/>
            <p:cNvSpPr/>
            <p:nvPr/>
          </p:nvSpPr>
          <p:spPr>
            <a:xfrm>
              <a:off x="2274480" y="6220440"/>
              <a:ext cx="114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original pixe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1" name="直線コネクタ 48"/>
            <p:cNvSpPr/>
            <p:nvPr/>
          </p:nvSpPr>
          <p:spPr>
            <a:xfrm>
              <a:off x="1963440" y="6449040"/>
              <a:ext cx="306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2" name="テキスト ボックス 10"/>
            <p:cNvSpPr/>
            <p:nvPr/>
          </p:nvSpPr>
          <p:spPr>
            <a:xfrm>
              <a:off x="2275200" y="6372720"/>
              <a:ext cx="1483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constructed pixe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3" name="直線コネクタ 50"/>
            <p:cNvSpPr/>
            <p:nvPr/>
          </p:nvSpPr>
          <p:spPr>
            <a:xfrm flipH="1">
              <a:off x="2321640" y="5132880"/>
              <a:ext cx="29952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4" name="直線コネクタ 51"/>
            <p:cNvSpPr/>
            <p:nvPr/>
          </p:nvSpPr>
          <p:spPr>
            <a:xfrm>
              <a:off x="2621520" y="5132880"/>
              <a:ext cx="2120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75" name="円/楕円 52"/>
            <p:cNvSpPr/>
            <p:nvPr/>
          </p:nvSpPr>
          <p:spPr>
            <a:xfrm>
              <a:off x="5289120" y="5092200"/>
              <a:ext cx="357480" cy="9489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476" name="グループ化 53"/>
            <p:cNvGrpSpPr/>
            <p:nvPr/>
          </p:nvGrpSpPr>
          <p:grpSpPr>
            <a:xfrm>
              <a:off x="5159520" y="5319720"/>
              <a:ext cx="1432080" cy="645120"/>
              <a:chOff x="5159520" y="5319720"/>
              <a:chExt cx="1432080" cy="645120"/>
            </a:xfrm>
          </p:grpSpPr>
          <p:grpSp>
            <p:nvGrpSpPr>
              <p:cNvPr id="477" name="グループ化 97"/>
              <p:cNvGrpSpPr/>
              <p:nvPr/>
            </p:nvGrpSpPr>
            <p:grpSpPr>
              <a:xfrm>
                <a:off x="5159520" y="5319720"/>
                <a:ext cx="1432080" cy="645120"/>
                <a:chOff x="5159520" y="5319720"/>
                <a:chExt cx="1432080" cy="645120"/>
              </a:xfrm>
            </p:grpSpPr>
            <p:sp>
              <p:nvSpPr>
                <p:cNvPr id="478" name="直線コネクタ 56"/>
                <p:cNvSpPr/>
                <p:nvPr/>
              </p:nvSpPr>
              <p:spPr>
                <a:xfrm flipV="1">
                  <a:off x="5415120" y="5433480"/>
                  <a:ext cx="102240" cy="53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79" name="直線コネクタ 57"/>
                <p:cNvSpPr/>
                <p:nvPr/>
              </p:nvSpPr>
              <p:spPr>
                <a:xfrm>
                  <a:off x="5517360" y="5433480"/>
                  <a:ext cx="10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0" name="直線コネクタ 58"/>
                <p:cNvSpPr/>
                <p:nvPr/>
              </p:nvSpPr>
              <p:spPr>
                <a:xfrm>
                  <a:off x="5619600" y="54334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1" name="直線コネクタ 59"/>
                <p:cNvSpPr/>
                <p:nvPr/>
              </p:nvSpPr>
              <p:spPr>
                <a:xfrm flipV="1">
                  <a:off x="5773320" y="5394960"/>
                  <a:ext cx="20448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2" name="直線コネクタ 60"/>
                <p:cNvSpPr/>
                <p:nvPr/>
              </p:nvSpPr>
              <p:spPr>
                <a:xfrm>
                  <a:off x="6080040" y="5319720"/>
                  <a:ext cx="51120" cy="11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3" name="直線コネクタ 61"/>
                <p:cNvSpPr/>
                <p:nvPr/>
              </p:nvSpPr>
              <p:spPr>
                <a:xfrm>
                  <a:off x="6131520" y="5433480"/>
                  <a:ext cx="15336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4" name="直線コネクタ 62"/>
                <p:cNvSpPr/>
                <p:nvPr/>
              </p:nvSpPr>
              <p:spPr>
                <a:xfrm>
                  <a:off x="6284880" y="54712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5" name="直線コネクタ 63"/>
                <p:cNvSpPr/>
                <p:nvPr/>
              </p:nvSpPr>
              <p:spPr>
                <a:xfrm>
                  <a:off x="5159520" y="5927040"/>
                  <a:ext cx="255600" cy="3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  <p:sp>
              <p:nvSpPr>
                <p:cNvPr id="486" name="直線コネクタ 64"/>
                <p:cNvSpPr/>
                <p:nvPr/>
              </p:nvSpPr>
              <p:spPr>
                <a:xfrm>
                  <a:off x="6438240" y="5471280"/>
                  <a:ext cx="153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000" spc="-1" strike="noStrike">
                    <a:solidFill>
                      <a:srgbClr val="ff3300"/>
                    </a:solidFill>
                    <a:latin typeface="Courier New"/>
                  </a:endParaRPr>
                </a:p>
              </p:txBody>
            </p:sp>
          </p:grpSp>
          <p:sp>
            <p:nvSpPr>
              <p:cNvPr id="487" name="直線コネクタ 55"/>
              <p:cNvSpPr/>
              <p:nvPr/>
            </p:nvSpPr>
            <p:spPr>
              <a:xfrm flipV="1">
                <a:off x="5977800" y="5319720"/>
                <a:ext cx="102240" cy="7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488" name="直線コネクタ 65"/>
            <p:cNvSpPr/>
            <p:nvPr/>
          </p:nvSpPr>
          <p:spPr>
            <a:xfrm flipV="1">
              <a:off x="5953320" y="5319360"/>
              <a:ext cx="102600" cy="75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89" name="直線コネクタ 66"/>
            <p:cNvSpPr/>
            <p:nvPr/>
          </p:nvSpPr>
          <p:spPr>
            <a:xfrm>
              <a:off x="5033160" y="6078960"/>
              <a:ext cx="168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90" name="直線コネクタ 67"/>
            <p:cNvSpPr/>
            <p:nvPr/>
          </p:nvSpPr>
          <p:spPr>
            <a:xfrm>
              <a:off x="5237280" y="5053680"/>
              <a:ext cx="0" cy="110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491" name="直線コネクタ 68"/>
            <p:cNvSpPr/>
            <p:nvPr/>
          </p:nvSpPr>
          <p:spPr>
            <a:xfrm>
              <a:off x="6516000" y="5053680"/>
              <a:ext cx="0" cy="110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grpSp>
          <p:nvGrpSpPr>
            <p:cNvPr id="492" name="グループ化 69"/>
            <p:cNvGrpSpPr/>
            <p:nvPr/>
          </p:nvGrpSpPr>
          <p:grpSpPr>
            <a:xfrm>
              <a:off x="5135760" y="5319720"/>
              <a:ext cx="1432080" cy="645120"/>
              <a:chOff x="5135760" y="5319720"/>
              <a:chExt cx="1432080" cy="645120"/>
            </a:xfrm>
          </p:grpSpPr>
          <p:sp>
            <p:nvSpPr>
              <p:cNvPr id="493" name="直線コネクタ 70"/>
              <p:cNvSpPr/>
              <p:nvPr/>
            </p:nvSpPr>
            <p:spPr>
              <a:xfrm flipV="1">
                <a:off x="5391360" y="5433480"/>
                <a:ext cx="102240" cy="531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4" name="直線コネクタ 71"/>
              <p:cNvSpPr/>
              <p:nvPr/>
            </p:nvSpPr>
            <p:spPr>
              <a:xfrm>
                <a:off x="5493600" y="5433480"/>
                <a:ext cx="1022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5" name="直線コネクタ 72"/>
              <p:cNvSpPr/>
              <p:nvPr/>
            </p:nvSpPr>
            <p:spPr>
              <a:xfrm>
                <a:off x="5595840" y="543348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6" name="直線コネクタ 73"/>
              <p:cNvSpPr/>
              <p:nvPr/>
            </p:nvSpPr>
            <p:spPr>
              <a:xfrm flipV="1">
                <a:off x="5749560" y="5394960"/>
                <a:ext cx="20448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7" name="直線コネクタ 74"/>
              <p:cNvSpPr/>
              <p:nvPr/>
            </p:nvSpPr>
            <p:spPr>
              <a:xfrm>
                <a:off x="6056280" y="5319720"/>
                <a:ext cx="51120" cy="11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8" name="直線コネクタ 75"/>
              <p:cNvSpPr/>
              <p:nvPr/>
            </p:nvSpPr>
            <p:spPr>
              <a:xfrm>
                <a:off x="6107760" y="5433480"/>
                <a:ext cx="15336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499" name="直線コネクタ 76"/>
              <p:cNvSpPr/>
              <p:nvPr/>
            </p:nvSpPr>
            <p:spPr>
              <a:xfrm>
                <a:off x="6261120" y="547128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500" name="直線コネクタ 77"/>
              <p:cNvSpPr/>
              <p:nvPr/>
            </p:nvSpPr>
            <p:spPr>
              <a:xfrm>
                <a:off x="5135760" y="5927040"/>
                <a:ext cx="255600" cy="37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  <p:sp>
            <p:nvSpPr>
              <p:cNvPr id="501" name="直線コネクタ 78"/>
              <p:cNvSpPr/>
              <p:nvPr/>
            </p:nvSpPr>
            <p:spPr>
              <a:xfrm>
                <a:off x="6414480" y="5471280"/>
                <a:ext cx="153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000" spc="-1" strike="noStrike">
                  <a:solidFill>
                    <a:srgbClr val="ff3300"/>
                  </a:solidFill>
                  <a:latin typeface="Courier New"/>
                </a:endParaRPr>
              </a:p>
            </p:txBody>
          </p:sp>
        </p:grpSp>
        <p:sp>
          <p:nvSpPr>
            <p:cNvPr id="502" name="テキスト ボックス 10"/>
            <p:cNvSpPr/>
            <p:nvPr/>
          </p:nvSpPr>
          <p:spPr>
            <a:xfrm>
              <a:off x="5705640" y="6078600"/>
              <a:ext cx="40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CU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03" name="テキスト ボックス 10"/>
            <p:cNvSpPr/>
            <p:nvPr/>
          </p:nvSpPr>
          <p:spPr>
            <a:xfrm>
              <a:off x="6572520" y="50158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keep original 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weak edg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504" name="直線矢印コネクタ 81"/>
            <p:cNvCxnSpPr/>
            <p:nvPr/>
          </p:nvCxnSpPr>
          <p:spPr>
            <a:xfrm flipH="1">
              <a:off x="6158160" y="5129640"/>
              <a:ext cx="460800" cy="228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テキスト ボックス 10"/>
            <p:cNvSpPr/>
            <p:nvPr/>
          </p:nvSpPr>
          <p:spPr>
            <a:xfrm>
              <a:off x="4371120" y="4939560"/>
              <a:ext cx="866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eliminate 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inging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noise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cxnSp>
          <p:nvCxnSpPr>
            <p:cNvPr id="506" name="直線矢印コネクタ 83"/>
            <p:cNvCxnSpPr/>
            <p:nvPr/>
          </p:nvCxnSpPr>
          <p:spPr>
            <a:xfrm>
              <a:off x="5032800" y="5205960"/>
              <a:ext cx="41004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7" name="テキスト ボックス 10"/>
            <p:cNvSpPr/>
            <p:nvPr/>
          </p:nvSpPr>
          <p:spPr>
            <a:xfrm>
              <a:off x="5036400" y="48258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ategory3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08" name="直線コネクタ 85"/>
            <p:cNvSpPr/>
            <p:nvPr/>
          </p:nvSpPr>
          <p:spPr>
            <a:xfrm>
              <a:off x="5135040" y="6296760"/>
              <a:ext cx="30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09" name="テキスト ボックス 10"/>
            <p:cNvSpPr/>
            <p:nvPr/>
          </p:nvSpPr>
          <p:spPr>
            <a:xfrm>
              <a:off x="5446080" y="6220440"/>
              <a:ext cx="114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original pixe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0" name="直線コネクタ 87"/>
            <p:cNvSpPr/>
            <p:nvPr/>
          </p:nvSpPr>
          <p:spPr>
            <a:xfrm>
              <a:off x="5135040" y="6449040"/>
              <a:ext cx="306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1" name="テキスト ボックス 10"/>
            <p:cNvSpPr/>
            <p:nvPr/>
          </p:nvSpPr>
          <p:spPr>
            <a:xfrm>
              <a:off x="5448960" y="637272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reconstructed pixel applied EO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in proposal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2" name="直線コネクタ 89"/>
            <p:cNvSpPr/>
            <p:nvPr/>
          </p:nvSpPr>
          <p:spPr>
            <a:xfrm>
              <a:off x="5390640" y="4977360"/>
              <a:ext cx="51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3" name="直線コネクタ 90"/>
            <p:cNvSpPr/>
            <p:nvPr/>
          </p:nvSpPr>
          <p:spPr>
            <a:xfrm flipH="1">
              <a:off x="6055920" y="4939560"/>
              <a:ext cx="11592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4" name="右矢印 91"/>
            <p:cNvSpPr/>
            <p:nvPr/>
          </p:nvSpPr>
          <p:spPr>
            <a:xfrm>
              <a:off x="3958200" y="5508720"/>
              <a:ext cx="461160" cy="266040"/>
            </a:xfrm>
            <a:prstGeom prst="rightArrow">
              <a:avLst>
                <a:gd name="adj1" fmla="val 50000"/>
                <a:gd name="adj2" fmla="val 67411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515" name="テキスト ボックス 10"/>
            <p:cNvSpPr/>
            <p:nvPr/>
          </p:nvSpPr>
          <p:spPr>
            <a:xfrm>
              <a:off x="5855040" y="4773600"/>
              <a:ext cx="798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Courier New"/>
                </a:rPr>
                <a:t>category4</a:t>
              </a:r>
              <a:endParaRPr b="0" lang="en-US" sz="9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sp>
        <p:nvSpPr>
          <p:cNvPr id="516" name="正方形/長方形 169"/>
          <p:cNvSpPr/>
          <p:nvPr/>
        </p:nvSpPr>
        <p:spPr>
          <a:xfrm>
            <a:off x="6826320" y="5535720"/>
            <a:ext cx="2881080" cy="641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t offset value 0 to category4 in encoder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a ringing noise with keeping an original weak edge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17" name="正方形/長方形 170"/>
          <p:cNvSpPr/>
          <p:nvPr/>
        </p:nvSpPr>
        <p:spPr>
          <a:xfrm>
            <a:off x="5816520" y="3846600"/>
            <a:ext cx="720720" cy="23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ak edge</a:t>
            </a:r>
            <a:endParaRPr b="0" lang="en-US" sz="9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18" name="正方形/長方形 171"/>
          <p:cNvSpPr/>
          <p:nvPr/>
        </p:nvSpPr>
        <p:spPr>
          <a:xfrm>
            <a:off x="7689960" y="3846600"/>
            <a:ext cx="792000" cy="231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ong edge</a:t>
            </a:r>
            <a:endParaRPr b="0" lang="en-US" sz="9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19" name="テキスト ボックス 10"/>
          <p:cNvSpPr/>
          <p:nvPr/>
        </p:nvSpPr>
        <p:spPr>
          <a:xfrm>
            <a:off x="1069920" y="57816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Courier New"/>
              </a:rPr>
              <a:t>HM7.0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20" name="テキスト ボックス 10"/>
          <p:cNvSpPr/>
          <p:nvPr/>
        </p:nvSpPr>
        <p:spPr>
          <a:xfrm>
            <a:off x="4023720" y="57816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ff"/>
                </a:solidFill>
                <a:uFillTx/>
                <a:latin typeface="Courier New"/>
              </a:rPr>
              <a:t>proposal</a:t>
            </a:r>
            <a:endParaRPr b="0" lang="en-US" sz="1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A0B-FCD4-464F-B429-1B7ADF905513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200160" y="44280"/>
            <a:ext cx="884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yntax and semantics changes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24" name="コンテンツ プレースホルダ 2"/>
          <p:cNvSpPr/>
          <p:nvPr/>
        </p:nvSpPr>
        <p:spPr>
          <a:xfrm>
            <a:off x="200160" y="549360"/>
            <a:ext cx="957708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25" name="コンテンツ プレースホルダ 2"/>
          <p:cNvSpPr/>
          <p:nvPr/>
        </p:nvSpPr>
        <p:spPr>
          <a:xfrm>
            <a:off x="272880" y="620640"/>
            <a:ext cx="9576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yntax parameters are added in the slice header to calculate thresholds for Y, Cb and Cr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26" name="表 94" descr=""/>
          <p:cNvPicPr/>
          <p:nvPr/>
        </p:nvPicPr>
        <p:blipFill>
          <a:blip r:embed="rId1"/>
          <a:stretch/>
        </p:blipFill>
        <p:spPr>
          <a:xfrm>
            <a:off x="920880" y="1268280"/>
            <a:ext cx="5376600" cy="2737080"/>
          </a:xfrm>
          <a:prstGeom prst="rect">
            <a:avLst/>
          </a:prstGeom>
          <a:ln w="0">
            <a:noFill/>
          </a:ln>
        </p:spPr>
      </p:pic>
      <p:sp>
        <p:nvSpPr>
          <p:cNvPr id="527" name="正方形/長方形 95"/>
          <p:cNvSpPr/>
          <p:nvPr/>
        </p:nvSpPr>
        <p:spPr>
          <a:xfrm>
            <a:off x="860400" y="1054080"/>
            <a:ext cx="20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.3.3 Slice header syntax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28" name="テキスト ボックス 98" descr=""/>
          <p:cNvPicPr/>
          <p:nvPr/>
        </p:nvPicPr>
        <p:blipFill>
          <a:blip r:embed="rId2"/>
          <a:stretch/>
        </p:blipFill>
        <p:spPr>
          <a:xfrm>
            <a:off x="981000" y="4498920"/>
            <a:ext cx="8375760" cy="1719360"/>
          </a:xfrm>
          <a:prstGeom prst="rect">
            <a:avLst/>
          </a:prstGeom>
          <a:ln w="0">
            <a:noFill/>
          </a:ln>
        </p:spPr>
      </p:pic>
      <p:sp>
        <p:nvSpPr>
          <p:cNvPr id="529" name="正方形/長方形 99"/>
          <p:cNvSpPr/>
          <p:nvPr/>
        </p:nvSpPr>
        <p:spPr>
          <a:xfrm>
            <a:off x="861120" y="4262400"/>
            <a:ext cx="231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7.4.3 Slice header semantics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105A-94C8-4353-977A-E10F9D2EB67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200160" y="44280"/>
            <a:ext cx="884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perimental result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7343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33" name="コンテンツ プレースホルダ 2"/>
          <p:cNvSpPr/>
          <p:nvPr/>
        </p:nvSpPr>
        <p:spPr>
          <a:xfrm>
            <a:off x="272880" y="620640"/>
            <a:ext cx="9576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method was implemented on HM7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test, threshold was set according to the slice type and depth value of coding structu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849240" y="2295360"/>
            <a:ext cx="4016520" cy="3221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2"/>
          <a:stretch/>
        </p:blipFill>
        <p:spPr>
          <a:xfrm>
            <a:off x="5024520" y="2295360"/>
            <a:ext cx="4017960" cy="3221280"/>
          </a:xfrm>
          <a:prstGeom prst="rect">
            <a:avLst/>
          </a:prstGeom>
          <a:ln w="0">
            <a:noFill/>
          </a:ln>
        </p:spPr>
      </p:pic>
      <p:sp>
        <p:nvSpPr>
          <p:cNvPr id="536" name="テキスト ボックス 11"/>
          <p:cNvSpPr/>
          <p:nvPr/>
        </p:nvSpPr>
        <p:spPr>
          <a:xfrm>
            <a:off x="7839360" y="206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anchor:HM7.0</a:t>
            </a: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A45A-8609-46E1-BE44-C970FC58474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00160" y="44280"/>
            <a:ext cx="88437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ubjective test result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7343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40" name="コンテンツ プレースホルダ 2"/>
          <p:cNvSpPr/>
          <p:nvPr/>
        </p:nvSpPr>
        <p:spPr>
          <a:xfrm>
            <a:off x="272880" y="620640"/>
            <a:ext cx="95760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d metho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O off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7.0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with setting offset value 0 to a weak edge (category 1 and 4)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image: including a camera noise or a film grain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OnStreet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slow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calendar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図 7" descr="MAIN_SaoOff_PeopleOnStreet_2560x1600_30_crop_qp22_S14R4HB7_2.bmp"/>
          <p:cNvPicPr/>
          <p:nvPr/>
        </p:nvPicPr>
        <p:blipFill>
          <a:blip r:embed="rId1"/>
          <a:stretch/>
        </p:blipFill>
        <p:spPr>
          <a:xfrm>
            <a:off x="347760" y="692280"/>
            <a:ext cx="9259920" cy="5790960"/>
          </a:xfrm>
          <a:prstGeom prst="rect">
            <a:avLst/>
          </a:prstGeom>
          <a:ln w="0">
            <a:noFill/>
          </a:ln>
        </p:spPr>
      </p:pic>
      <p:sp>
        <p:nvSpPr>
          <p:cNvPr id="542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BE6-5EDD-4393-B988-FDB512F7A867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eopleOnStreet ( 2560x1600, 30p, frame no. 1 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44" name="正方形/長方形 6"/>
          <p:cNvSpPr/>
          <p:nvPr/>
        </p:nvSpPr>
        <p:spPr>
          <a:xfrm>
            <a:off x="1424160" y="1155600"/>
            <a:ext cx="433080" cy="6476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図 6" descr="MAIN_SaoOff_PeopleOnStreet_2560x1600_30_crop_qp22_S14R4HB7_2.bmp"/>
          <p:cNvPicPr/>
          <p:nvPr/>
        </p:nvPicPr>
        <p:blipFill>
          <a:blip r:embed="rId1"/>
          <a:stretch/>
        </p:blipFill>
        <p:spPr>
          <a:xfrm>
            <a:off x="4968720" y="550800"/>
            <a:ext cx="4865760" cy="6019920"/>
          </a:xfrm>
          <a:prstGeom prst="rect">
            <a:avLst/>
          </a:prstGeom>
          <a:ln w="0">
            <a:noFill/>
          </a:ln>
        </p:spPr>
      </p:pic>
      <p:sp>
        <p:nvSpPr>
          <p:cNvPr id="546" name="スライド番号プレースホルダ 1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BD5-90C4-455B-ADA8-72AF80610FD6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547" name="図 2" descr="PeopleOnStreet_2560x1600_30_crop_2.bmp"/>
          <p:cNvPicPr/>
          <p:nvPr/>
        </p:nvPicPr>
        <p:blipFill>
          <a:blip r:embed="rId2"/>
          <a:stretch/>
        </p:blipFill>
        <p:spPr>
          <a:xfrm>
            <a:off x="14400" y="552600"/>
            <a:ext cx="4867200" cy="6016320"/>
          </a:xfrm>
          <a:prstGeom prst="rect">
            <a:avLst/>
          </a:prstGeom>
          <a:ln w="0">
            <a:noFill/>
          </a:ln>
        </p:spPr>
      </p:pic>
      <p:sp>
        <p:nvSpPr>
          <p:cNvPr id="548" name="テキスト ボックス 10"/>
          <p:cNvSpPr/>
          <p:nvPr/>
        </p:nvSpPr>
        <p:spPr>
          <a:xfrm>
            <a:off x="3025080" y="5884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original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49" name="テキスト ボックス 10"/>
          <p:cNvSpPr/>
          <p:nvPr/>
        </p:nvSpPr>
        <p:spPr>
          <a:xfrm>
            <a:off x="8104320" y="5958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AO off</a:t>
            </a:r>
            <a:endParaRPr b="0" lang="en-US" sz="2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eopleOnStreet ( 2560x1600, 30p, frame no. 1, B-slice, QP22)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sugio</cp:lastModifiedBy>
  <dcterms:modified xsi:type="dcterms:W3CDTF">2012-07-06T09:13:24Z</dcterms:modified>
  <cp:revision>2465</cp:revision>
  <dc:subject/>
  <dc:title>Title</dc:title>
</cp:coreProperties>
</file>