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62AD-452C-4E0C-873C-C8DF4804E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E1B4-4ECF-4092-86FC-0D8B48DA2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CCD0D-D81C-474C-B529-E730B73CE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2841-2EDB-445E-A95F-B99B57338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C626E-D51D-4C28-A3EC-A6279F997E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351B7-C1ED-4FFC-BF5F-E16502A604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5C3F-44DD-45EC-BAE2-D87AD95678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DBF7-88CA-44A2-B227-9620D66740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39842-F4A7-46B2-8B46-1C88EC9CCA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484DA-8E06-4C7C-BAFE-D8276C1565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7B023-F336-4081-B178-5AACCD2913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64B3-423E-4420-9A18-89DF9E32D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1170-D2A2-4EA1-AAC1-1616666094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497F-FBB6-45FA-9BC4-BF38F7562C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ECE40-A471-424F-B269-033921053B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DD9AD-18DF-4109-9C37-27527A7060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5D74-ED0F-4C8D-B81E-993A036F9D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A48-217C-4B45-AB37-FC9FE83B67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161-E655-459D-8DA6-AF13C2CBF2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E43-4D45-4AE0-89C9-8C5FA6896E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696-8D2D-40D1-B78B-A0D42E6D1A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5D43-1B78-4983-A51B-C7D689C12A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A29A-9841-47B3-AAD8-71D94136CD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0F3-9630-4AED-91BD-C089DD8900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34B-ECCE-4A4A-8DBA-990FC1AA4B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4CA-2044-4E61-8A3C-3224858F34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B76-7711-40A4-9938-424BB2ABFA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A41-D051-4BA8-AD2B-496E0C2CA0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611-12D5-461C-B4FD-D71147F61E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B65-9A6D-4D90-99D3-86E480AEE9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79C4B-7024-477D-AC7F-C81357767E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F5479-B38C-4EBE-9987-D63D15C7D8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1B451-101C-4381-93C4-7D31E18B2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63DF-5AD5-4F61-8DA7-812C977A11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222DE-F101-4715-B4C9-7E4BF0AAE6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CD9B5-3156-4FEE-85FE-F8A900CCCB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AC8C3-02DB-4C93-9419-4E9ABC333F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D93E5-B820-480D-9E02-E623622B9D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0D8A5-5641-4C71-B4E3-15B32380C2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B6D45-8D97-476D-AB88-A5DF7E8D16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4873F-6B0C-4C0A-90A4-DFBE9A9396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F4111-C99D-4F45-80D7-0D8144AE52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7B0C6-31A2-4CC2-8D2D-66094207A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5D8B-55F2-4E74-BB5E-E5B3CF74F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406C-5A35-444B-BBD8-9508510C7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DE24-4BB4-45CF-A969-5843BCA63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8659-CCC3-4684-93DE-7A1DAA9AC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AD48-2119-4873-8B2B-09FFB82BC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055A-50D8-4867-A60C-F606A32784F2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632304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43" name="Picture 8" descr="Pifl_horiz_RGB_pozi"/>
          <p:cNvPicPr/>
          <p:nvPr/>
        </p:nvPicPr>
        <p:blipFill>
          <a:blip r:embed="rId2"/>
          <a:stretch/>
        </p:blipFill>
        <p:spPr>
          <a:xfrm>
            <a:off x="7184880" y="6037200"/>
            <a:ext cx="2592360" cy="168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DFE2-F1EB-4F06-80FB-BAE75F6F786C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83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5" name="テキスト ボックス 6"/>
          <p:cNvSpPr/>
          <p:nvPr/>
        </p:nvSpPr>
        <p:spPr>
          <a:xfrm>
            <a:off x="8408880" y="6535800"/>
            <a:ext cx="1440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CTVC-J0212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3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1FBD-DD53-4CA0-9259-8C1CEBB0A85F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126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9" name="テキスト ボックス 7"/>
          <p:cNvSpPr/>
          <p:nvPr/>
        </p:nvSpPr>
        <p:spPr>
          <a:xfrm>
            <a:off x="8408880" y="6535800"/>
            <a:ext cx="1440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CTVC-J0212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Num" idx="4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DDB1-80EA-483C-8B20-BEC77DC8FDD3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8A28-40C4-4762-8A0F-4A422C87A23D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8520" y="2130120"/>
            <a:ext cx="8890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CTVC-J0212:</a:t>
            </a:r>
            <a:br>
              <a:rPr sz="20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dified scan method for intra transform ski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15440" y="765000"/>
            <a:ext cx="8915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proposal, we introduce a modified scan method for intra transform sk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can method for intra transform sk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ransform_skip_flag is equal to 1 and the scanIdx is equal to 2 (vertical scan), the scanIdx is modified to 1 (horizontal 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if the transform_skip_flag is equal to 1 and the scanIdx is equal to 1 (horizontal scan), the scanIdx is modified to 2 (vertical 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lass F seque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9% gain for AI, 0.7% gain for RA, 0.3% gain for LD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CTVC-J0202 Metho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CTVC-J0313 Metho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5576-77A5-4372-9BEE-9686A448FAF6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ummary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4350-4E20-4E33-ADB9-6BACBE84A7D7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ntroduction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5" name="コンテンツ プレースホルダ 2"/>
          <p:cNvSpPr/>
          <p:nvPr/>
        </p:nvSpPr>
        <p:spPr>
          <a:xfrm>
            <a:off x="200160" y="549360"/>
            <a:ext cx="957708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 transform skipping was adopted in the last meeting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other hand, a scan method for coefficient coding is adaptively determined based on the intra prediction mode even for the block using intra transform skipp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) If the intra prediction is equal to horizontal mod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tical scan is applied because zero coefficients tend to be successive in a vertical dire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after transforming</a:t>
            </a:r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if the transform were skipped, the vertical scan would not be effective since zero coefficients tend to be successive in horizontal direction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176" name="Picture 178" descr=""/>
          <p:cNvPicPr/>
          <p:nvPr/>
        </p:nvPicPr>
        <p:blipFill>
          <a:blip r:embed="rId1"/>
          <a:stretch/>
        </p:blipFill>
        <p:spPr>
          <a:xfrm>
            <a:off x="1496880" y="3556080"/>
            <a:ext cx="64087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2888-D0B7-465F-BD62-F0B43C5DD64C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178" name="表 9" descr=""/>
          <p:cNvPicPr/>
          <p:nvPr/>
        </p:nvPicPr>
        <p:blipFill>
          <a:blip r:embed="rId1"/>
          <a:stretch/>
        </p:blipFill>
        <p:spPr>
          <a:xfrm>
            <a:off x="1492200" y="3413160"/>
            <a:ext cx="6340680" cy="2127240"/>
          </a:xfrm>
          <a:prstGeom prst="rect">
            <a:avLst/>
          </a:prstGeom>
          <a:ln w="0">
            <a:noFill/>
          </a:ln>
        </p:spPr>
      </p:pic>
      <p:sp>
        <p:nvSpPr>
          <p:cNvPr id="179" name="テキスト ボックス 10"/>
          <p:cNvSpPr/>
          <p:nvPr/>
        </p:nvSpPr>
        <p:spPr>
          <a:xfrm>
            <a:off x="1507680" y="3124080"/>
            <a:ext cx="28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.3.10 Residual coding syntax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oposal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168880" y="5572080"/>
          <a:ext cx="2592360" cy="1096920"/>
        </p:xfrm>
        <a:graphic>
          <a:graphicData uri="http://schemas.openxmlformats.org/drawingml/2006/table">
            <a:tbl>
              <a:tblPr/>
              <a:tblGrid>
                <a:gridCol w="826920"/>
                <a:gridCol w="176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Idx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onal scan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zontal scan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cal scan</a:t>
                      </a:r>
                      <a:endParaRPr b="0" lang="en-US" sz="12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コンテンツ プレースホルダ 2"/>
          <p:cNvSpPr/>
          <p:nvPr/>
        </p:nvSpPr>
        <p:spPr>
          <a:xfrm>
            <a:off x="200160" y="549360"/>
            <a:ext cx="957708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posal would introduce the conversion of the scan metho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ransform_skip_flag is equal to 1 and scanIdx is equal to 2 (vertical scan)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anIdx is modified to 1 (horizontal scan)</a:t>
            </a:r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  <a:p>
            <a:pPr lvl="2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if the transform_skip_flag is equal to 1 and scanIdx is equal to 1 (horizontal scan)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anIdx is modified to 2 (vertical scan)</a:t>
            </a:r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ed draft text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only the assignment of scanIdx for intra transform skipping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1368-8F51-4573-A0EF-8913E9829632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00160" y="44280"/>
            <a:ext cx="88437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xperimental result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7343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6" name="コンテンツ プレースホルダ 2"/>
          <p:cNvSpPr/>
          <p:nvPr/>
        </p:nvSpPr>
        <p:spPr>
          <a:xfrm>
            <a:off x="272880" y="620640"/>
            <a:ext cx="95760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method was implemented on HM7.0 softwa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hows 0.9% gain for AI, 0.7% gain for RA, 0.4% gain for LDB in class F sequence 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ansform skipping would be especially effective to class F sequen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posed method could strengthen its effectiveness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87" name="テキスト ボックス 11"/>
          <p:cNvSpPr/>
          <p:nvPr/>
        </p:nvSpPr>
        <p:spPr>
          <a:xfrm>
            <a:off x="6911280" y="2060640"/>
            <a:ext cx="254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anchor:HM7.0+transform skipping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188" name="Picture 9" descr=""/>
          <p:cNvPicPr/>
          <p:nvPr/>
        </p:nvPicPr>
        <p:blipFill>
          <a:blip r:embed="rId1"/>
          <a:stretch/>
        </p:blipFill>
        <p:spPr>
          <a:xfrm>
            <a:off x="828720" y="2349360"/>
            <a:ext cx="4268880" cy="3422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2"/>
          <a:stretch/>
        </p:blipFill>
        <p:spPr>
          <a:xfrm>
            <a:off x="5221440" y="2349360"/>
            <a:ext cx="42685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87A8-1DFE-4205-B663-500B939DEDB0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72880" y="731520"/>
            <a:ext cx="92822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pose to modify the scan method for intra transform ski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method saves 0.9% bits for AI in class F sequences without obvious difference in encoding and decod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uggest the proposed method be adopted in the DIS of HE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onclusion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全社標準ＰＣ</cp:lastModifiedBy>
  <dcterms:modified xsi:type="dcterms:W3CDTF">2012-07-10T19:59:12Z</dcterms:modified>
  <cp:revision>2482</cp:revision>
  <dc:subject/>
  <dc:title>Title</dc:title>
</cp:coreProperties>
</file>