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759744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3280" y="3882240"/>
            <a:ext cx="759744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3280" y="388224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88224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2240" y="152388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1200" y="152388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3280" y="388224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2240" y="388224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1200" y="388224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20920" y="304560"/>
            <a:ext cx="6261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73280" y="388224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388224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73280" y="3882240"/>
            <a:ext cx="759744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759744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73280" y="3882240"/>
            <a:ext cx="759744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3280" y="388224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388224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42240" y="152388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1200" y="152388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73280" y="388224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42240" y="388224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1200" y="388224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20920" y="304560"/>
            <a:ext cx="6261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3280" y="388224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88224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3280" y="3882240"/>
            <a:ext cx="759744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22840" indent="-222840">
              <a:spcBef>
                <a:spcPts val="3501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2920" indent="-221400">
              <a:spcBef>
                <a:spcPts val="350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5520" indent="-133920">
              <a:spcBef>
                <a:spcPts val="350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93400" indent="-141120">
              <a:spcBef>
                <a:spcPts val="350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483200" indent="-141120">
              <a:spcBef>
                <a:spcPts val="350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483200" indent="-141120">
              <a:spcBef>
                <a:spcPts val="35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483200" indent="-141120">
              <a:spcBef>
                <a:spcPts val="35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27080" y="152280"/>
            <a:ext cx="8875800" cy="6477120"/>
          </a:xfrm>
          <a:custGeom>
            <a:avLst/>
            <a:gdLst>
              <a:gd name="textAreaLeft" fmla="*/ 0 w 8875800"/>
              <a:gd name="textAreaRight" fmla="*/ 8876160 w 8875800"/>
              <a:gd name="textAreaTop" fmla="*/ 0 h 6477120"/>
              <a:gd name="textAreaBottom" fmla="*/ 6477480 h 6477120"/>
            </a:gdLst>
            <a:ahLst/>
            <a:rect l="textAreaLeft" t="textAreaTop" r="textAreaRight" b="textAreaBottom"/>
            <a:pathLst>
              <a:path w="6010" h="4050">
                <a:moveTo>
                  <a:pt x="6009" y="4050"/>
                </a:moveTo>
                <a:lnTo>
                  <a:pt x="6010" y="3"/>
                </a:lnTo>
                <a:lnTo>
                  <a:pt x="0" y="0"/>
                </a:lnTo>
                <a:lnTo>
                  <a:pt x="0" y="4048"/>
                </a:lnTo>
                <a:lnTo>
                  <a:pt x="6009" y="4050"/>
                </a:lnTo>
                <a:close/>
              </a:path>
            </a:pathLst>
          </a:custGeom>
          <a:noFill/>
          <a:ln w="12600">
            <a:solidFill>
              <a:srgbClr val="163e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352440" y="6453360"/>
            <a:ext cx="29955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63e7d"/>
                </a:solidFill>
                <a:latin typeface="Arial"/>
              </a:rPr>
              <a:t>RAI - Centro Ricerche e Innovazione Tecnolog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8088480" y="6477120"/>
            <a:ext cx="5634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11A413-AFC5-444E-9242-64877CB70629}" type="slidenum">
              <a:rPr b="0" lang="en-GB" sz="1200" spc="-1" strike="noStrike">
                <a:solidFill>
                  <a:srgbClr val="000000"/>
                </a:solidFill>
                <a:latin typeface="Univers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320920" y="990720"/>
            <a:ext cx="6261120" cy="0"/>
          </a:xfrm>
          <a:prstGeom prst="line">
            <a:avLst/>
          </a:prstGeom>
          <a:ln w="38160">
            <a:solidFill>
              <a:srgbClr val="163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Rai"/>
          <p:cNvPicPr/>
          <p:nvPr/>
        </p:nvPicPr>
        <p:blipFill>
          <a:blip r:embed="rId2"/>
          <a:srcRect l="2116" t="2116" r="2116" b="2116"/>
          <a:stretch/>
        </p:blipFill>
        <p:spPr>
          <a:xfrm>
            <a:off x="343080" y="279360"/>
            <a:ext cx="699840" cy="7002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2"/>
          <p:cNvSpPr/>
          <p:nvPr/>
        </p:nvSpPr>
        <p:spPr>
          <a:xfrm>
            <a:off x="127080" y="152280"/>
            <a:ext cx="8875800" cy="6477120"/>
          </a:xfrm>
          <a:custGeom>
            <a:avLst/>
            <a:gdLst>
              <a:gd name="textAreaLeft" fmla="*/ 0 w 8875800"/>
              <a:gd name="textAreaRight" fmla="*/ 8876160 w 8875800"/>
              <a:gd name="textAreaTop" fmla="*/ 0 h 6477120"/>
              <a:gd name="textAreaBottom" fmla="*/ 6477480 h 6477120"/>
            </a:gdLst>
            <a:ahLst/>
            <a:rect l="textAreaLeft" t="textAreaTop" r="textAreaRight" b="textAreaBottom"/>
            <a:pathLst>
              <a:path w="6010" h="4050">
                <a:moveTo>
                  <a:pt x="6009" y="4050"/>
                </a:moveTo>
                <a:lnTo>
                  <a:pt x="6010" y="3"/>
                </a:lnTo>
                <a:lnTo>
                  <a:pt x="0" y="0"/>
                </a:lnTo>
                <a:lnTo>
                  <a:pt x="0" y="4048"/>
                </a:lnTo>
                <a:lnTo>
                  <a:pt x="6009" y="4050"/>
                </a:lnTo>
                <a:close/>
              </a:path>
            </a:pathLst>
          </a:custGeom>
          <a:noFill/>
          <a:ln w="12600">
            <a:solidFill>
              <a:srgbClr val="163e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Rai"/>
          <p:cNvPicPr/>
          <p:nvPr/>
        </p:nvPicPr>
        <p:blipFill>
          <a:blip r:embed="rId2"/>
          <a:srcRect l="2116" t="2116" r="2116" b="2116"/>
          <a:stretch/>
        </p:blipFill>
        <p:spPr>
          <a:xfrm>
            <a:off x="343080" y="279360"/>
            <a:ext cx="699840" cy="7002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22840" indent="-222840">
              <a:spcBef>
                <a:spcPts val="3501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2920" indent="-221400">
              <a:spcBef>
                <a:spcPts val="350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5520" indent="-133920">
              <a:spcBef>
                <a:spcPts val="350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93400" indent="-141120">
              <a:spcBef>
                <a:spcPts val="350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483200" indent="-141120">
              <a:spcBef>
                <a:spcPts val="350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483200" indent="-141120">
              <a:spcBef>
                <a:spcPts val="35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483200" indent="-141120">
              <a:spcBef>
                <a:spcPts val="35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Frame packing arrangement SEI message modification</a:t>
            </a:r>
            <a:r>
              <a:rPr b="1" lang="it-IT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JCTVC-J01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ockholm 11–20 July 201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rame packing stereo 3D coding 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3501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ers are showing some interest in having the possibility to use frame packing arrangement in HEVC for the distribution of stereoscopic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3501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solution is needed in case of frame packing arrangement 3DTV transmission to maintain interoperability and backward (service) compatibility with receivers (2D, 3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PA and cropping rectangle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73280" y="1341000"/>
            <a:ext cx="7597440" cy="469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3251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ropping rectangle can be used to delimit the area within the frame containing one of the two 2D 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3251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3251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3251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utput video, properly scaled, provides a 2D-compatible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3251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3D receivers recalculates the cropping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rcRect l="0" t="0" r="0" b="-2868"/>
          <a:stretch/>
        </p:blipFill>
        <p:spPr>
          <a:xfrm>
            <a:off x="1771560" y="2338560"/>
            <a:ext cx="56008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HD-Book DTT 2.1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grpSp>
        <p:nvGrpSpPr>
          <p:cNvPr id="91" name="Gruppo 4"/>
          <p:cNvGrpSpPr/>
          <p:nvPr/>
        </p:nvGrpSpPr>
        <p:grpSpPr>
          <a:xfrm>
            <a:off x="617400" y="1076400"/>
            <a:ext cx="7910640" cy="4705200"/>
            <a:chOff x="617400" y="1076400"/>
            <a:chExt cx="7910640" cy="4705200"/>
          </a:xfrm>
        </p:grpSpPr>
        <p:pic>
          <p:nvPicPr>
            <p:cNvPr id="92" name="Picture 2" descr=""/>
            <p:cNvPicPr/>
            <p:nvPr/>
          </p:nvPicPr>
          <p:blipFill>
            <a:blip r:embed="rId1"/>
            <a:stretch/>
          </p:blipFill>
          <p:spPr>
            <a:xfrm>
              <a:off x="1277640" y="1076400"/>
              <a:ext cx="7250400" cy="47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" descr=""/>
            <p:cNvPicPr/>
            <p:nvPr/>
          </p:nvPicPr>
          <p:blipFill>
            <a:blip r:embed="rId2"/>
            <a:stretch/>
          </p:blipFill>
          <p:spPr>
            <a:xfrm>
              <a:off x="617400" y="1533600"/>
              <a:ext cx="187164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4" descr=""/>
            <p:cNvPicPr/>
            <p:nvPr/>
          </p:nvPicPr>
          <p:blipFill>
            <a:blip r:embed="rId3"/>
            <a:stretch/>
          </p:blipFill>
          <p:spPr>
            <a:xfrm>
              <a:off x="1037880" y="2463840"/>
              <a:ext cx="1463760" cy="104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5" descr=""/>
            <p:cNvPicPr/>
            <p:nvPr/>
          </p:nvPicPr>
          <p:blipFill>
            <a:blip r:embed="rId4"/>
            <a:stretch/>
          </p:blipFill>
          <p:spPr>
            <a:xfrm>
              <a:off x="1365120" y="4422960"/>
              <a:ext cx="11221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6" descr=""/>
            <p:cNvPicPr/>
            <p:nvPr/>
          </p:nvPicPr>
          <p:blipFill>
            <a:blip r:embed="rId5"/>
            <a:stretch/>
          </p:blipFill>
          <p:spPr>
            <a:xfrm>
              <a:off x="917280" y="3452760"/>
              <a:ext cx="1598400" cy="9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7" descr=""/>
            <p:cNvPicPr/>
            <p:nvPr/>
          </p:nvPicPr>
          <p:blipFill>
            <a:blip r:embed="rId6"/>
            <a:stretch/>
          </p:blipFill>
          <p:spPr>
            <a:xfrm>
              <a:off x="891720" y="3519360"/>
              <a:ext cx="1598400" cy="94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roblem and possibile solutions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3501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missing a way to indicate to a 3D decoder willing to extract the 3D content that video content outside the cropping rectangle is still “leg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3501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lternative solutions are propo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4040">
              <a:spcBef>
                <a:spcPts val="499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ing  "side-by-side" and "top-and-bottom" frame packing arrangements  definition already included in HEVC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4040">
              <a:spcBef>
                <a:spcPts val="499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two new frame packing arrangement SEI messages to those already present in HE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Method 1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01" name="Tabella 3" descr=""/>
          <p:cNvPicPr/>
          <p:nvPr/>
        </p:nvPicPr>
        <p:blipFill>
          <a:blip r:embed="rId1"/>
          <a:stretch/>
        </p:blipFill>
        <p:spPr>
          <a:xfrm>
            <a:off x="1096920" y="1189080"/>
            <a:ext cx="695016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Method 2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03" name="Tabella 3" descr=""/>
          <p:cNvPicPr/>
          <p:nvPr/>
        </p:nvPicPr>
        <p:blipFill>
          <a:blip r:embed="rId1"/>
          <a:stretch/>
        </p:blipFill>
        <p:spPr>
          <a:xfrm>
            <a:off x="1262160" y="1054080"/>
            <a:ext cx="66196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tolo 1"/>
          <p:cNvSpPr/>
          <p:nvPr/>
        </p:nvSpPr>
        <p:spPr>
          <a:xfrm>
            <a:off x="1441440" y="3086280"/>
            <a:ext cx="626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ny ques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olo 1"/>
          <p:cNvSpPr/>
          <p:nvPr/>
        </p:nvSpPr>
        <p:spPr>
          <a:xfrm>
            <a:off x="1441440" y="4759200"/>
            <a:ext cx="626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o Ar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co.arena@rai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13:33:52Z</dcterms:created>
  <dc:creator>GA</dc:creator>
  <dc:description/>
  <dc:language>en-US</dc:language>
  <cp:lastModifiedBy>Marco Arena</cp:lastModifiedBy>
  <dcterms:modified xsi:type="dcterms:W3CDTF">2012-07-14T15:09:15Z</dcterms:modified>
  <cp:revision>52</cp:revision>
  <dc:subject/>
  <dc:title>Diapositiva 1</dc:title>
</cp:coreProperties>
</file>