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698400" y="739440"/>
            <a:ext cx="5345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7F65-CDCE-407A-B11F-6AD9D9C59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E21F-C7E3-49AB-8DAC-370010F3D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9840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3B7F-58BE-4021-BF76-F2CEA1508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2D56-805C-48B9-A57C-E7371049B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BE63-712C-455D-BF5E-EDFE3708F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D128-32C1-42CE-89D7-A11663291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B6B7-D478-4BFB-9189-D16B6DF3FE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FE0A-CD30-4DE2-80F9-432B4DADCB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53B2-DF44-4DF3-AFE8-1DFF14F436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5797-DE7B-4E01-B515-EFE11DD997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5211-2A21-4733-AC27-3883C9E455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71FD-0468-4A40-9DE5-34FF5CA23E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56FC-41C9-4C70-9B6D-B1A4C66F35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482D-8FE9-4D2E-9CEA-3077CDE4E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2D10-19D1-441F-A6B2-4947B8A91F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2466-D86A-4B15-B821-F2978B931B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297F-F654-4CD2-8D3B-9B56960BAE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B677-708F-4A06-818E-B2297CFD1D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864A-890D-41F2-868E-761D6F0AE1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3F3-5878-4A89-83E1-DE15439A27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028-3FF3-4C95-875E-7B168B1227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1ED-A013-4F9B-B01C-39CA5D1C5C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C3C-F005-4DDC-AB65-0F7C43418E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55F-7A69-40BD-BAED-EC8BEE7AA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6482-F49C-4D83-B0D7-C8C7934834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596-C0D0-403A-8728-194AA08886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6AE-C7C3-4B79-B652-94EC712545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3ED-C67B-4536-A968-56803A36D4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E03-1DEE-43A4-AABD-2C95CB183B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439-A051-44E6-8045-C38B93B3F4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6C4-F5F4-4C70-AA84-B89E3F3E08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C73-4A31-4371-ADA4-97A40C8AB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C65F-2716-4D8A-A411-2780849D3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C2FE-4179-48EA-9F7E-2FB2DEDCA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B155-7CA7-40AA-9983-85F262C28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8667-DB8E-43B8-8378-0D270E5C4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1F05-4727-4824-AA42-FA0D912E0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C368-356C-4728-A135-B8CC8C219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36960" y="63241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9172-58B7-4D68-801A-81A25D43026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ifl_horiz_RGB_pozi"/>
          <p:cNvPicPr/>
          <p:nvPr/>
        </p:nvPicPr>
        <p:blipFill>
          <a:blip r:embed="rId2"/>
          <a:stretch/>
        </p:blipFill>
        <p:spPr>
          <a:xfrm>
            <a:off x="128520" y="6502320"/>
            <a:ext cx="295272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991548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41" name="Picture 8" descr="Pifl_horiz_RGB_pozi"/>
          <p:cNvPicPr/>
          <p:nvPr/>
        </p:nvPicPr>
        <p:blipFill>
          <a:blip r:embed="rId2"/>
          <a:stretch/>
        </p:blipFill>
        <p:spPr>
          <a:xfrm>
            <a:off x="128520" y="6502320"/>
            <a:ext cx="2952720" cy="190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524360" y="63162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9864-6848-47DD-866D-606B2F6F8F3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81" name="Picture 8" descr="Pifl_horiz_RGB_pozi"/>
          <p:cNvPicPr/>
          <p:nvPr/>
        </p:nvPicPr>
        <p:blipFill>
          <a:blip r:embed="rId2"/>
          <a:stretch/>
        </p:blipFill>
        <p:spPr>
          <a:xfrm>
            <a:off x="128520" y="6502320"/>
            <a:ext cx="2952720" cy="190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3"/>
          </p:nvPr>
        </p:nvSpPr>
        <p:spPr>
          <a:xfrm>
            <a:off x="7544880" y="632160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D9B7-18D5-44A8-9FF9-FF88BDB2DA8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7537320" y="63374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D5E-3CD7-4116-95FD-898BAFCDB961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832880" y="115920"/>
            <a:ext cx="194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CTVC-J0148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0840" y="278100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hG5/AhG6: Bypass cod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SAO syntax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239800" y="4700160"/>
            <a:ext cx="4403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ru Matsuno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ngo T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sao Sa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ahiro Ni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020F-75E2-43E0-869E-28B3E60E59C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9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108C-DF55-495F-8B20-C2DF093284DD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E78E-4A4B-46BE-BC40-C929B753EE1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1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B2AB-D52E-4BB2-9DC2-A740345D1F64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781200" y="3038400"/>
            <a:ext cx="8420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ference data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スライド番号プレースホルダ 1"/>
          <p:cNvSpPr/>
          <p:nvPr/>
        </p:nvSpPr>
        <p:spPr>
          <a:xfrm>
            <a:off x="754524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2D11-526E-4B09-B252-E8B44D1E49E3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47600" y="57240"/>
            <a:ext cx="9558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Preliminary tests for sao_type_idx and sao_offset_abs 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7040" y="2997360"/>
          <a:ext cx="9361800" cy="2592360"/>
        </p:xfrm>
        <a:graphic>
          <a:graphicData uri="http://schemas.openxmlformats.org/drawingml/2006/table">
            <a:tbl>
              <a:tblPr/>
              <a:tblGrid>
                <a:gridCol w="1338480"/>
                <a:gridCol w="1031760"/>
                <a:gridCol w="1033560"/>
                <a:gridCol w="1031760"/>
                <a:gridCol w="1033560"/>
                <a:gridCol w="952560"/>
                <a:gridCol w="954000"/>
                <a:gridCol w="1031760"/>
                <a:gridCol w="954360"/>
              </a:tblGrid>
              <a:tr h="91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est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I-Main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-Main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DB-Main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DP-Main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AI-HE10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RA-HE10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DB-HE10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DP-HE10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Test 1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0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02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2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0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Test 2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99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2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3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0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62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86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77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Test 3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3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3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3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4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4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5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5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3"/>
          <p:cNvSpPr/>
          <p:nvPr/>
        </p:nvSpPr>
        <p:spPr>
          <a:xfrm>
            <a:off x="-25200" y="549360"/>
            <a:ext cx="778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1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6303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pass coding for the bins except binIdx0 for sao_type_idx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2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6303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pass coding for all bins for sao_type_idx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3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6303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pass coding for all bins for sao_offset_abs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345120" y="2597040"/>
            <a:ext cx="36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D-rate of preliminary tests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72880" y="5661000"/>
            <a:ext cx="93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significant loss if bins except binIdx0 for sao_type_idx and all bins for sao_offset_abs are signaled using bypass coding. 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2667-7512-4C6E-981F-B29A1BA7E73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28520" y="44280"/>
            <a:ext cx="6534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olution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1" name="スライド番号プレースホルダ 1"/>
          <p:cNvSpPr/>
          <p:nvPr/>
        </p:nvSpPr>
        <p:spPr>
          <a:xfrm>
            <a:off x="7518240" y="63118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737-E6F8-4FE5-9128-DE49DE937D70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44520" y="1268280"/>
          <a:ext cx="9217080" cy="3910320"/>
        </p:xfrm>
        <a:graphic>
          <a:graphicData uri="http://schemas.openxmlformats.org/drawingml/2006/table">
            <a:tbl>
              <a:tblPr/>
              <a:tblGrid>
                <a:gridCol w="2442960"/>
                <a:gridCol w="2062440"/>
                <a:gridCol w="2614680"/>
                <a:gridCol w="2097000"/>
              </a:tblGrid>
              <a:tr h="622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AO syntax elemen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urrent SAO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olution 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olution 2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NEW!</a:t>
                      </a:r>
                      <a:br>
                        <a:rPr sz="1800"/>
                      </a:b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 sao_lcu_enable_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rge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eft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rge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p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type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idx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offset_sig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offset_ab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band_positio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54"/>
          <p:cNvSpPr/>
          <p:nvPr/>
        </p:nvSpPr>
        <p:spPr>
          <a:xfrm>
            <a:off x="1857240" y="86688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ifications of coding for SAO syntax elements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03E4-E338-4A96-90A6-E63FC343D6EA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5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F143-BA55-45D3-A1EF-1888BEAFB704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2880" y="1065240"/>
          <a:ext cx="9288720" cy="2087640"/>
        </p:xfrm>
        <a:graphic>
          <a:graphicData uri="http://schemas.openxmlformats.org/drawingml/2006/table">
            <a:tbl>
              <a:tblPr/>
              <a:tblGrid>
                <a:gridCol w="1324080"/>
                <a:gridCol w="1327320"/>
                <a:gridCol w="1326960"/>
                <a:gridCol w="1327320"/>
                <a:gridCol w="1326960"/>
                <a:gridCol w="1328760"/>
                <a:gridCol w="1327320"/>
              </a:tblGrid>
              <a:tr h="3841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es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ontext bins for SAO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lcu enable 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merge left 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merge up 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type idx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offset ab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otal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M7.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lution 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IV/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.67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5.75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8.07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lution 2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IV/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9.93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72880" y="3943440"/>
          <a:ext cx="9288720" cy="2087640"/>
        </p:xfrm>
        <a:graphic>
          <a:graphicData uri="http://schemas.openxmlformats.org/drawingml/2006/table">
            <a:tbl>
              <a:tblPr/>
              <a:tblGrid>
                <a:gridCol w="1324080"/>
                <a:gridCol w="1327320"/>
                <a:gridCol w="1326960"/>
                <a:gridCol w="1327320"/>
                <a:gridCol w="1326960"/>
                <a:gridCol w="1328760"/>
                <a:gridCol w="1327320"/>
              </a:tblGrid>
              <a:tr h="399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es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ontext bins for SAO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lcu enable 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merge left 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merge up 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type idx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 offset ab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otal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M7.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4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5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9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31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72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lution 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7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08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5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lution 2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6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00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6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54"/>
          <p:cNvSpPr/>
          <p:nvPr/>
        </p:nvSpPr>
        <p:spPr>
          <a:xfrm>
            <a:off x="200160" y="620640"/>
            <a:ext cx="9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ratio of context bins relative to HM7.0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9" name="Text Box 54"/>
          <p:cNvSpPr/>
          <p:nvPr/>
        </p:nvSpPr>
        <p:spPr>
          <a:xfrm>
            <a:off x="200160" y="3500280"/>
            <a:ext cx="9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ratio of context bins for SAO in total context bins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28520" y="44280"/>
            <a:ext cx="6534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BEF3-02F4-4CF0-A752-3936F1E5ED2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2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EC51-759B-4989-80FA-1D4E55C5974C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200160" y="620640"/>
            <a:ext cx="9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ratio of isolated bypass bins relative to HM7.0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20" y="44280"/>
            <a:ext cx="6534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2880" y="1052640"/>
          <a:ext cx="9361800" cy="1800000"/>
        </p:xfrm>
        <a:graphic>
          <a:graphicData uri="http://schemas.openxmlformats.org/drawingml/2006/table">
            <a:tbl>
              <a:tblPr/>
              <a:tblGrid>
                <a:gridCol w="1227240"/>
                <a:gridCol w="1017720"/>
                <a:gridCol w="1015920"/>
                <a:gridCol w="1017720"/>
                <a:gridCol w="1015920"/>
                <a:gridCol w="1015920"/>
                <a:gridCol w="1017720"/>
                <a:gridCol w="1015920"/>
                <a:gridCol w="101772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I-Mai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Mai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Mai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P-Mai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I-HE1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-HE1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B-HE1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P-HE1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M7.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lution 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lution 2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69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525624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4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5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9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38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424160" y="3851280"/>
          <a:ext cx="6984720" cy="36036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480"/>
                <a:gridCol w="582840"/>
                <a:gridCol w="581040"/>
                <a:gridCol w="582480"/>
                <a:gridCol w="582480"/>
                <a:gridCol w="581040"/>
                <a:gridCol w="582840"/>
                <a:gridCol w="582480"/>
                <a:gridCol w="581040"/>
                <a:gridCol w="582480"/>
              </a:tblGrid>
              <a:tr h="360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b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07" name="直線矢印コネクタ 11"/>
          <p:cNvCxnSpPr/>
          <p:nvPr/>
        </p:nvCxnSpPr>
        <p:spPr>
          <a:xfrm flipV="1">
            <a:off x="3492000" y="422388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直線矢印コネクタ 12"/>
          <p:cNvCxnSpPr/>
          <p:nvPr/>
        </p:nvCxnSpPr>
        <p:spPr>
          <a:xfrm flipV="1">
            <a:off x="5221080" y="422388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9" name="テキスト ボックス 13"/>
          <p:cNvSpPr/>
          <p:nvPr/>
        </p:nvSpPr>
        <p:spPr>
          <a:xfrm>
            <a:off x="2688840" y="451152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olated bypass bin</a:t>
            </a:r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0" name="テキスト ボックス 14"/>
          <p:cNvSpPr/>
          <p:nvPr/>
        </p:nvSpPr>
        <p:spPr>
          <a:xfrm>
            <a:off x="4425480" y="451152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olated bypass bin</a:t>
            </a:r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1" name="テキスト ボックス 15"/>
          <p:cNvSpPr/>
          <p:nvPr/>
        </p:nvSpPr>
        <p:spPr>
          <a:xfrm>
            <a:off x="1372680" y="469584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b: context bin</a:t>
            </a:r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: bypass bin</a:t>
            </a:r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2" name="テキスト ボックス 16"/>
          <p:cNvSpPr/>
          <p:nvPr/>
        </p:nvSpPr>
        <p:spPr>
          <a:xfrm>
            <a:off x="3581280" y="52293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of bins order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BC9B-E6CD-4B12-AC85-60DAD456DAE7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ummary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1520" y="592200"/>
            <a:ext cx="9045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is proposal, we modify syntax structure for SAO in order to simplify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implementation and improve the throughput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o_lcu_enable_flag is added for decoupling SAO on/off from sao_type_idx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sao_lcu_enable_flag is moved to the top of SAO syntax elements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ry coding for sao_type_idx is replaced with truncated unary coding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O syntax elements after sao_merge_up_flag are signaled using bypass models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umber of context models for sao_merge_left_flag is reduce from 3 to 1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 coding for sao_merge_left_flag and sao_merge_up_flag in solution 1 changes into bypass coding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447840" indent="-9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ur proposal can reduce the number of context models and bins for SAO with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no significant loss (0.03%)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F344-37E8-4D49-969C-355899473B58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Introduc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4240" y="592200"/>
            <a:ext cx="9548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improvement of the throughput and simplification of the implementation,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uction of the number of context models and bins. 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uping bypass bins together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7240" y="2114640"/>
            <a:ext cx="9504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blem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sao_merge_left_flag is signaled using 3 context models for every color components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Many context bins are generated in the worst case of sao_type_idx and sao_offset_abs.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4520" y="3284640"/>
          <a:ext cx="9145440" cy="2786040"/>
        </p:xfrm>
        <a:graphic>
          <a:graphicData uri="http://schemas.openxmlformats.org/drawingml/2006/table">
            <a:tbl>
              <a:tblPr/>
              <a:tblGrid>
                <a:gridCol w="2430360"/>
                <a:gridCol w="1870200"/>
                <a:gridCol w="1992240"/>
                <a:gridCol w="2852640"/>
              </a:tblGrid>
              <a:tr h="757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AO syntax elemen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ding model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he number of</a:t>
                      </a:r>
                      <a:br>
                        <a:rPr sz="1800"/>
                      </a:b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 model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ntext 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ins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per 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ample</a:t>
                      </a: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in the worst case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rge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eft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erge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p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flag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type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idx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7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offset_sig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offset_ab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5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band_positio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ypass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olution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0" name="Text Box 54"/>
          <p:cNvSpPr/>
          <p:nvPr/>
        </p:nvSpPr>
        <p:spPr>
          <a:xfrm>
            <a:off x="112680" y="549360"/>
            <a:ext cx="943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1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ification of syntax structure in order to reduce the number of context models and bins for SAO syntax elements and group bypass bins together.  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0160" y="1544760"/>
          <a:ext cx="9577080" cy="3324240"/>
        </p:xfrm>
        <a:graphic>
          <a:graphicData uri="http://schemas.openxmlformats.org/drawingml/2006/table">
            <a:tbl>
              <a:tblPr/>
              <a:tblGrid>
                <a:gridCol w="7056360"/>
                <a:gridCol w="2520720"/>
              </a:tblGrid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odification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ame proposal</a:t>
                      </a:r>
                      <a:endParaRPr b="0" i="1" lang="en-US" sz="18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_lcu_enable_flag is added for decoupling sao on/off  state from sao_type_idx, and sao_lcu_enable_flag is moved to the top of SAO syntax elements.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0103 (J0437)</a:t>
                      </a:r>
                      <a:br>
                        <a:rPr sz="1600"/>
                      </a:b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y Qualcomm / MediaTek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y coding for sao_type_idx is replaced with truncated unary coding.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054 by Samsung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104 (J0437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Qualcomm / MediaTek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178 by Sony,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_type_idx is signaled using bypass models instead of context models.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J0437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y Qualcomm / MediaTek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_offset_abs is signaled using bypass models instead of context models.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J0041 by Samsung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00160" y="5013360"/>
          <a:ext cx="9577080" cy="1368360"/>
        </p:xfrm>
        <a:graphic>
          <a:graphicData uri="http://schemas.openxmlformats.org/drawingml/2006/table">
            <a:tbl>
              <a:tblPr/>
              <a:tblGrid>
                <a:gridCol w="7056360"/>
                <a:gridCol w="2520720"/>
              </a:tblGrid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mber of context models for sao_merge_left_flag is reduced from 3 to 1 by sharing one context for every color component.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178 by Canon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J0355 by Motorola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_band_position and  sao_offset_sign are signaled continuously.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0046 by Samsung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0054 by Qualcomm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0268 by Sony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DB67-B2CC-4564-8F7E-F76229C9697E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olution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5" name="Text Box 54"/>
          <p:cNvSpPr/>
          <p:nvPr/>
        </p:nvSpPr>
        <p:spPr>
          <a:xfrm>
            <a:off x="112680" y="498600"/>
            <a:ext cx="94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1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difications of sao_type_idx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15800" y="1844640"/>
          <a:ext cx="4176720" cy="3168720"/>
        </p:xfrm>
        <a:graphic>
          <a:graphicData uri="http://schemas.openxmlformats.org/drawingml/2006/table">
            <a:tbl>
              <a:tblPr/>
              <a:tblGrid>
                <a:gridCol w="1008360"/>
                <a:gridCol w="1004760"/>
                <a:gridCol w="376200"/>
                <a:gridCol w="353880"/>
                <a:gridCol w="352440"/>
                <a:gridCol w="355680"/>
                <a:gridCol w="365040"/>
                <a:gridCol w="360360"/>
              </a:tblGrid>
              <a:tr h="3952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yntax element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in string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type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idx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inIdxCtx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ff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0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1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2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3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O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457960" y="1844640"/>
          <a:ext cx="4032000" cy="4464000"/>
        </p:xfrm>
        <a:graphic>
          <a:graphicData uri="http://schemas.openxmlformats.org/drawingml/2006/table">
            <a:tbl>
              <a:tblPr/>
              <a:tblGrid>
                <a:gridCol w="1190520"/>
                <a:gridCol w="969840"/>
                <a:gridCol w="503280"/>
                <a:gridCol w="432000"/>
                <a:gridCol w="504720"/>
                <a:gridCol w="431640"/>
              </a:tblGrid>
              <a:tr h="409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yntax element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in string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lcu_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able_flag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inIdxCtx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ff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n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row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ao_type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_idx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inIdxCtx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na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na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na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na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0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1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2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O(3)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O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右矢印 6"/>
          <p:cNvSpPr/>
          <p:nvPr/>
        </p:nvSpPr>
        <p:spPr>
          <a:xfrm>
            <a:off x="4665600" y="3583080"/>
            <a:ext cx="719280" cy="484200"/>
          </a:xfrm>
          <a:prstGeom prst="rightArrow">
            <a:avLst>
              <a:gd name="adj1" fmla="val 50000"/>
              <a:gd name="adj2" fmla="val 6639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1208160" y="14223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rent sao_type_idx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6392880" y="14223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1" name="スライド番号プレースホルダ 1"/>
          <p:cNvSpPr/>
          <p:nvPr/>
        </p:nvSpPr>
        <p:spPr>
          <a:xfrm>
            <a:off x="7537320" y="630864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6A26-A23A-4593-B1A6-8D20BBFDA668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olution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200160" y="620640"/>
            <a:ext cx="94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2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 1 changes into the following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4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2B0B-82BB-4127-B416-16C9EA45A90B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72880" y="1514520"/>
          <a:ext cx="9288720" cy="1266840"/>
        </p:xfrm>
        <a:graphic>
          <a:graphicData uri="http://schemas.openxmlformats.org/drawingml/2006/table">
            <a:tbl>
              <a:tblPr/>
              <a:tblGrid>
                <a:gridCol w="6985080"/>
                <a:gridCol w="2303640"/>
              </a:tblGrid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nts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ame proposal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5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_merge_left_flag and sao_merge_up_flag are signaled using bypass models instead of context models.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5FC-C8BE-4C25-A629-30F17C8B2F2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28520" y="44280"/>
            <a:ext cx="6534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olution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8" name="スライド番号プレースホルダ 1"/>
          <p:cNvSpPr/>
          <p:nvPr/>
        </p:nvSpPr>
        <p:spPr>
          <a:xfrm>
            <a:off x="7518240" y="63118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CCFE-32CB-49E2-A4E7-8162BE6CF07C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59" name="表 6" descr=""/>
          <p:cNvPicPr/>
          <p:nvPr/>
        </p:nvPicPr>
        <p:blipFill>
          <a:blip r:embed="rId1"/>
          <a:stretch/>
        </p:blipFill>
        <p:spPr>
          <a:xfrm>
            <a:off x="341280" y="762120"/>
            <a:ext cx="4687920" cy="5767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4"/>
          <p:cNvSpPr/>
          <p:nvPr/>
        </p:nvSpPr>
        <p:spPr>
          <a:xfrm>
            <a:off x="190440" y="487440"/>
            <a:ext cx="55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ifications of syntax structure for SAO in our proposal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68880" y="836640"/>
          <a:ext cx="4248000" cy="561816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368360"/>
              </a:tblGrid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CD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olution 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olution 2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7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2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1CF5-D284-4FF7-AAE3-9151ADFB3266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41480" y="6397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mmary of results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6" name="Text Box 570"/>
          <p:cNvSpPr/>
          <p:nvPr/>
        </p:nvSpPr>
        <p:spPr>
          <a:xfrm>
            <a:off x="415800" y="3278160"/>
            <a:ext cx="92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chor: HM7.0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significant loss (0.03%)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milar in run time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2880" y="1125360"/>
          <a:ext cx="9361800" cy="1837080"/>
        </p:xfrm>
        <a:graphic>
          <a:graphicData uri="http://schemas.openxmlformats.org/drawingml/2006/table">
            <a:tbl>
              <a:tblPr/>
              <a:tblGrid>
                <a:gridCol w="1241640"/>
                <a:gridCol w="1782720"/>
                <a:gridCol w="2808360"/>
                <a:gridCol w="1224000"/>
                <a:gridCol w="1224000"/>
                <a:gridCol w="108108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est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he number of context models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ontext 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in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 per 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ample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in the worst case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D-rate</a:t>
                      </a:r>
                      <a:br>
                        <a:rPr sz="1600"/>
                      </a:b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or Y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D-rate</a:t>
                      </a:r>
                      <a:br>
                        <a:rPr sz="1600"/>
                      </a:b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or U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BD-rate</a:t>
                      </a:r>
                      <a:br>
                        <a:rPr sz="1600"/>
                      </a:b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for V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olution 1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 → 3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.50 →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0.01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3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Solution 2</a:t>
                      </a:r>
                      <a:endParaRPr b="0" i="1" lang="en-US" sz="16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 → 1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1.50 →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 0.01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3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3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7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%</a:t>
                      </a:r>
                      <a:endParaRPr b="0" i="1" lang="en-US" sz="2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Object 87"/>
              <p:cNvSpPr txBox="1"/>
              <p:nvPr/>
            </p:nvSpPr>
            <p:spPr>
              <a:xfrm>
                <a:off x="0" y="0"/>
                <a:ext cx="1904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6"/>
              <p:cNvSpPr txBox="1"/>
              <p:nvPr/>
            </p:nvSpPr>
            <p:spPr>
              <a:xfrm>
                <a:off x="0" y="0"/>
                <a:ext cx="1904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0" y="0"/>
                <a:ext cx="1904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4"/>
              <p:cNvSpPr txBox="1"/>
              <p:nvPr/>
            </p:nvSpPr>
            <p:spPr>
              <a:xfrm>
                <a:off x="0" y="0"/>
                <a:ext cx="1904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スライド番号プレースホルダ 1"/>
          <p:cNvSpPr/>
          <p:nvPr/>
        </p:nvSpPr>
        <p:spPr>
          <a:xfrm>
            <a:off x="7537320" y="63244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263-17F7-4FE4-9EB3-9790B461B3E7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Conclus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72880" y="907920"/>
            <a:ext cx="92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Our proposal can reduce the number of context models and bins for SAO and group bypass bins together with no significant loss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891720" y="393372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thanks to NEC for cross-check (JCTVC-J0350)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10960" y="2133720"/>
            <a:ext cx="90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olution 1 is recommended for adoption to DIS text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2-07-11T08:03:49Z</dcterms:modified>
  <cp:revision>2220</cp:revision>
  <dc:subject/>
  <dc:title>Title</dc:title>
</cp:coreProperties>
</file>