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FDE-5444-41B8-9253-93CC3E49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041-B376-4919-B3BD-95B0128C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613-5562-4A6F-A7D7-3370D64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73A-B84A-471C-8187-41D795F6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682-4805-466E-B812-1CB73AD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953-5187-4D9C-AAA6-091CDB7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B56-FD9E-4688-B11F-2F9308E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045-8C7C-4D7F-BFB7-6C5FA380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F4E-5869-4BDF-B49C-394C7F6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DAA-7C77-471F-A30C-0A80499C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F80-F99E-4F09-87B3-BFC0EFE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C89-1027-46FA-B9A8-62DAA1A6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F48-89C1-4BB7-B66A-2BEFD9A3DDCC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TT DOCOMO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24320" y="6359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B0A8-82F1-4030-98D7-BD0209E1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5640" y="73080"/>
            <a:ext cx="21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TT DOCOMO Confid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01_corp_brandlogo_S"/>
          <p:cNvPicPr/>
          <p:nvPr/>
        </p:nvPicPr>
        <p:blipFill>
          <a:blip r:embed="rId2"/>
          <a:stretch/>
        </p:blipFill>
        <p:spPr>
          <a:xfrm>
            <a:off x="34920" y="36360"/>
            <a:ext cx="169236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7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J0147: Subjective test results on 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42920"/>
            <a:ext cx="640080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. Taki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.K. 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Fujibayas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. Suzu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T DOCOMO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th Meeting: Stockholm, SE, 11–20 Jul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DC3-E05B-4490-9C53-812D476E4F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1000" y="1044360"/>
            <a:ext cx="83804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was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bjective evaluation of ALF by non-expert viewers based on subjective test method used in JCTVC-I0585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on subjective viewing of ALF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mparison of two coding methods for 40 cases defined in JCTVC-I05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664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M 7.0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664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M 7.0 Main with 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sults of 22 non-expert 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F improves the visual quality at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ive test poi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ut of forty test poi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F also causes the subjective loss at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ix test poi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ults indicate that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no clear benefit from ALF in the subjective sense of non-expe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B6E-B670-4062-82E1-F86C2AFFEE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91440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960" y="1335240"/>
            <a:ext cx="87998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visual quality of two coding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7.0 main ALF 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7.0 main (ALF off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grade scale (same as JCTVC-I05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: A is worse, -1: A is slightly worse, 0: Equal,1: A is slightly better, 2: A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ing order of 1) and 2) is rando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test cases (same as JCTVC-I05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and coding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(4), Class B (5) and RiverBed for Random 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(5), Class E (3), RiverBed and SpinCalendar for Low Dela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; 32,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ZO FlexScan SX3031 (30 inch LCD, resolution: 2560x1600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 LCD5220 (52 inch, 1920x10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ing condition: Viewing distance was set to 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122-92BA-4E19-BCCA-370DF329F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9120" y="25416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Non-expert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21"/>
          <p:cNvSpPr/>
          <p:nvPr/>
        </p:nvSpPr>
        <p:spPr>
          <a:xfrm>
            <a:off x="216000" y="5649840"/>
            <a:ext cx="806436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alibri"/>
              </a:rPr>
              <a:t>LB,Qp3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1:KristenAndSara,2:Johnny,3:FourPeople,4: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Calibri"/>
              </a:rPr>
              <a:t>SpinCalendar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5: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</a:rPr>
              <a:t>RiverB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:Kimono,7:ParkScene,8:Cactus,9:BasketballDrive,10:BQTer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alibri"/>
              </a:rPr>
              <a:t>RA,Qp3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11:Traffic,12:PeopleOnStreet,13:NebutaFestival,14:SteamLocomotive,15:RiverB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:Kimono,17:ParkScene,18:Cactus,19:BasketballDrive,20: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Calibri"/>
              </a:rPr>
              <a:t>BQTer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alibri"/>
              </a:rPr>
              <a:t>LB,Qp3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eat of LB,Qp37(21-30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333399"/>
                </a:solidFill>
                <a:latin typeface="Calibri"/>
              </a:rPr>
              <a:t>RA:Qp3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eat of RA,Qp32(31-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9360" y="746280"/>
            <a:ext cx="837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itive value means ALF improve visual quality. Mean MOS across 40 cases is 0.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ive test points showed better subjective picture quality of ALF than the HM7.0 ancho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ix test point  showed worse subjective picture quality of ALF than the HM7.0 anchor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1517760"/>
            <a:ext cx="7674120" cy="41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D7F-72D8-457E-87B2-ABFEDAA52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25416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746280"/>
            <a:ext cx="8379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sual quality of sequences encoded at QP=37 is not good for entertainment service. Except for Riverbed, the difference between 2 coding method could not be found at QP=3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QP=32, 4 case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re found the difference out of 20 test po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366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points showed better subjective picture quality of ALF than the HM7.0 ancho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verb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366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test point showed worse subjective picture quality of ALF than the HM7.0 anchor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nCalendar, BQTerr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Blocking artefacts may be suppressed by modifying the deblocking filter. e.g. JCTVC-J009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74640" y="3246480"/>
            <a:ext cx="6316920" cy="338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0E7-2169-4AD7-85BE-2982916F6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グループ化 5"/>
          <p:cNvGrpSpPr/>
          <p:nvPr/>
        </p:nvGrpSpPr>
        <p:grpSpPr>
          <a:xfrm>
            <a:off x="371520" y="1406520"/>
            <a:ext cx="8058240" cy="4253040"/>
            <a:chOff x="371520" y="1406520"/>
            <a:chExt cx="8058240" cy="425304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371520" y="1406520"/>
              <a:ext cx="8058240" cy="42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円/楕円 7"/>
            <p:cNvSpPr/>
            <p:nvPr/>
          </p:nvSpPr>
          <p:spPr>
            <a:xfrm>
              <a:off x="1383480" y="270000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円/楕円 8"/>
            <p:cNvSpPr/>
            <p:nvPr/>
          </p:nvSpPr>
          <p:spPr>
            <a:xfrm>
              <a:off x="1965240" y="322344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円/楕円 9"/>
            <p:cNvSpPr/>
            <p:nvPr/>
          </p:nvSpPr>
          <p:spPr>
            <a:xfrm>
              <a:off x="3326040" y="270108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円/楕円 10"/>
            <p:cNvSpPr/>
            <p:nvPr/>
          </p:nvSpPr>
          <p:spPr>
            <a:xfrm>
              <a:off x="6215400" y="346356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円/楕円 11"/>
            <p:cNvSpPr/>
            <p:nvPr/>
          </p:nvSpPr>
          <p:spPr>
            <a:xfrm>
              <a:off x="6405840" y="337680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円/楕円 12"/>
            <p:cNvSpPr/>
            <p:nvPr/>
          </p:nvSpPr>
          <p:spPr>
            <a:xfrm>
              <a:off x="2349000" y="320868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円/楕円 13"/>
            <p:cNvSpPr/>
            <p:nvPr/>
          </p:nvSpPr>
          <p:spPr>
            <a:xfrm>
              <a:off x="2933280" y="346824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円/楕円 14"/>
            <p:cNvSpPr/>
            <p:nvPr/>
          </p:nvSpPr>
          <p:spPr>
            <a:xfrm>
              <a:off x="3517200" y="345168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円/楕円 15"/>
            <p:cNvSpPr/>
            <p:nvPr/>
          </p:nvSpPr>
          <p:spPr>
            <a:xfrm>
              <a:off x="5837400" y="371664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円/楕円 16"/>
            <p:cNvSpPr/>
            <p:nvPr/>
          </p:nvSpPr>
          <p:spPr>
            <a:xfrm>
              <a:off x="3700080" y="3295440"/>
              <a:ext cx="19008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円/楕円 18"/>
            <p:cNvSpPr/>
            <p:nvPr/>
          </p:nvSpPr>
          <p:spPr>
            <a:xfrm>
              <a:off x="4297680" y="330300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円/楕円 19"/>
            <p:cNvSpPr/>
            <p:nvPr/>
          </p:nvSpPr>
          <p:spPr>
            <a:xfrm>
              <a:off x="4475160" y="354960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円/楕円 20"/>
            <p:cNvSpPr/>
            <p:nvPr/>
          </p:nvSpPr>
          <p:spPr>
            <a:xfrm>
              <a:off x="5249520" y="3537360"/>
              <a:ext cx="190080" cy="1904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線コネクタ 23"/>
            <p:cNvSpPr/>
            <p:nvPr/>
          </p:nvSpPr>
          <p:spPr>
            <a:xfrm>
              <a:off x="596160" y="4108680"/>
              <a:ext cx="7742160" cy="0"/>
            </a:xfrm>
            <a:prstGeom prst="line">
              <a:avLst/>
            </a:prstGeom>
            <a:ln w="93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線コネクタ 24"/>
            <p:cNvSpPr/>
            <p:nvPr/>
          </p:nvSpPr>
          <p:spPr>
            <a:xfrm>
              <a:off x="596160" y="3903840"/>
              <a:ext cx="77421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線コネクタ 2"/>
            <p:cNvSpPr/>
            <p:nvPr/>
          </p:nvSpPr>
          <p:spPr>
            <a:xfrm flipV="1">
              <a:off x="2536200" y="1659960"/>
              <a:ext cx="0" cy="241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線コネクタ 22"/>
            <p:cNvSpPr/>
            <p:nvPr/>
          </p:nvSpPr>
          <p:spPr>
            <a:xfrm flipV="1">
              <a:off x="4468320" y="1659960"/>
              <a:ext cx="0" cy="241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線コネクタ 25"/>
            <p:cNvSpPr/>
            <p:nvPr/>
          </p:nvSpPr>
          <p:spPr>
            <a:xfrm flipV="1">
              <a:off x="6408000" y="1659960"/>
              <a:ext cx="0" cy="241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テキスト ボックス 4"/>
            <p:cNvSpPr/>
            <p:nvPr/>
          </p:nvSpPr>
          <p:spPr>
            <a:xfrm>
              <a:off x="1204200" y="1596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B, Qp=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テキスト ボックス 26"/>
            <p:cNvSpPr/>
            <p:nvPr/>
          </p:nvSpPr>
          <p:spPr>
            <a:xfrm>
              <a:off x="3034440" y="15969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, Qp=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テキスト ボックス 27"/>
            <p:cNvSpPr/>
            <p:nvPr/>
          </p:nvSpPr>
          <p:spPr>
            <a:xfrm>
              <a:off x="4947840" y="1596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B, Qp=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テキスト ボックス 28"/>
            <p:cNvSpPr/>
            <p:nvPr/>
          </p:nvSpPr>
          <p:spPr>
            <a:xfrm>
              <a:off x="6788880" y="15969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, Qp=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円/楕円 29"/>
            <p:cNvSpPr/>
            <p:nvPr/>
          </p:nvSpPr>
          <p:spPr>
            <a:xfrm>
              <a:off x="7371360" y="4239000"/>
              <a:ext cx="190080" cy="190440"/>
            </a:xfrm>
            <a:prstGeom prst="ellipse">
              <a:avLst/>
            </a:prstGeom>
            <a:noFill/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9120" y="1476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I: JCTVC-I0585: 18 Expert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1"/>
          <p:cNvSpPr/>
          <p:nvPr/>
        </p:nvSpPr>
        <p:spPr>
          <a:xfrm>
            <a:off x="216000" y="5649840"/>
            <a:ext cx="81928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LB,Qp3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1:KristenAndSara,2:Johnny,3:FourPeople,4:SpinCalendar,5:RiverB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:Kimono,7:ParkScene,8:Cactus,9:BasketballDrive,10:BQTer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RA,Qp3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11:Traffic,12:PeopleOnStreet,13:NebutaFestival,14:SteamLocomotive,15:RiverB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:Kimono,17:ParkScene,18:Cactus,19:BasketballDrive,20:BQTer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LB,Qp3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eat of LB,Qp37(21-30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RA:Qp3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eat of RA,Qp32(31-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9360" y="608040"/>
            <a:ext cx="8667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itive value means ALF improve visual quality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ix test points showed better subjective picture quality of Option2_RA_ALF than the HM6.0 ancho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ne test point showed worse subjective picture quality of Option2_RA_ALF than the HM6.0 anch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6ED-4B56-4462-80E4-648F192B20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3:23Z</dcterms:created>
  <dc:creator>Yoshinori Suzuki</dc:creator>
  <dc:description/>
  <dc:language>en-US</dc:language>
  <cp:lastModifiedBy>suzuki</cp:lastModifiedBy>
  <dcterms:modified xsi:type="dcterms:W3CDTF">2012-07-09T15:00:29Z</dcterms:modified>
  <cp:revision>3046</cp:revision>
  <dc:subject/>
  <dc:title>Work plan</dc:title>
</cp:coreProperties>
</file>