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7F185-0B22-40E4-9648-0D745A01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F788D-E40B-4C5C-8F75-D0F64667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2B356-FC97-4356-9FA1-2096FA4B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00541-726F-4A66-8D98-D8DA96C3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85226-9B95-40C2-9D7B-F6DEB3DB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656DD-9AF7-49D7-A2D2-09C5D8C7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8E283-807F-4B35-AFC1-A7CEEB32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06D45-121D-46F9-A0C9-306E5745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BB614-1D0A-43D5-A0F0-EE8308D2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73818-D10B-4EBD-A395-DA0956FE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29FA7-70E2-4A38-B47B-7B1663DF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B3026-CDAC-4D23-A2AB-3064CFA0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225B8B-BD39-43B0-96F8-3A59158F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4A4951-63BE-404D-815D-CADA8F85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B5CCD0-6591-40C0-B990-5204AF01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B28E91-AAFF-46E4-A11C-30980BB4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C7E21A-9339-429A-8266-41DC4B44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DC5DA9-B0CC-45FF-B471-8C660F97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D17F42-F43C-49A9-ADAD-422B22C7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89FB26-135A-46C2-8946-EB745527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578BBA-08D4-4E72-8D26-CE17C3B6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A36619-E980-4F87-B205-1300C4B3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BF49A6-1FC6-442B-B364-BBD1B89A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15A8F5-1D34-4C13-80B5-C3C5C50F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0B0B9E-FA8E-4FCC-AE36-6E8850AE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5FB0FE-9871-430C-8F74-21DDEAFF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896A59-A702-428D-AA5E-EC4F6440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617052-7B96-4F68-B82B-C206AE6C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B1D091-8952-4A6A-BAAC-D7038251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38E95B-BB0A-4F5A-BC54-0ACC265F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4E1022-5C47-4F40-B411-8E3FA3CD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978C0A-DBA1-4BE6-803A-40AD6BE1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9C9A3F-8F7A-421A-9922-1972E7AE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F15B90-98E9-44EB-8E25-18AAEAC0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B72601-BB32-4AF7-942C-543D4B27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E3E4C4-7A80-4EC6-91E5-55A2D539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CF03FA-9FE9-41B9-9A07-5A8D83F5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2C15C1-225C-409A-BA3B-A228B612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1A4369-1058-4090-A06B-187B38C8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74D819-D45F-42E9-809A-884E6E6C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F68A13-B149-4BB3-92FF-DEC7A5FD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3C6821-5FBB-420F-9D09-CF79DAC9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4AD615-E6FA-4730-AD35-78468561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6145F8-BCD9-4DE5-AB66-C780323D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D063B4-915F-4B3B-83A0-B42C3E3D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0FCD8E-AD03-4D15-A917-6B60B658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61FEBF-3C07-429C-B761-98E68195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6C4BA7-2ED4-4A41-B48A-79D86C85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85800" y="6078240"/>
            <a:ext cx="4152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619440" y="6370560"/>
            <a:ext cx="17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TVC-J01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B1FF-950A-46CC-A717-A83E23B9A32F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2475000" y="6038640"/>
            <a:ext cx="41637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B53A-04C5-46DD-A735-01246139E1A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68400" algn="ctr">
              <a:spcBef>
                <a:spcPts val="8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1616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161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161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5956-3054-49BA-B5B6-7717AE8FCE74}" type="datetime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2468520" y="6038640"/>
            <a:ext cx="41594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24FB-EBD1-4BD2-8DF3-83B74B78E42A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8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AD1D-31B8-4FE2-A2F1-45DD5193B136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9"/>
          </p:nvPr>
        </p:nvSpPr>
        <p:spPr>
          <a:xfrm>
            <a:off x="2485800" y="6039000"/>
            <a:ext cx="4152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0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68A8-B9D4-4F6D-9DCF-25661D89D07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1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707D-22FF-4FB0-9A48-F0207C574057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2"/>
          </p:nvPr>
        </p:nvSpPr>
        <p:spPr>
          <a:xfrm>
            <a:off x="2486160" y="6039000"/>
            <a:ext cx="416376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A7C5-9CAD-46AC-8DDA-EDB336333ED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3000" y="534960"/>
            <a:ext cx="8613720" cy="21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eff_abs_level_remaining maximum codeword length reduction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JCTVC-J0142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58560" y="3153960"/>
            <a:ext cx="8458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hukar Budagavi and Vivienne S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as Instruments I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98480" y="4871520"/>
            <a:ext cx="59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Joint Collaborative Team on Video Coding (JCT-V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of ITU-T SG 16 WP 3 and ISO/IEC JTC 1/SC 29/WG 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0th Meeting: Stockholm, SE, 11–20 July 20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B5140-8A66-4A50-92F8-8D62E95A745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2E3C1E1-40B8-4945-A92E-0FCD164B52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1480" y="97920"/>
            <a:ext cx="845820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menclatur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4920" y="985320"/>
            <a:ext cx="84675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-7.0 will be denoted as U-FLC123-L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denotes prefix is coded using u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C123 denotes suffix increases as 1-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37 denotes maximum codeword length is 37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nts of HM-7.0 VLC were studied with maximum codeword length between 29 to 3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unary prefix and truncated unary prefix variants stud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ry prefix allows for level range extension in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d unary can be extended with a different c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31480" y="4284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M-7.0 VLC for coeff_abs_level_remain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90440" y="711360"/>
          <a:ext cx="8690040" cy="5641920"/>
        </p:xfrm>
        <a:graphic>
          <a:graphicData uri="http://schemas.openxmlformats.org/drawingml/2006/table">
            <a:tbl>
              <a:tblPr/>
              <a:tblGrid>
                <a:gridCol w="1513080"/>
                <a:gridCol w="2606400"/>
                <a:gridCol w="1559160"/>
                <a:gridCol w="998280"/>
                <a:gridCol w="998640"/>
                <a:gridCol w="101448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put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word pre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word suf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fix code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ffix code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codeword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~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~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~8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111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99~16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1111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x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91~327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11111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xx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-FLC135-L29 proposa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43040" y="1057320"/>
          <a:ext cx="7939080" cy="4973760"/>
        </p:xfrm>
        <a:graphic>
          <a:graphicData uri="http://schemas.openxmlformats.org/drawingml/2006/table">
            <a:tbl>
              <a:tblPr/>
              <a:tblGrid>
                <a:gridCol w="1393560"/>
                <a:gridCol w="2044800"/>
                <a:gridCol w="1600200"/>
                <a:gridCol w="917640"/>
                <a:gridCol w="919080"/>
                <a:gridCol w="106380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put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word pre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word suf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fix code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ffix code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codeword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~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~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~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~6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8~27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36~109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x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28~436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11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xxx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D-Rate results (normal QP range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965160" y="1442880"/>
          <a:ext cx="7205760" cy="4173480"/>
        </p:xfrm>
        <a:graphic>
          <a:graphicData uri="http://schemas.openxmlformats.org/drawingml/2006/table">
            <a:tbl>
              <a:tblPr/>
              <a:tblGrid>
                <a:gridCol w="1663560"/>
                <a:gridCol w="1814760"/>
                <a:gridCol w="1785960"/>
                <a:gridCol w="1941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-FLC135-L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-FLC135-L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U-FLC135-L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aximum codeword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2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0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9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I-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-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B-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P-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I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B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P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D-Rate results (low QP range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23760" y="1263600"/>
          <a:ext cx="6831000" cy="4219560"/>
        </p:xfrm>
        <a:graphic>
          <a:graphicData uri="http://schemas.openxmlformats.org/drawingml/2006/table">
            <a:tbl>
              <a:tblPr/>
              <a:tblGrid>
                <a:gridCol w="1578240"/>
                <a:gridCol w="1719000"/>
                <a:gridCol w="1694160"/>
                <a:gridCol w="1839600"/>
              </a:tblGrid>
              <a:tr h="359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-FLC135-L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-FLC135-L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U-FLC135-L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aximum codeword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2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0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9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I-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-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B-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P-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I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B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P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31480" y="777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25160" y="717480"/>
            <a:ext cx="835812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4640" indent="-22464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-7.0 uses a combination of unary+VLC (golomb-rice+exp-golomb) for coding coeff_abs_level_remaining in bypass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230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ix: Unary co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230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ix (for k 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5280" indent="-16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s till 8 do not have suff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280" indent="-16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ther levels, suffix length increases as 1, 2, 3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230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aram varies in range 0,1, 2, 3,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230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codeword length = 37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codeword length &lt;= 32 bit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230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st case throughput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230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complexity goes down as the number of coded bins go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discussions assume cParam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1480" y="4284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M-7.0 VLC for coeff_abs_level_remain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90440" y="711360"/>
          <a:ext cx="8690040" cy="5641920"/>
        </p:xfrm>
        <a:graphic>
          <a:graphicData uri="http://schemas.openxmlformats.org/drawingml/2006/table">
            <a:tbl>
              <a:tblPr/>
              <a:tblGrid>
                <a:gridCol w="1513080"/>
                <a:gridCol w="2606400"/>
                <a:gridCol w="1559160"/>
                <a:gridCol w="998280"/>
                <a:gridCol w="998640"/>
                <a:gridCol w="101448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put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word pre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word suf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fix code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ffix code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codeword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~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~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~8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111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99~16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1111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x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91~327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11111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xx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posal 1: Maximum codeword length = 32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43080" y="1046160"/>
          <a:ext cx="8361360" cy="4732200"/>
        </p:xfrm>
        <a:graphic>
          <a:graphicData uri="http://schemas.openxmlformats.org/drawingml/2006/table">
            <a:tbl>
              <a:tblPr/>
              <a:tblGrid>
                <a:gridCol w="1614240"/>
                <a:gridCol w="2363760"/>
                <a:gridCol w="1560600"/>
                <a:gridCol w="1063800"/>
                <a:gridCol w="877680"/>
                <a:gridCol w="88128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put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deword pre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deword suf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refix code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uffix code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 codeword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~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~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~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~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050~40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111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xxxxxxx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98~8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1111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xxxxxxxx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194~163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11111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xxxxxxxxx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6386~327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111111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xxxxxxxxxx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1480" y="5400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posal 2: Prefix TU instead of Unary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69880" y="1011240"/>
          <a:ext cx="7959600" cy="4732200"/>
        </p:xfrm>
        <a:graphic>
          <a:graphicData uri="http://schemas.openxmlformats.org/drawingml/2006/table">
            <a:tbl>
              <a:tblPr/>
              <a:tblGrid>
                <a:gridCol w="1420920"/>
                <a:gridCol w="2082600"/>
                <a:gridCol w="1632240"/>
                <a:gridCol w="934920"/>
                <a:gridCol w="936720"/>
                <a:gridCol w="95220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put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word pre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word suf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fix code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ffix code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codeword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~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~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~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51~40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99~81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95~163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11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x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87~32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1111111111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xx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D-Rate results (normal QP range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347840" y="1216080"/>
          <a:ext cx="6335640" cy="4460760"/>
        </p:xfrm>
        <a:graphic>
          <a:graphicData uri="http://schemas.openxmlformats.org/drawingml/2006/table">
            <a:tbl>
              <a:tblPr/>
              <a:tblGrid>
                <a:gridCol w="1965240"/>
                <a:gridCol w="2138400"/>
                <a:gridCol w="2232000"/>
              </a:tblGrid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roposal 1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roposal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aximum codeword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2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2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I-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-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B-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P-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I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B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P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D-Rate results (low QP range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58800" y="1316160"/>
          <a:ext cx="5531040" cy="4219560"/>
        </p:xfrm>
        <a:graphic>
          <a:graphicData uri="http://schemas.openxmlformats.org/drawingml/2006/table">
            <a:tbl>
              <a:tblPr/>
              <a:tblGrid>
                <a:gridCol w="1414440"/>
                <a:gridCol w="2114640"/>
                <a:gridCol w="2001960"/>
              </a:tblGrid>
              <a:tr h="359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roposal 1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roposal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aximum codeword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2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2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I-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-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B-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P-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I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B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P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VLCs with reduced maximum codeword length were stud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BD-Rate losses 0.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F BD-Rate savings in the range of: 0.4% - 0.6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options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-FLC135-L29: Smallest maximum codeword length of 29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08120" y="2604600"/>
            <a:ext cx="583416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ther varian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>Eric Wand</dc:creator>
  <dc:description/>
  <dc:language>en-US</dc:language>
  <cp:lastModifiedBy>a0214362</cp:lastModifiedBy>
  <dcterms:modified xsi:type="dcterms:W3CDTF">2012-07-13T07:49:26Z</dcterms:modified>
  <cp:revision>706</cp:revision>
  <dc:subject/>
  <dc:title>Presentation Title Here</dc:title>
</cp:coreProperties>
</file>