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7DD-251F-432F-9C4A-13990618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B70-E089-4F4A-A7ED-0224578C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EAD4-D074-4121-847E-FC8A70F4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56E-E394-40DE-B18D-51F5C1D2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B05D-26BD-47E2-A63A-131F5BF8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567-73C9-4B98-94E1-0ECBEAD7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C5D-3CD0-40C1-80F9-7BFAA768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907-D54C-4479-91D7-F1C720EE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920-4650-4539-8A23-D4360B1D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D5F-E7A0-4035-BB0A-50876402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341-23B4-49E5-8326-8177166C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B620-5DAB-4A5E-A7C8-489EBF37E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4391-CA94-4453-A9B3-B07B2627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4AFD-E6DF-4997-96A8-12894ED36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FE45-3AE6-4479-BCBD-827CAC44D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8A23-9682-4169-B5AA-CEDBF6159D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3FB5-2EF2-4F2E-AD56-51E76588A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4479-EE15-4181-BC1F-92783D092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D613-B39D-4D74-BA0A-3A26BCDAC7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E656-061A-405B-843B-14CCAC312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0098-923A-457E-BC44-8DFBB1692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EB7C-6B16-4D75-9338-3E86D33C0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F63E-221F-470B-89C3-9ADA4E31A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929B-D058-4609-ABC4-F46DF60E9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0095-8EE8-4273-B516-6CFC219113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5253-43DA-4F64-804A-4A583E1E6D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BC93-A79D-4A50-86B6-2507D09AE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5A11-2A77-4DDE-B98B-7407F82519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498-8E71-41A2-A8DF-ED6CED0DFB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D3F-13BF-45B3-A496-946ABD13E8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584-881E-471E-91F9-9FC426D950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23E-F096-45DB-8698-F9D50048C0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42B-9F2E-4715-B786-059F843E5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1552-51EB-4166-920A-075480C37E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297-C409-40AB-B5B2-588F7177A8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F4E-F584-41F9-86F8-33CB1B7480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2F1-FE67-484C-89FE-AB4BCD1C0B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0F5-165E-48AC-A5F3-02BEAE1180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ACE-A5C1-484B-8D08-20B01A7A49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A2A-415C-45A0-80A5-BAF330C5F5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798-B02E-48A9-94DC-45A73BFFD4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0CBCE-3932-4A68-9C77-4D114F479C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F8F0-D9A0-4E15-98B8-63F452C389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4539C-CED3-41D0-9902-F7B98754E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E6B6-6CEC-48E4-ACAB-863577AF5B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E770E-D18F-4F0C-80B0-AC9B43C254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1F91-1A6D-4F65-A9A8-B5D599BD7C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B9882-F56D-45D4-948E-ED2777F5ED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7127E-DFF5-4B24-83CB-008CD9C96A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5412-3DC9-4F50-8E90-70CE3C1871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D0818-9E43-4818-AEFA-3A0AD0373A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4CB5-8A75-4B9E-9178-FCFF9CA2C5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4B1A-1664-41A6-A4CD-69F39647B1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8FA95-F8AE-4607-86B8-3A12666019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B6122-C761-4C27-BF3F-6F7F8C020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E37C-3E8D-4D0E-BAE2-E7B22AE38A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DF9B-AF16-4FC7-9B5C-0E4D67F93FD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A4A1-430A-41FB-9EFC-502F667EE8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FDF87-5C92-4D3A-A3E2-5AB6BE6748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3A56-6C4E-4FD4-A1DE-64DBCFE183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8E09-6A7A-44F9-A260-FDBB41FC61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0FB40-C34E-4AFD-BEED-1144D15AC7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64CD2-D35E-4B08-BEC1-3CAA58B2BB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4B96-019F-4935-9E24-01D48066DF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72450-454F-4721-B53B-C4658F95C2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63859-9760-4647-BA42-EA3E45916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F0BA-823D-4460-A32D-2C9686106D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3E2A7-1283-48B9-B052-C89F004FE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A777-9173-4FBE-AFEA-AA6EADF9D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0763-3A43-4B05-859A-454C8EC1B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B749-5C2A-4F05-B87E-8CB4D6549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DB8F-5E83-4A26-BA0A-426EF6D511D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F5C-50F6-454D-A161-F9D43036826A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B2BB-4C2F-4A71-AD2C-D6200B6359D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4960" indent="-1749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4960" indent="-1749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EEA-3205-4895-8A7D-802EE3C5789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0580-392F-41C4-B8F5-80F7297335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FCA-113E-451B-9512-F873402662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60076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5499"/>
              </a:spcBef>
              <a:spcAft>
                <a:spcPts val="5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CTVC-J0140: AhG6</a:t>
            </a:r>
            <a:br>
              <a:rPr sz="3200"/>
            </a:br>
            <a:r>
              <a:rPr b="1" lang="fr-FR" sz="4400" spc="-1" strike="noStrike">
                <a:solidFill>
                  <a:srgbClr val="ff0000"/>
                </a:solidFill>
                <a:latin typeface="Arial"/>
                <a:ea typeface="굴림"/>
              </a:rPr>
              <a:t>SAO Complexity Reduction with SAO LCU Flag Codin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, Do-Kyoung K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4BA-3DF3-45AB-8FAC-B23E4B2BED3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new SAO syntax to redu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on/off is decoupled from SAO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umber of context coded bins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ing efficiency improvements by 0.6/0.2/0.1% for LCU size of 16/32/64 for Y (Main) with removal of merge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ing efficiency improvements by 0.7/0.4/0.2% for LCU size of 16/32/64 for Y (Main) with removal of merge up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mmend to adopt SAO LCU flag co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563-8A61-40F5-B7B1-F3926995FC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AO Parameter Signaling in HM-7.0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22400"/>
            <a:ext cx="847728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7800" indent="-21780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lic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enable flag for luma, and flags for chroma when luma flag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800" indent="-21780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CU level for each colo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rge lef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rge up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type when merge is 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O: 4 offset values, BO: band position + 4 offse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112840" y="3246480"/>
          <a:ext cx="5159520" cy="2560680"/>
        </p:xfrm>
        <a:graphic>
          <a:graphicData uri="http://schemas.openxmlformats.org/drawingml/2006/table">
            <a:tbl>
              <a:tblPr/>
              <a:tblGrid>
                <a:gridCol w="2292480"/>
                <a:gridCol w="2867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ao_type_id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AO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ot a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0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90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135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45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50F-0E50-40C2-AEF6-AD0A1AC5D44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Method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3360" y="891720"/>
            <a:ext cx="847728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on/off flag for all color components for each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couple SAO on/off from SAO type and signal ahead of merge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on/off flag for each color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merge occurs when SAO is off in left/upper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 signaling of merge left flag if SAO is off in the left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 signaling of merge up flag if SAO is off in the upper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158920" y="2546280"/>
          <a:ext cx="5027760" cy="2193840"/>
        </p:xfrm>
        <a:graphic>
          <a:graphicData uri="http://schemas.openxmlformats.org/drawingml/2006/table">
            <a:tbl>
              <a:tblPr/>
              <a:tblGrid>
                <a:gridCol w="2292480"/>
                <a:gridCol w="273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ao_type_id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AO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0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90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135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D 45-degree 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78CE-0F2F-4E84-9990-FC4962138C3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Method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879120"/>
            <a:ext cx="8477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BAC coding of SAO on/off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bin (LCU) using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ontex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bin (Y) using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ontex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bin and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bin (Cb/Cr) using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ontex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merge flags can be removed for furthe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oth merge left and merge up can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, only merge up can be removed, which may require SAO parameter lin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type can be efficiently coded as proposed in JCTVC-I02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O/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sub-type (EO types or BO band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9A7C-090F-4349-95E3-D765C4ADC6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840" y="144360"/>
            <a:ext cx="861048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Analysis of Number of Context Coded Bi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18960" y="1127160"/>
          <a:ext cx="8469360" cy="4573440"/>
        </p:xfrm>
        <a:graphic>
          <a:graphicData uri="http://schemas.openxmlformats.org/drawingml/2006/table">
            <a:tbl>
              <a:tblPr/>
              <a:tblGrid>
                <a:gridCol w="1784520"/>
                <a:gridCol w="1403280"/>
                <a:gridCol w="1352520"/>
                <a:gridCol w="1270080"/>
                <a:gridCol w="1058760"/>
                <a:gridCol w="696960"/>
                <a:gridCol w="903240"/>
              </a:tblGrid>
              <a:tr h="11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AO LCU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merge left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merge up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AO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ding gai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HM-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CTVC-I0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CTVC-I0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CTVC-I06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+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0601+no merge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+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0601+no m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+1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1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0601+no merge+I0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+1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5A3-3A3D-4B62-8665-35146AEA03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3360" y="794880"/>
            <a:ext cx="84772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LCU flag + merge removal + new SAO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.6/0.2/0.1% for LCU size of 16/32/64 for Y (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15920" y="184788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480"/>
                <a:gridCol w="82548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015920" y="356868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360"/>
                <a:gridCol w="788760"/>
                <a:gridCol w="78732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015920" y="526896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862200"/>
                <a:gridCol w="753840"/>
                <a:gridCol w="86040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6582-16E2-4936-920F-37A49A3111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794880"/>
            <a:ext cx="84772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LCU flag + merge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.6/0.2/0.1% for LCU size of 16/32/64 for Y (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15920" y="182736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480"/>
                <a:gridCol w="82548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15920" y="353700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360"/>
                <a:gridCol w="787320"/>
                <a:gridCol w="78876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15920" y="526896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360"/>
                <a:gridCol w="787320"/>
                <a:gridCol w="78876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4406-D117-4AB6-AC98-0652D994AA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3360" y="794880"/>
            <a:ext cx="84772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LCU flag + merge up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.7/0.4/0.2% for LCU size of 16/32/64 for Y (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04760" y="185904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840"/>
                <a:gridCol w="825480"/>
                <a:gridCol w="82548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015920" y="352584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360"/>
                <a:gridCol w="787320"/>
                <a:gridCol w="788760"/>
                <a:gridCol w="82584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004760" y="5268960"/>
          <a:ext cx="577872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360"/>
                <a:gridCol w="788760"/>
                <a:gridCol w="787680"/>
                <a:gridCol w="900000"/>
                <a:gridCol w="789120"/>
                <a:gridCol w="78732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81D-30B2-41EC-9E3E-9B8F433F9C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3360" y="794880"/>
            <a:ext cx="84772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LCU flag without merge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.7/0.5/0.3% for LCU size of 16/32/64 for Y (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93600" y="1859040"/>
          <a:ext cx="5778720" cy="1279440"/>
        </p:xfrm>
        <a:graphic>
          <a:graphicData uri="http://schemas.openxmlformats.org/drawingml/2006/table">
            <a:tbl>
              <a:tblPr/>
              <a:tblGrid>
                <a:gridCol w="825840"/>
                <a:gridCol w="825480"/>
                <a:gridCol w="825480"/>
                <a:gridCol w="825480"/>
                <a:gridCol w="82548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993600" y="3548160"/>
          <a:ext cx="5778720" cy="1279440"/>
        </p:xfrm>
        <a:graphic>
          <a:graphicData uri="http://schemas.openxmlformats.org/drawingml/2006/table">
            <a:tbl>
              <a:tblPr/>
              <a:tblGrid>
                <a:gridCol w="825840"/>
                <a:gridCol w="901440"/>
                <a:gridCol w="787320"/>
                <a:gridCol w="787680"/>
                <a:gridCol w="825480"/>
                <a:gridCol w="825480"/>
                <a:gridCol w="82548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84240" y="5268960"/>
          <a:ext cx="5778360" cy="1279440"/>
        </p:xfrm>
        <a:graphic>
          <a:graphicData uri="http://schemas.openxmlformats.org/drawingml/2006/table">
            <a:tbl>
              <a:tblPr/>
              <a:tblGrid>
                <a:gridCol w="825480"/>
                <a:gridCol w="900000"/>
                <a:gridCol w="787680"/>
                <a:gridCol w="788760"/>
                <a:gridCol w="860400"/>
                <a:gridCol w="754200"/>
                <a:gridCol w="861840"/>
              </a:tblGrid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3187</cp:lastModifiedBy>
  <dcterms:modified xsi:type="dcterms:W3CDTF">2012-07-03T21:23:50Z</dcterms:modified>
  <cp:revision>84</cp:revision>
  <dc:subject/>
  <dc:title>Presentation Title Here</dc:title>
</cp:coreProperties>
</file>