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37BC32-6B4A-4860-B181-128F9CD73D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3789E-A17F-4432-9DD8-902B23118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109352-A49D-4341-BDA8-F1B449FD36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D3D01A-FE3B-42B5-A236-8FC6DCD488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60026E3-038A-41A8-A5B4-C69532489659}"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5"/>
          </p:nvPr>
        </p:nvSpPr>
        <p:spPr/>
        <p:txBody>
          <a:bodyPr/>
          <a:p>
            <a:fld id="{1CAA21BD-D136-44B0-8984-4C8D2F6A95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5"/>
          </p:nvPr>
        </p:nvSpPr>
        <p:spPr/>
        <p:txBody>
          <a:bodyPr/>
          <a:p>
            <a:fld id="{720964DD-4A71-4F92-94B0-577E8EC882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5"/>
          </p:nvPr>
        </p:nvSpPr>
        <p:spPr/>
        <p:txBody>
          <a:bodyPr/>
          <a:p>
            <a:fld id="{CB603833-E97F-4C52-9266-D1AB4C6ED3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sldNum" idx="5"/>
          </p:nvPr>
        </p:nvSpPr>
        <p:spPr/>
        <p:txBody>
          <a:bodyPr/>
          <a:p>
            <a:fld id="{DB1995B3-D187-4434-B796-FA552D02F0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sldNum" idx="5"/>
          </p:nvPr>
        </p:nvSpPr>
        <p:spPr/>
        <p:txBody>
          <a:bodyPr/>
          <a:p>
            <a:fld id="{E45666E2-3083-4232-A450-6E61371212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5"/>
          </p:nvPr>
        </p:nvSpPr>
        <p:spPr/>
        <p:txBody>
          <a:bodyPr/>
          <a:p>
            <a:fld id="{60855E54-74A3-4B0B-A81E-90E9E61B97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DD4A1-DEC0-4018-8E69-B9ECE5274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5"/>
          </p:nvPr>
        </p:nvSpPr>
        <p:spPr/>
        <p:txBody>
          <a:bodyPr/>
          <a:p>
            <a:fld id="{5C84326D-F63F-42E0-A0B8-735C1E4F26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5"/>
          </p:nvPr>
        </p:nvSpPr>
        <p:spPr/>
        <p:txBody>
          <a:bodyPr/>
          <a:p>
            <a:fld id="{3926ECBB-9E7C-4732-B179-F63A6155A4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5"/>
          </p:nvPr>
        </p:nvSpPr>
        <p:spPr/>
        <p:txBody>
          <a:bodyPr/>
          <a:p>
            <a:fld id="{319B6145-CC24-4F54-A9EC-8BEB9FDD4E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sldNum" idx="5"/>
          </p:nvPr>
        </p:nvSpPr>
        <p:spPr/>
        <p:txBody>
          <a:bodyPr/>
          <a:p>
            <a:fld id="{7CFA7FDD-F717-46F0-A35A-620555B668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sldNum" idx="5"/>
          </p:nvPr>
        </p:nvSpPr>
        <p:spPr/>
        <p:txBody>
          <a:bodyPr/>
          <a:p>
            <a:fld id="{DDAF02D8-F073-4870-BAB3-F6DB57176C22}"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01C89-F74F-416E-85B2-D1F8D75EB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4E2DF-8B50-4986-A438-2A5451F63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FAFF4-8269-4C77-A6BE-BAEFB5700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F0CB8-81A1-4A11-B7DE-86ED7CCD2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E7765-7DAD-4836-B4B8-51F792AAC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8CFBC-0800-495E-8E1C-837CA458A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295F4-A5C8-457E-90AC-BFECE34DEE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 name="Picture 8" descr="scu"/>
          <p:cNvPicPr/>
          <p:nvPr/>
        </p:nvPicPr>
        <p:blipFill>
          <a:blip r:embed="rId3"/>
          <a:stretch/>
        </p:blipFill>
        <p:spPr>
          <a:xfrm>
            <a:off x="7524720" y="1066680"/>
            <a:ext cx="1297080" cy="1282680"/>
          </a:xfrm>
          <a:prstGeom prst="rect">
            <a:avLst/>
          </a:prstGeom>
          <a:ln w="0">
            <a:noFill/>
          </a:ln>
        </p:spPr>
      </p:pic>
      <p:sp>
        <p:nvSpPr>
          <p:cNvPr id="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68507-B607-4954-B204-FF04F865BA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 name="Picture 9" descr="scu"/>
          <p:cNvPicPr/>
          <p:nvPr/>
        </p:nvPicPr>
        <p:blipFill>
          <a:blip r:embed="rId3"/>
          <a:stretch/>
        </p:blipFill>
        <p:spPr>
          <a:xfrm>
            <a:off x="7667640" y="260280"/>
            <a:ext cx="1297080" cy="1282680"/>
          </a:xfrm>
          <a:prstGeom prst="rect">
            <a:avLst/>
          </a:prstGeom>
          <a:ln w="0">
            <a:noFill/>
          </a:ln>
        </p:spPr>
      </p:pic>
      <p:sp>
        <p:nvSpPr>
          <p:cNvPr id="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8" name="PlaceHolder 3"/>
          <p:cNvSpPr>
            <a:spLocks noGrp="1"/>
          </p:cNvSpPr>
          <p:nvPr>
            <p:ph type="dt" idx="4"/>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sldNum" idx="5"/>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1AFE0-1E29-4FD6-B496-D68BA08C37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533160" y="549360"/>
            <a:ext cx="6553080" cy="1828800"/>
          </a:xfrm>
          <a:prstGeom prst="rect">
            <a:avLst/>
          </a:prstGeom>
          <a:noFill/>
          <a:ln w="0">
            <a:noFill/>
          </a:ln>
        </p:spPr>
        <p:txBody>
          <a:bodyPr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ea typeface="Times New Roman"/>
              </a:rPr>
              <a:t>Motion estimation-based fast intra prediction(ME-FIP)</a:t>
            </a:r>
            <a:endParaRPr b="0" lang="en-US" sz="3200" spc="-1" strike="noStrike">
              <a:solidFill>
                <a:srgbClr val="000000"/>
              </a:solidFill>
              <a:latin typeface="Verdana"/>
            </a:endParaRPr>
          </a:p>
        </p:txBody>
      </p:sp>
      <p:sp>
        <p:nvSpPr>
          <p:cNvPr id="87" name="PlaceHolder 2"/>
          <p:cNvSpPr>
            <a:spLocks noGrp="1"/>
          </p:cNvSpPr>
          <p:nvPr>
            <p:ph type="subTitle"/>
          </p:nvPr>
        </p:nvSpPr>
        <p:spPr>
          <a:xfrm>
            <a:off x="684000" y="2565360"/>
            <a:ext cx="7011720" cy="316728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JCTVC-J0131</a:t>
            </a:r>
            <a:endParaRPr b="0" lang="en-US" sz="2400" spc="-1" strike="noStrike">
              <a:solidFill>
                <a:srgbClr val="000000"/>
              </a:solidFill>
              <a:latin typeface="Verdan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Xiaohai He</a:t>
            </a:r>
            <a:endParaRPr b="0" lang="en-US" sz="2000" spc="-1" strike="noStrike">
              <a:solidFill>
                <a:srgbClr val="000000"/>
              </a:solidFill>
              <a:latin typeface="Verdan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ichuan University, China</a:t>
            </a:r>
            <a:endParaRPr b="0" lang="en-US" sz="2000" spc="-1" strike="noStrike">
              <a:solidFill>
                <a:srgbClr val="000000"/>
              </a:solidFill>
              <a:latin typeface="Verdan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74200" y="304920"/>
            <a:ext cx="8001000" cy="1216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ea typeface="Times New Roman"/>
              </a:rPr>
              <a:t>Motivation</a:t>
            </a:r>
            <a:endParaRPr b="0" lang="en-US" sz="3800" spc="-1" strike="noStrike">
              <a:solidFill>
                <a:srgbClr val="000000"/>
              </a:solidFill>
              <a:latin typeface="Verdana"/>
            </a:endParaRPr>
          </a:p>
        </p:txBody>
      </p:sp>
      <p:sp>
        <p:nvSpPr>
          <p:cNvPr id="89" name="PlaceHolder 2"/>
          <p:cNvSpPr>
            <a:spLocks noGrp="1"/>
          </p:cNvSpPr>
          <p:nvPr>
            <p:ph/>
          </p:nvPr>
        </p:nvSpPr>
        <p:spPr>
          <a:xfrm>
            <a:off x="609120" y="1844280"/>
            <a:ext cx="8001000" cy="4267080"/>
          </a:xfrm>
          <a:prstGeom prst="rect">
            <a:avLst/>
          </a:prstGeom>
          <a:noFill/>
          <a:ln w="0">
            <a:noFill/>
          </a:ln>
        </p:spPr>
        <p:txBody>
          <a:bodyPr anchor="t">
            <a:normAutofit/>
          </a:bodyPr>
          <a:p>
            <a:pPr marL="469800" indent="-469800">
              <a:lnSpc>
                <a:spcPct val="15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n HM7.0, </a:t>
            </a:r>
            <a:r>
              <a:rPr b="0" lang="en-CA" sz="2000" spc="-1" strike="noStrike">
                <a:solidFill>
                  <a:srgbClr val="000000"/>
                </a:solidFill>
                <a:latin typeface="Times New Roman"/>
                <a:ea typeface="Times New Roman"/>
              </a:rPr>
              <a:t>there are 35 intra directional prediction modes including DC and Planar modes for luma component of each PU.</a:t>
            </a:r>
            <a:endParaRPr b="0" lang="en-US" sz="2000" spc="-1" strike="noStrike">
              <a:solidFill>
                <a:srgbClr val="000000"/>
              </a:solidFill>
              <a:latin typeface="Verdana"/>
            </a:endParaRPr>
          </a:p>
          <a:p>
            <a:pPr marL="469800" indent="-469800">
              <a:lnSpc>
                <a:spcPct val="15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ea typeface="Times New Roman"/>
              </a:rPr>
              <a:t>For bigger size of block, more directional prediction modes will bring more precise prediction, which will lead to lower bit rates.</a:t>
            </a:r>
            <a:endParaRPr b="0" lang="en-US" sz="2000" spc="-1" strike="noStrike">
              <a:solidFill>
                <a:srgbClr val="000000"/>
              </a:solidFill>
              <a:latin typeface="Verdana"/>
            </a:endParaRPr>
          </a:p>
          <a:p>
            <a:pPr marL="469800" indent="-469800">
              <a:lnSpc>
                <a:spcPct val="15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ea typeface="Times New Roman"/>
              </a:rPr>
              <a:t>However, more prediction modes will bring higher complexity simultaneously.</a:t>
            </a:r>
            <a:endParaRPr b="0" lang="en-US" sz="2000" spc="-1" strike="noStrike">
              <a:solidFill>
                <a:srgbClr val="000000"/>
              </a:solidFill>
              <a:latin typeface="Verdana"/>
            </a:endParaRPr>
          </a:p>
          <a:p>
            <a:pPr marL="469800" indent="0">
              <a:lnSpc>
                <a:spcPct val="15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0" name="日期占位符 2"/>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D3A40-4BD9-4E2B-8429-3663E436E188}" type="datetime">
              <a:rPr b="0" lang="zh-CN" sz="1200" spc="-1" strike="noStrike">
                <a:solidFill>
                  <a:srgbClr val="000000"/>
                </a:solidFill>
                <a:latin typeface="Arial"/>
              </a:rPr>
              <a:t>26/7/31</a:t>
            </a:fld>
            <a:endParaRPr b="0" lang="en-US" sz="1200" spc="-1" strike="noStrike">
              <a:solidFill>
                <a:srgbClr val="000000"/>
              </a:solidFill>
              <a:latin typeface="Arial"/>
            </a:endParaRPr>
          </a:p>
        </p:txBody>
      </p:sp>
      <p:sp>
        <p:nvSpPr>
          <p:cNvPr id="91" name="灯片编号占位符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7057E-C9D2-40B7-AA4B-1DA38370036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189000"/>
            <a:ext cx="8001000" cy="1216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楷体_GB2312"/>
              </a:rPr>
              <a:t>Proposed algorithm</a:t>
            </a:r>
            <a:endParaRPr b="0" lang="en-US" sz="40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asic idea</a:t>
            </a:r>
            <a:endParaRPr b="0" lang="en-US" sz="2400" spc="-1" strike="noStrike">
              <a:solidFill>
                <a:srgbClr val="000000"/>
              </a:solidFill>
              <a:latin typeface="Verdana"/>
            </a:endParaRPr>
          </a:p>
          <a:p>
            <a:pPr lvl="1" marL="907920" indent="-436320">
              <a:lnSpc>
                <a:spcPct val="10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Times New Roman"/>
              </a:rPr>
              <a:t>Based on MV, the optimal intra prediction mode of the reference block is regarded as the optimal intra mode of current PU to reduce the total number of RDcost calculation. </a:t>
            </a:r>
            <a:endParaRPr b="0" lang="en-US" sz="1800" spc="-1" strike="noStrike">
              <a:solidFill>
                <a:srgbClr val="000000"/>
              </a:solidFill>
              <a:latin typeface="Verdana"/>
            </a:endParaRPr>
          </a:p>
          <a:p>
            <a:pPr marL="469800" indent="-469800">
              <a:lnSpc>
                <a:spcPct val="10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gorithm</a:t>
            </a:r>
            <a:endParaRPr b="0" lang="en-US" sz="2400" spc="-1" strike="noStrike">
              <a:solidFill>
                <a:srgbClr val="000000"/>
              </a:solidFill>
              <a:latin typeface="Verdana"/>
            </a:endParaRPr>
          </a:p>
          <a:p>
            <a:pPr lvl="1" marL="907920" indent="-436320">
              <a:lnSpc>
                <a:spcPct val="10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ind the reference block</a:t>
            </a:r>
            <a:endParaRPr b="0" lang="en-US" sz="1800" spc="-1" strike="noStrike">
              <a:solidFill>
                <a:srgbClr val="000000"/>
              </a:solidFill>
              <a:latin typeface="Verdana"/>
            </a:endParaRPr>
          </a:p>
          <a:p>
            <a:pPr lvl="1" marL="907920" indent="-436320">
              <a:lnSpc>
                <a:spcPct val="10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cord the positions of CUs covered by the reference block.</a:t>
            </a:r>
            <a:endParaRPr b="0" lang="en-US" sz="1800" spc="-1" strike="noStrike">
              <a:solidFill>
                <a:srgbClr val="000000"/>
              </a:solidFill>
              <a:latin typeface="Verdana"/>
            </a:endParaRPr>
          </a:p>
          <a:p>
            <a:pPr lvl="1" marL="907920" indent="-436320">
              <a:lnSpc>
                <a:spcPct val="10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raw the probability distribution chart of optimal intra prediction mode for each CU.</a:t>
            </a:r>
            <a:endParaRPr b="0" lang="en-US" sz="1800" spc="-1" strike="noStrike">
              <a:solidFill>
                <a:srgbClr val="000000"/>
              </a:solidFill>
              <a:latin typeface="Verdana"/>
            </a:endParaRPr>
          </a:p>
          <a:p>
            <a:pPr lvl="1" marL="907920" indent="-436320">
              <a:lnSpc>
                <a:spcPct val="10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btain the optimal intra prediction mode based on the probability distribution chart.</a:t>
            </a:r>
            <a:endParaRPr b="0" lang="en-US" sz="1800" spc="-1" strike="noStrike">
              <a:solidFill>
                <a:srgbClr val="000000"/>
              </a:solidFill>
              <a:latin typeface="Verdana"/>
            </a:endParaRPr>
          </a:p>
          <a:p>
            <a:pPr lvl="1" marL="907920" indent="0">
              <a:lnSpc>
                <a:spcPct val="15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1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4" name="日期占位符 2"/>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0F6EC-5DAA-49C3-BF84-CED0B897A632}" type="datetime">
              <a:rPr b="0" lang="zh-CN" sz="1200" spc="-1" strike="noStrike">
                <a:solidFill>
                  <a:srgbClr val="000000"/>
                </a:solidFill>
                <a:latin typeface="Arial"/>
              </a:rPr>
              <a:t>26/7/31</a:t>
            </a:fld>
            <a:endParaRPr b="0" lang="en-US" sz="1200" spc="-1" strike="noStrike">
              <a:solidFill>
                <a:srgbClr val="000000"/>
              </a:solidFill>
              <a:latin typeface="Arial"/>
            </a:endParaRPr>
          </a:p>
        </p:txBody>
      </p:sp>
      <p:sp>
        <p:nvSpPr>
          <p:cNvPr id="95" name="灯片编号占位符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76CBD-B173-4C6C-9BC4-F808B50ABE6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ea typeface="Times New Roman"/>
              </a:rPr>
              <a:t>Motion estimation-based fast intra prediction(ME-FIP)</a:t>
            </a:r>
            <a:endParaRPr b="0" lang="en-US" sz="2000" spc="-1" strike="noStrike">
              <a:solidFill>
                <a:srgbClr val="000000"/>
              </a:solidFill>
              <a:latin typeface="Verdana"/>
            </a:endParaRPr>
          </a:p>
        </p:txBody>
      </p:sp>
      <p:sp>
        <p:nvSpPr>
          <p:cNvPr id="97" name="日期占位符 2"/>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A2F24-1B34-499F-84DA-AD337F20A6FD}" type="datetime">
              <a:rPr b="0" lang="zh-CN" sz="1200" spc="-1" strike="noStrike">
                <a:solidFill>
                  <a:srgbClr val="000000"/>
                </a:solidFill>
                <a:latin typeface="Arial"/>
              </a:rPr>
              <a:t>26/7/31</a:t>
            </a:fld>
            <a:endParaRPr b="0" lang="en-US" sz="1200" spc="-1" strike="noStrike">
              <a:solidFill>
                <a:srgbClr val="000000"/>
              </a:solidFill>
              <a:latin typeface="Arial"/>
            </a:endParaRPr>
          </a:p>
        </p:txBody>
      </p:sp>
      <p:sp>
        <p:nvSpPr>
          <p:cNvPr id="98" name="灯片编号占位符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84F7F-EC97-40B8-9236-0E57787AC86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0" name="对象 2"/>
          <p:cNvGraphicFramePr/>
          <p:nvPr/>
        </p:nvGraphicFramePr>
        <p:xfrm>
          <a:off x="1150920" y="1773360"/>
          <a:ext cx="6842160" cy="4278240"/>
        </p:xfrm>
        <a:graphic>
          <a:graphicData uri="http://schemas.openxmlformats.org/presentationml/2006/ole">
            <p:oleObj r:id="rId1" spid="">
              <p:embed/>
              <p:pic>
                <p:nvPicPr>
                  <p:cNvPr id="101" name="对象 2" descr=""/>
                  <p:cNvPicPr/>
                  <p:nvPr/>
                </p:nvPicPr>
                <p:blipFill>
                  <a:blip r:embed="rId2"/>
                  <a:stretch/>
                </p:blipFill>
                <p:spPr>
                  <a:xfrm>
                    <a:off x="1150920" y="1773360"/>
                    <a:ext cx="6842160" cy="4278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ea typeface="Times New Roman"/>
              </a:rPr>
              <a:t>Distribution chart of optimal intra prediction mode</a:t>
            </a:r>
            <a:endParaRPr b="0" lang="en-US" sz="2400" spc="-1" strike="noStrike">
              <a:solidFill>
                <a:srgbClr val="000000"/>
              </a:solidFill>
              <a:latin typeface="Verdana"/>
            </a:endParaRPr>
          </a:p>
        </p:txBody>
      </p:sp>
      <p:sp>
        <p:nvSpPr>
          <p:cNvPr id="103" name="日期占位符 2"/>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FDF2B-7352-4BDF-9E1C-311593E881A9}" type="datetime">
              <a:rPr b="0" lang="zh-CN" sz="1200" spc="-1" strike="noStrike">
                <a:solidFill>
                  <a:srgbClr val="000000"/>
                </a:solidFill>
                <a:latin typeface="Arial"/>
              </a:rPr>
              <a:t>26/7/31</a:t>
            </a:fld>
            <a:endParaRPr b="0" lang="en-US" sz="1200" spc="-1" strike="noStrike">
              <a:solidFill>
                <a:srgbClr val="000000"/>
              </a:solidFill>
              <a:latin typeface="Arial"/>
            </a:endParaRPr>
          </a:p>
        </p:txBody>
      </p:sp>
      <p:sp>
        <p:nvSpPr>
          <p:cNvPr id="104" name="灯片编号占位符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FB84B-886A-4A82-89F0-AA2D65BB3B4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pic>
        <p:nvPicPr>
          <p:cNvPr id="105" name="Picture 6" descr="example2"/>
          <p:cNvPicPr/>
          <p:nvPr/>
        </p:nvPicPr>
        <p:blipFill>
          <a:blip r:embed="rId1"/>
          <a:stretch/>
        </p:blipFill>
        <p:spPr>
          <a:xfrm>
            <a:off x="755640" y="1735200"/>
            <a:ext cx="7778880" cy="4451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imulation results</a:t>
            </a:r>
            <a:endParaRPr b="0" lang="en-US" sz="3200" spc="-1" strike="noStrike">
              <a:solidFill>
                <a:srgbClr val="000000"/>
              </a:solidFill>
              <a:latin typeface="Verdana"/>
            </a:endParaRPr>
          </a:p>
        </p:txBody>
      </p:sp>
      <p:sp>
        <p:nvSpPr>
          <p:cNvPr id="107" name="日期占位符 2"/>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E7404-8BFC-440E-94B2-29DF1E447150}" type="datetime">
              <a:rPr b="0" lang="zh-CN" sz="1200" spc="-1" strike="noStrike">
                <a:solidFill>
                  <a:srgbClr val="000000"/>
                </a:solidFill>
                <a:latin typeface="Arial"/>
              </a:rPr>
              <a:t>26/7/31</a:t>
            </a:fld>
            <a:endParaRPr b="0" lang="en-US" sz="1200" spc="-1" strike="noStrike">
              <a:solidFill>
                <a:srgbClr val="000000"/>
              </a:solidFill>
              <a:latin typeface="Arial"/>
            </a:endParaRPr>
          </a:p>
        </p:txBody>
      </p:sp>
      <p:sp>
        <p:nvSpPr>
          <p:cNvPr id="108" name="灯片编号占位符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AAFE1-9216-4A6F-B871-5EE4C7A7C7E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09" name=""/>
          <p:cNvGraphicFramePr/>
          <p:nvPr/>
        </p:nvGraphicFramePr>
        <p:xfrm>
          <a:off x="609480" y="1916280"/>
          <a:ext cx="7925040" cy="4389120"/>
        </p:xfrm>
        <a:graphic>
          <a:graphicData uri="http://schemas.openxmlformats.org/drawingml/2006/table">
            <a:tbl>
              <a:tblPr/>
              <a:tblGrid>
                <a:gridCol w="1344600"/>
                <a:gridCol w="1096920"/>
                <a:gridCol w="1097280"/>
                <a:gridCol w="1096920"/>
                <a:gridCol w="1095120"/>
                <a:gridCol w="1097280"/>
                <a:gridCol w="1096920"/>
              </a:tblGrid>
              <a:tr h="2746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a3b2c1"/>
                    </a:solidFill>
                  </a:tcPr>
                </a:tc>
                <a:tc gridSpan="3">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Random Access Main</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a3b2c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Random Access HE10</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a3b2c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a3b2c1"/>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Y</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U</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Y</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U</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r>
              <a:tr h="274680">
                <a:tc>
                  <a:txBody>
                    <a:bodyPr lIns="68760" rIns="6876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Class A</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a3b2c1"/>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r>
              <a:tr h="274680">
                <a:tc>
                  <a:txBody>
                    <a:bodyPr lIns="68760" rIns="6876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Class B</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a3b2c1"/>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r>
              <a:tr h="274680">
                <a:tc>
                  <a:txBody>
                    <a:bodyPr lIns="68760" rIns="6876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Class C</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a3b2c1"/>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3%</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0%</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1%</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0%</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0%</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r>
              <a:tr h="274680">
                <a:tc>
                  <a:txBody>
                    <a:bodyPr lIns="68760" rIns="6876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Class D</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a3b2c1"/>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4%</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3%</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8%</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1%</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0%</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1%</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r>
              <a:tr h="274680">
                <a:tc>
                  <a:txBody>
                    <a:bodyPr lIns="68760" rIns="6876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Class E</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a3b2c1"/>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r>
              <a:tr h="274680">
                <a:tc>
                  <a:txBody>
                    <a:bodyPr lIns="68760" rIns="6876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Class F</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a3b2c1"/>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r>
              <a:tr h="274680">
                <a:tc>
                  <a:txBody>
                    <a:bodyPr lIns="68760" rIns="6876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Overall</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a3b2c1"/>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1%</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1%</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4%</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6%</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0%</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1%</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r>
              <a:tr h="274680">
                <a:tc>
                  <a:txBody>
                    <a:bodyPr lIns="68760" rIns="6876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Times New Roman"/>
                        </a:rPr>
                        <a:t>　</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a3b2c1"/>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0%</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0%</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3%</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2%</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1%</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0%</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r>
              <a:tr h="549000">
                <a:tc>
                  <a:txBody>
                    <a:bodyPr lIns="68760" rIns="6876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Enc Time[%]</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a3b2c1"/>
                    </a:solidFill>
                  </a:tcPr>
                </a:tc>
                <a:tc gridSpan="3">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9%</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8%</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a:txBody>
                    <a:bodyPr lIns="68760" rIns="6876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Dec Time[%]</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a3b2c1"/>
                    </a:solidFill>
                  </a:tcPr>
                </a:tc>
                <a:tc gridSpan="3">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9%</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9%</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a:txBody>
                    <a:bodyPr lIns="68760" rIns="6876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Intra Time[%]</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a3b2c1"/>
                    </a:solidFill>
                  </a:tcPr>
                </a:tc>
                <a:tc gridSpan="3">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8%</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6%</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日期占位符 2"/>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0DD1C-02E3-4B82-8188-C7CB0EBE0AC4}" type="datetime">
              <a:rPr b="0" lang="zh-CN" sz="1200" spc="-1" strike="noStrike">
                <a:solidFill>
                  <a:srgbClr val="000000"/>
                </a:solidFill>
                <a:latin typeface="Arial"/>
              </a:rPr>
              <a:t>26/7/31</a:t>
            </a:fld>
            <a:endParaRPr b="0" lang="en-US" sz="1200" spc="-1" strike="noStrike">
              <a:solidFill>
                <a:srgbClr val="000000"/>
              </a:solidFill>
              <a:latin typeface="Arial"/>
            </a:endParaRPr>
          </a:p>
        </p:txBody>
      </p:sp>
      <p:sp>
        <p:nvSpPr>
          <p:cNvPr id="111" name="灯片编号占位符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7B510-AB2A-43E3-BEFE-643CF836EB3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12" name=""/>
          <p:cNvGraphicFramePr/>
          <p:nvPr/>
        </p:nvGraphicFramePr>
        <p:xfrm>
          <a:off x="609480" y="1773360"/>
          <a:ext cx="7925040" cy="4451400"/>
        </p:xfrm>
        <a:graphic>
          <a:graphicData uri="http://schemas.openxmlformats.org/drawingml/2006/table">
            <a:tbl>
              <a:tblPr/>
              <a:tblGrid>
                <a:gridCol w="1344600"/>
                <a:gridCol w="1096920"/>
                <a:gridCol w="1097280"/>
                <a:gridCol w="1096920"/>
                <a:gridCol w="1095120"/>
                <a:gridCol w="1097280"/>
                <a:gridCol w="1096920"/>
              </a:tblGrid>
              <a:tr h="27936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a3b2c1"/>
                    </a:solidFill>
                  </a:tcPr>
                </a:tc>
                <a:tc gridSpan="3">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Low delay B Main</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a3b2c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Low delay B HE10</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a3b2c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080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a3b2c1"/>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Y</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U</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Y</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U</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r>
              <a:tr h="281160">
                <a:tc>
                  <a:txBody>
                    <a:bodyPr lIns="68760" rIns="6876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Class A</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a3b2c1"/>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r>
              <a:tr h="280800">
                <a:tc>
                  <a:txBody>
                    <a:bodyPr lIns="68760" rIns="6876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Class B</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a3b2c1"/>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r>
              <a:tr h="279360">
                <a:tc>
                  <a:txBody>
                    <a:bodyPr lIns="68760" rIns="6876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Class C</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a3b2c1"/>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1%</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0%</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1%</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1%</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1%</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5%</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r>
              <a:tr h="281160">
                <a:tc>
                  <a:txBody>
                    <a:bodyPr lIns="68760" rIns="6876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Class D</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a3b2c1"/>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1%</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0%</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0%</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0%</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2%</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4%</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r>
              <a:tr h="280800">
                <a:tc>
                  <a:txBody>
                    <a:bodyPr lIns="68760" rIns="6876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Class E</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a3b2c1"/>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0%</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2%</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1%</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1%</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3%</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0%</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r>
              <a:tr h="281160">
                <a:tc>
                  <a:txBody>
                    <a:bodyPr lIns="68760" rIns="6876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Class F</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a3b2c1"/>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r>
              <a:tr h="279360">
                <a:tc>
                  <a:txBody>
                    <a:bodyPr lIns="68760" rIns="6876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Overall</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a3b2c1"/>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1%</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0%</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1%</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1%</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1%</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3%</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r>
              <a:tr h="281160">
                <a:tc>
                  <a:txBody>
                    <a:bodyPr lIns="68760" rIns="6876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Times New Roman"/>
                        </a:rPr>
                        <a:t>　</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a3b2c1"/>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1%</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0%</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1%</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1%</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0%</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3%</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r>
              <a:tr h="549000">
                <a:tc>
                  <a:txBody>
                    <a:bodyPr lIns="68760" rIns="6876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Enc Time[%]</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a3b2c1"/>
                    </a:solidFill>
                  </a:tcPr>
                </a:tc>
                <a:tc gridSpan="3">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9%</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8%</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a:txBody>
                    <a:bodyPr lIns="68760" rIns="6876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Dec Time[%]</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a3b2c1"/>
                    </a:solidFill>
                  </a:tcPr>
                </a:tc>
                <a:tc gridSpan="3">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0%</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9%</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a:txBody>
                    <a:bodyPr lIns="68760" rIns="6876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Intra Time[%]</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a3b2c1"/>
                    </a:solidFill>
                  </a:tcPr>
                </a:tc>
                <a:tc gridSpan="3">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0%</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6%</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日期占位符 2"/>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45A22-EAEA-4CEC-8B3C-DDB190B49316}" type="datetime">
              <a:rPr b="0" lang="zh-CN" sz="1200" spc="-1" strike="noStrike">
                <a:solidFill>
                  <a:srgbClr val="000000"/>
                </a:solidFill>
                <a:latin typeface="Arial"/>
              </a:rPr>
              <a:t>26/7/31</a:t>
            </a:fld>
            <a:endParaRPr b="0" lang="en-US" sz="1200" spc="-1" strike="noStrike">
              <a:solidFill>
                <a:srgbClr val="000000"/>
              </a:solidFill>
              <a:latin typeface="Arial"/>
            </a:endParaRPr>
          </a:p>
        </p:txBody>
      </p:sp>
      <p:sp>
        <p:nvSpPr>
          <p:cNvPr id="114" name="灯片编号占位符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A6186-51A6-4E2B-ADA8-BBF6813DEA3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15" name=""/>
          <p:cNvGraphicFramePr/>
          <p:nvPr/>
        </p:nvGraphicFramePr>
        <p:xfrm>
          <a:off x="755640" y="1773360"/>
          <a:ext cx="7778880" cy="4451400"/>
        </p:xfrm>
        <a:graphic>
          <a:graphicData uri="http://schemas.openxmlformats.org/drawingml/2006/table">
            <a:tbl>
              <a:tblPr/>
              <a:tblGrid>
                <a:gridCol w="1320840"/>
                <a:gridCol w="1076400"/>
                <a:gridCol w="1076400"/>
                <a:gridCol w="1076040"/>
                <a:gridCol w="1076400"/>
                <a:gridCol w="1076400"/>
                <a:gridCol w="1076400"/>
              </a:tblGrid>
              <a:tr h="27936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a3b2c1"/>
                    </a:solidFill>
                  </a:tcPr>
                </a:tc>
                <a:tc gridSpan="3">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Low delay P Main</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a3b2c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Low delay P HE10</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a3b2c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080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a3b2c1"/>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Y</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U</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Y</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U</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r>
              <a:tr h="281160">
                <a:tc>
                  <a:txBody>
                    <a:bodyPr lIns="68760" rIns="6876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Class A</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a3b2c1"/>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r>
              <a:tr h="280800">
                <a:tc>
                  <a:txBody>
                    <a:bodyPr lIns="68760" rIns="6876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Class B</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a3b2c1"/>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r>
              <a:tr h="279360">
                <a:tc>
                  <a:txBody>
                    <a:bodyPr lIns="68760" rIns="6876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Class C</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a3b2c1"/>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1%</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4%</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0%</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2%</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3%</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2%</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r>
              <a:tr h="281160">
                <a:tc>
                  <a:txBody>
                    <a:bodyPr lIns="68760" rIns="6876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Class D</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a3b2c1"/>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2%</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1%</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8%</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0%</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6%</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2%</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r>
              <a:tr h="280800">
                <a:tc>
                  <a:txBody>
                    <a:bodyPr lIns="68760" rIns="6876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Class E</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a3b2c1"/>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1%</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2%</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2%</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2%</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7%</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9%</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r>
              <a:tr h="281160">
                <a:tc>
                  <a:txBody>
                    <a:bodyPr lIns="68760" rIns="6876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Class F</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a3b2c1"/>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r>
              <a:tr h="279360">
                <a:tc>
                  <a:txBody>
                    <a:bodyPr lIns="68760" rIns="6876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Overall</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a3b2c1"/>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1%</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1%</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3%</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1%</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5%</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4%</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r>
              <a:tr h="281160">
                <a:tc>
                  <a:txBody>
                    <a:bodyPr lIns="68760" rIns="6876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Times New Roman"/>
                        </a:rPr>
                        <a:t>　</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a3b2c1"/>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1%</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2%</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3%</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1%</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5%</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4%</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r>
              <a:tr h="549000">
                <a:tc>
                  <a:txBody>
                    <a:bodyPr lIns="68760" rIns="6876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Enc Time[%]</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a3b2c1"/>
                    </a:solidFill>
                  </a:tcPr>
                </a:tc>
                <a:tc gridSpan="3">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8%</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8%</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a:txBody>
                    <a:bodyPr lIns="68760" rIns="6876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Dec Time[%]</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a3b2c1"/>
                    </a:solidFill>
                  </a:tcPr>
                </a:tc>
                <a:tc gridSpan="3">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9%</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9%</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a:txBody>
                    <a:bodyPr lIns="68760" rIns="6876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Intra Time[%]</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a3b2c1"/>
                    </a:solidFill>
                  </a:tcPr>
                </a:tc>
                <a:tc gridSpan="3">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8%</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6%</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ea typeface="Times New Roman"/>
              </a:rPr>
              <a:t>Conclusion</a:t>
            </a:r>
            <a:endParaRPr b="0" lang="en-US" sz="3200" spc="-1" strike="noStrike">
              <a:solidFill>
                <a:srgbClr val="000000"/>
              </a:solidFill>
              <a:latin typeface="Verdana"/>
            </a:endParaRPr>
          </a:p>
        </p:txBody>
      </p:sp>
      <p:sp>
        <p:nvSpPr>
          <p:cNvPr id="11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gn="just">
              <a:lnSpc>
                <a:spcPct val="15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has be shown how to obtain the optimal intra prediction mode based on the probability distribution histogram of the optimal intra modes for the CUs the reference block covers. The simulation results have shown that </a:t>
            </a:r>
            <a:r>
              <a:rPr b="0" lang="en-CA" sz="2400" spc="-1" strike="noStrike">
                <a:solidFill>
                  <a:srgbClr val="000000"/>
                </a:solidFill>
                <a:latin typeface="Times New Roman"/>
                <a:ea typeface="Times New Roman"/>
              </a:rPr>
              <a:t>ME-FIP</a:t>
            </a:r>
            <a:r>
              <a:rPr b="1" lang="en-CA" sz="2400" spc="-1" strike="noStrike">
                <a:solidFill>
                  <a:srgbClr val="000000"/>
                </a:solidFill>
                <a:latin typeface="Times New Roman"/>
                <a:ea typeface="Times New Roman"/>
              </a:rPr>
              <a:t> </a:t>
            </a:r>
            <a:r>
              <a:rPr b="0" lang="en-CA" sz="2400" spc="-1" strike="noStrike">
                <a:solidFill>
                  <a:srgbClr val="000000"/>
                </a:solidFill>
                <a:latin typeface="Times New Roman"/>
                <a:ea typeface="Times New Roman"/>
              </a:rPr>
              <a:t>achieve 1%-2%total coding time saving and 20%-24% intra coding time saving for class C,D and E than HM7.0.</a:t>
            </a:r>
            <a:endParaRPr b="0" lang="en-US" sz="2400" spc="-1" strike="noStrike">
              <a:solidFill>
                <a:srgbClr val="000000"/>
              </a:solidFill>
              <a:latin typeface="Verdana"/>
            </a:endParaRPr>
          </a:p>
          <a:p>
            <a:pPr marL="469800" indent="0">
              <a:lnSpc>
                <a:spcPct val="15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日期占位符 2"/>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FC7EC-E040-446F-87B0-02DFFDC0456E}" type="datetime">
              <a:rPr b="0" lang="zh-CN" sz="1200" spc="-1" strike="noStrike">
                <a:solidFill>
                  <a:srgbClr val="000000"/>
                </a:solidFill>
                <a:latin typeface="Arial"/>
              </a:rPr>
              <a:t>26/7/31</a:t>
            </a:fld>
            <a:endParaRPr b="0" lang="en-US" sz="1200" spc="-1" strike="noStrike">
              <a:solidFill>
                <a:srgbClr val="000000"/>
              </a:solidFill>
              <a:latin typeface="Arial"/>
            </a:endParaRPr>
          </a:p>
        </p:txBody>
      </p:sp>
      <p:sp>
        <p:nvSpPr>
          <p:cNvPr id="119" name="灯片编号占位符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AE5D9-990A-4204-AA28-ABF5168DF9B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6T07:23:34Z</dcterms:created>
  <dc:creator>Administrator</dc:creator>
  <dc:description/>
  <dc:language>en-US</dc:language>
  <cp:lastModifiedBy>微软用户</cp:lastModifiedBy>
  <cp:lastPrinted>1899-12-30T00:00:00Z</cp:lastPrinted>
  <dcterms:modified xsi:type="dcterms:W3CDTF">2012-07-01T12:13:33Z</dcterms:modified>
  <cp:revision>16</cp:revision>
  <dc:subject/>
  <dc:title>Motion estimation-based fast intra prediction(ME-FIP)</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998</vt:lpwstr>
  </property>
</Properties>
</file>