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7656-8C9D-4429-A548-55F6DCBDA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94F52-E9B7-47C8-A873-A3674EAEB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41420-D707-4475-8E14-8798B7A45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AD1D-A889-41C2-9AAA-5187196FEA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A071F-461E-432D-AEE3-0FF2EEE111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71444-D557-464E-B156-5F76FB7CF5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1ED54-F9D7-4C8A-BEFC-F6F3548245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C32B0-1DC8-4453-9503-90B7DC85EB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C5B7D-7365-4149-BAF0-C09FE5451A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B888F-4A62-4905-8F91-429D175D27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7A615-9BC9-4760-BABE-F2C6834A86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FB6F6-C16B-44CC-AA85-4449930CC1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29F5A-F4AC-473E-89B4-3CA9F97509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37F6F-DC96-40DE-B254-27C76C92DB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81A8A-B9DA-4228-A7FB-6719AFF622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C9BB0-26E6-4EDB-8CE5-DBC501010E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DD2B8-54B5-43AF-BC94-23779D72029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8556-3CBB-4A9F-8204-DF9CDAB624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97DA-E40F-4689-A0EE-D60D76CD0A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B45B-6392-4F11-9D6E-FFCA18D8EC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6BB4-8B31-4A4F-99AB-5FE87BAB35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667C-9316-43C1-89A3-2889BD517C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7CEB5-832B-46CB-98AB-923A97D33D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BEF5-A8B0-4D5E-9481-2788E80562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7F82-2FE0-4E66-967A-7A67198639B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3041-2A7A-49AC-9083-5F11CCB585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5F33-BFDD-4890-8EF5-941DAE11B6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F97D-DB1F-408F-B402-AEE1720554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D49D-463D-4500-9715-6884DC8D69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5B82-789C-466E-A723-AB29AAEA6F9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C4A8B-FB0D-4B29-98E5-05C3BF11D2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5D51E-5DDE-425F-89F6-E7FC92A2B7E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181D1-9731-46CA-BF5B-873471901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8499E-5300-42DF-A198-704CBA78220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45E01-DA07-46D6-B751-C4DD93B45C0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74D48-0EB2-4531-A89C-D672F8D1D53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5A11C-F630-46FA-80AA-1FE42847FF3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6B884-9C85-44EB-96DC-1282256D5C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C7122-A15C-476D-9773-334D9D5936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0CB3D-78FE-4829-8EB3-EA02A8E982D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17F92-A1B3-4DE8-AE20-9B127725E70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233C7-6D87-4250-9C90-6AFB74993D7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E318D-E1F4-44D9-A8AC-B2C08DF98B1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4989C-8FE6-4230-B243-310E26782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97153-9B10-4035-AD5A-19BAF7E7D53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C4046-FCA9-4642-AEEA-5F99DA6DB41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494A5-2113-43B4-A357-2C461FB873C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4105C-52E6-4062-B5D9-F680060DE7C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05BA0-322F-446F-B703-A6C5A55185D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33FA1-F355-425F-AC5D-A0C04FE03BF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68A3C-F3DD-43B8-BC0F-F8AD42927E1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EC242-A641-4AB5-9EB3-8C600ED97FD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7C46A-BCDA-4482-990E-DC936590991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17D23-D9ED-4233-A71A-D57B903E7B9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37095-7614-4DE9-BBAC-F0ABB2A8A1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EABD6-83D9-4094-9E9E-C82561C453D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F3B28-0D7E-4D19-9BFC-757DE4EE2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5D64E-8957-4AE4-8A4E-74B3B6A1AC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277B4-524B-4F2A-8C3F-1D7168DE0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B2DFA-9CD5-45BD-B8E7-E16751E1F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41640" y="60782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0741-27CB-4791-81B8-66CB13D4F84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0751-2DE4-49CA-8CCC-DBDB382A461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68400" algn="ctr">
              <a:spcBef>
                <a:spcPts val="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1616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16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16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3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8770-FC06-4C27-9803-09334DDECF24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CC31-3259-4BE2-9ECD-7415925ED80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2C46-D090-47C4-B684-C711FE8B752D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2720" y="1590840"/>
            <a:ext cx="84582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751"/>
              </a:spcBef>
              <a:spcAft>
                <a:spcPts val="4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JCTVC-J0097: </a:t>
            </a:r>
            <a:br>
              <a:rPr sz="3200"/>
            </a:b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굴림"/>
              </a:rPr>
              <a:t>AHG6: Evaluation of picture-based SAO optimization in HM-7.0</a:t>
            </a:r>
            <a:endParaRPr b="1" lang="en-US" sz="3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71160" y="369864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o-Kyoung Kwon, Woo-Shik Ki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Inc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U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9BC21-536A-4660-A5E0-8EA58D7551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SAO in HM-7.0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33000" y="1185480"/>
            <a:ext cx="862956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nly LCU-based SAO signaling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AO parameters can be estimated either at LCU level or pictur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CU-based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AO parameters optimized for each LCU, independent of other L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icture-based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AO parameters optimized for a whole picture using quad-tree part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xpected to provide improved coding gain at increased complex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this contribu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icture-based SAO optimization with LCU-based SAO signaling is evalu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icture-based SAO optimization is modified for LCU-based sign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F9FC-054F-4500-B5B5-9E172553DF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aluation of picture-based SAO optimiz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HM-7.0, picture-based SAO optimization turns out worse than LCU-based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mainly because the RDO process in picture-based SAO optimization is still coupled with previous picture-based sign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162160" y="2801880"/>
          <a:ext cx="4425840" cy="2600280"/>
        </p:xfrm>
        <a:graphic>
          <a:graphicData uri="http://schemas.openxmlformats.org/drawingml/2006/table">
            <a:tbl>
              <a:tblPr/>
              <a:tblGrid>
                <a:gridCol w="1028520"/>
                <a:gridCol w="920520"/>
                <a:gridCol w="825480"/>
                <a:gridCol w="825840"/>
                <a:gridCol w="825480"/>
              </a:tblGrid>
              <a:tr h="291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Y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U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V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Mai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HE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3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3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3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817560" y="5545080"/>
            <a:ext cx="744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CU-based SAO optimization (Anchor) vs. Picture-based SAO optimization (Test) in HM-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0CE6-1FD5-407B-A0A6-1681AF48F1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1840" y="142920"/>
            <a:ext cx="86580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odified RDO for picture-based SAO optimiz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ple RDO with LCU-based SAO sign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urrent RDO for picture-based SAO optimization, the number of bits required to signal SAO parameters are counted once per par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 RDO to count the number of bits for all LCUs in a partition, 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533600" y="2914560"/>
            <a:ext cx="6191280" cy="2171520"/>
            <a:chOff x="1533600" y="2914560"/>
            <a:chExt cx="6191280" cy="2171520"/>
          </a:xfrm>
        </p:grpSpPr>
        <p:sp>
          <p:nvSpPr>
            <p:cNvPr id="218" name=""/>
            <p:cNvSpPr/>
            <p:nvPr/>
          </p:nvSpPr>
          <p:spPr>
            <a:xfrm>
              <a:off x="1533600" y="4410000"/>
              <a:ext cx="6114960" cy="6760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33600" y="2914560"/>
              <a:ext cx="6114960" cy="9619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90840" y="2947680"/>
              <a:ext cx="613404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r (Int ry = pOnePart-&gt;StartCUY; ry &lt;= pOnePart-&gt;EndCUY; ry+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r (Int rx = pOnePart-&gt;StartCUX; rx &lt;= pOnePart-&gt;EndCUX; rx+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unt # of bits to singal SAO parameters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25F1D-5497-47AA-9EA1-870B5CE1C0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aluation of picture-based SAO optimization with the modified RDO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modified RDO, picture-based SAO optimization shows better performance than LCU-based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considering its complexity, its gain is not enoug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171880" y="2808360"/>
          <a:ext cx="4425840" cy="2600280"/>
        </p:xfrm>
        <a:graphic>
          <a:graphicData uri="http://schemas.openxmlformats.org/drawingml/2006/table">
            <a:tbl>
              <a:tblPr/>
              <a:tblGrid>
                <a:gridCol w="1028520"/>
                <a:gridCol w="920880"/>
                <a:gridCol w="825480"/>
                <a:gridCol w="825480"/>
                <a:gridCol w="825480"/>
              </a:tblGrid>
              <a:tr h="291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Y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U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V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Mai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HE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.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912960" y="5554800"/>
            <a:ext cx="732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CU-based SAO optimization (Anchor) vs. Modified picture-based SAO optimization (Te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4CB2D-A20F-4237-864A-3CD34DD3F2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Summary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icture-based SAO optimization in HM-7.0 is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DO for picture-based SAO optimization is modified to improve coding 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ding gain by picture-based SAO optimization over LCU-based one is not big enough considering its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imilar gain can be realized by efficient signaling of LCU parameters with LCU-based SAO optim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ediaTek cross-checked the proposed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 picture-based SAO optimization to be removed from HM, or the modified RDO to be adopted into HM for further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DCE4-B3E9-49E8-B79A-62DB71B06E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20:51:45Z</dcterms:created>
  <dc:creator/>
  <dc:description/>
  <dc:language>en-US</dc:language>
  <cp:lastModifiedBy>Kwon, Do-Kyoung</cp:lastModifiedBy>
  <dcterms:modified xsi:type="dcterms:W3CDTF">2012-07-06T07:21:03Z</dcterms:modified>
  <cp:revision>125</cp:revision>
  <dc:subject/>
  <dc:title>Presentation Title Here</dc:title>
</cp:coreProperties>
</file>