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211-D5A0-43D0-A016-181478AEB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50C-F996-4EE6-9A83-E03F380E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CB3-D890-424D-A858-101589C7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5CEC-7B2C-4E0D-A908-51568214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3F0-615A-4322-979D-37440005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7C1C-FF65-4D72-886D-F5690DA0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F9D-E2CC-4E33-ACD8-D164980C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D26-DCC6-4609-92EE-793B8ACD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44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6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44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6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7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44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46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56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44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46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1677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IM_PPTimage_gree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086240" y="640080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RIM_PPTimage_gree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RIM_PPTimage_gree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7086240" y="640080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30592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CA" sz="3600" spc="-1" strike="noStrike">
                <a:solidFill>
                  <a:srgbClr val="000000"/>
                </a:solidFill>
                <a:latin typeface="BlackBerryLove Bold"/>
              </a:rPr>
              <a:t>AHG5: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BlackBerryLove Bold"/>
              </a:rPr>
              <a:t>Pairwise Coding of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BlackBerryLove Bold"/>
              </a:rPr>
              <a:t>Greater-than-1 Flags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657600"/>
            <a:ext cx="6782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JCTVC-J0095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Nguyen Nguyen, 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Dake H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and Gaëlle Martin-Cocher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134136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Improve worst case throughput (context-coded bins per transform coefficient)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HM-7.0: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Worst case throughput = 1.875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greater-than-1 flags coded individually, context depends on previous greater-than-1 fla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Pairwise Coding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560" y="13410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de greater-than-1 flags in pai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(up to 4 pairs per CG)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A pair is a context-coded bin, indicating whether flags have same value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de individual flags in bypass mode, if necessary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De-interleave context-coded and bypass bins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Pairwise Coding (contd.)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pic>
        <p:nvPicPr>
          <p:cNvPr id="95" name="Content Placeholder 4" descr="2tuple_scheme3_tree_ppt.png"/>
          <p:cNvPicPr/>
          <p:nvPr/>
        </p:nvPicPr>
        <p:blipFill>
          <a:blip r:embed="rId1"/>
          <a:stretch/>
        </p:blipFill>
        <p:spPr>
          <a:xfrm>
            <a:off x="457200" y="2362320"/>
            <a:ext cx="773604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212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 (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590920" y="2286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1 flag (byp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2"/>
          <p:cNvCxnSpPr>
            <a:stCxn id="97" idx="2"/>
          </p:cNvCxnSpPr>
          <p:nvPr/>
        </p:nvCxnSpPr>
        <p:spPr>
          <a:xfrm flipH="1">
            <a:off x="2208960" y="2655360"/>
            <a:ext cx="1334520" cy="4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4"/>
          <p:cNvCxnSpPr>
            <a:stCxn id="97" idx="2"/>
          </p:cNvCxnSpPr>
          <p:nvPr/>
        </p:nvCxnSpPr>
        <p:spPr>
          <a:xfrm flipH="1">
            <a:off x="2971440" y="2655720"/>
            <a:ext cx="572400" cy="123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Box 15"/>
          <p:cNvSpPr/>
          <p:nvPr/>
        </p:nvSpPr>
        <p:spPr>
          <a:xfrm>
            <a:off x="50292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 (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9"/>
          <p:cNvSpPr/>
          <p:nvPr/>
        </p:nvSpPr>
        <p:spPr>
          <a:xfrm>
            <a:off x="6781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1 flag (byp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36"/>
          <p:cNvCxnSpPr>
            <a:stCxn id="101" idx="2"/>
          </p:cNvCxnSpPr>
          <p:nvPr/>
        </p:nvCxnSpPr>
        <p:spPr>
          <a:xfrm flipH="1">
            <a:off x="6476760" y="2655720"/>
            <a:ext cx="125784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Straight Arrow Connector 38"/>
          <p:cNvCxnSpPr/>
          <p:nvPr/>
        </p:nvCxnSpPr>
        <p:spPr>
          <a:xfrm flipH="1">
            <a:off x="7238520" y="2666520"/>
            <a:ext cx="49608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Benefits and Cost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13410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Improve throughput in the worst case from 1.875 to 1.625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Code two greater-than-1 flags in parallel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Average context-coded bins savings of 4.5% to 8.5%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st: 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6 additional contexts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BerryLove Bold"/>
              </a:rPr>
              <a:t>Comparison against HM-7.0</a:t>
            </a:r>
            <a:endParaRPr b="1" lang="en-US" sz="28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ding efficiency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ntext-coded bins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47920" y="441972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447920" y="5181480"/>
          <a:ext cx="6095880" cy="741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7920" y="190512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447920" y="2666880"/>
          <a:ext cx="6095880" cy="741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Future Work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560" y="13410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ackBerryLove Semibold"/>
              </a:rPr>
              <a:t>RDOQ implementation</a:t>
            </a:r>
            <a:endParaRPr b="0" lang="en-US" sz="26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ackBerryLove Semibold"/>
              </a:rPr>
              <a:t>Interaction with intra transform skipping </a:t>
            </a:r>
            <a:endParaRPr b="0" lang="en-US" sz="26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28:23Z</dcterms:created>
  <dc:creator>user</dc:creator>
  <dc:description/>
  <dc:language>en-US</dc:language>
  <cp:lastModifiedBy>nnguyen</cp:lastModifiedBy>
  <dcterms:modified xsi:type="dcterms:W3CDTF">2012-06-29T21:45:41Z</dcterms:modified>
  <cp:revision>157</cp:revision>
  <dc:subject/>
  <dc:title>Django Web Framework</dc:title>
</cp:coreProperties>
</file>