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5F1-751D-4C32-BF00-5C9B72DD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C5A-1E36-4B5D-B109-51E8D8F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A9B-FE30-4A06-9D9B-0E65028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6D4-BC3E-4D65-9BC1-B2367716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8BEC-E0DD-4BBF-BC2C-C64F475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5B5E-F111-45F8-BAE5-04ED0B91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B434-7E18-4357-9244-B31ACC8C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988-FEF2-4A20-951F-7F5AF0E1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19EE-73C9-45F6-872E-5C8BEBF9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2F9B-6AE5-44B6-BDEB-984AA1C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4B91-38EA-403C-8C81-9E106B3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6C5-5E92-43ED-ABB3-269AEC92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2705-B27E-4D65-B45E-D6EAD2D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40BB-7E6A-46C3-8F60-3ACC7F8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ADF9-A580-4539-B089-559276F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BB4C-84C4-477E-9224-85C5554F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DC44-5321-4DC5-A367-11841D3E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9DFE-6E62-4618-AB64-BB9E4582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D8BA-308D-4E55-9756-F75EC8B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E1AF-13DF-445B-A806-F11CD3FF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A7AB-3B5A-43A2-804D-718F17E3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10C6-6E49-4799-BC5D-630E720C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D45-738D-4992-8D4C-E8834D32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6027-2AF4-48F0-B98A-BDDC26C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7AE6-7BD3-402C-B090-F9E246AC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B6D1-5EE7-446A-8BD4-5098FD9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CBA0-C59F-4DA7-82AC-0B4E587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306B-2B82-4C51-92EC-A5ED5613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005F-E919-4D85-A0FD-398EA87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9683-F79B-46FA-A844-3D7496C2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71DD-5900-4FF3-B484-BAF6ECD6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7FFB-BBC6-448C-B03C-4E9B709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3F89-5487-41C9-B5E2-6EC3D66E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9FA-E5A0-4C3C-8052-DF25CF7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0D0D-664A-4D67-AC52-D14EFD4D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9C190-4741-4EEA-A3EE-3AF4C8F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0911-6E0C-4EEC-88C8-C3ED69E2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5DA9-E45C-4A8A-B0DB-48ED55C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E3CD-F992-475C-A487-300A2B2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AFF6-E0B5-4CB8-BE81-A2093E0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002D-27FC-42D0-AD56-CB99FE7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5C89-57DA-4E6A-B3A0-1C4755AD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734A-F935-4B9E-81BD-E0317DE9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DB461-AFB4-459D-BFFB-9CC2044C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3F3-9828-4A22-ABCD-8973808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B4E9-01E9-4D6E-B1D1-607DAA6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F93F3-2AD4-4003-A20A-BBB5EFB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5E48-1947-4C6F-86D1-7E8CF3B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4CD1-F0B1-437B-8E58-5AEEB971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01BC-7326-49BF-A19A-6C9970F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4B04-FC6B-4BC0-B3AB-FA25017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CC4BE-557D-45DA-ADC2-62C1A7F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A28A-4A16-43AF-8F40-E6AD17EC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118E-A054-4F36-BD52-ECDCCA1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916A-10B0-4EE3-BADE-8F313EBA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612-2968-4243-9F51-BF40BD08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E566-877E-4866-81B9-1353CC14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E1C-B25C-4D8D-A083-47A4F5C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7D3-67EB-4E8C-94F7-91B99EC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37D-9239-422A-A3B4-B5963C2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E93-ADA7-41AA-87F4-E919ADDB4CC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1110-F15E-4C13-BC99-26217921ACA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220A-2EDD-4FAE-AE33-67C424B84766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D05-F496-4EA4-8943-926A9C204A9F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972B-CCED-464F-AD13-15945381109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9F2-59CE-4ED4-9B6D-F56B254E590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082-7470-49CA-A7CC-AFE286960AB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969B-788D-4105-B2F9-BFCA4A0426D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5513-1434-4C86-BF99-EA33C2F7FBF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F4D-4104-4457-BCF3-B28B7057443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2"/>
          <p:cNvSpPr/>
          <p:nvPr/>
        </p:nvSpPr>
        <p:spPr>
          <a:xfrm>
            <a:off x="355680" y="60390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E942-9DE2-4661-918E-705A14DAD903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D748-46B8-492B-B759-F545ED1DB0D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HG4: Enable parallel decoding with tiles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33000" y="3659040"/>
            <a:ext cx="84582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nhua Zhou, Vivienne S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9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0"/>
          <p:cNvSpPr/>
          <p:nvPr/>
        </p:nvSpPr>
        <p:spPr>
          <a:xfrm>
            <a:off x="3485160" y="2671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VTVC-J00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355680" y="59054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319-64CC-4FC9-8D0C-F4BA88596960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642000" y="590544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E95-4CDD-4670-8185-6F8E577DC9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1271520" y="3762360"/>
            <a:ext cx="1571760" cy="11912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1908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re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ices, ES W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4214880" y="3124080"/>
            <a:ext cx="1571400" cy="11912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1908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re decod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ices, ES W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5796000" y="3124080"/>
            <a:ext cx="1571760" cy="11912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1908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re decod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ices, ES W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4214880" y="4334040"/>
            <a:ext cx="1571400" cy="11912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1908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re decode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ices, ES W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5796000" y="4334040"/>
            <a:ext cx="1571760" cy="11912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1908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re decode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ices, ES W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Arrow 11"/>
          <p:cNvSpPr/>
          <p:nvPr/>
        </p:nvSpPr>
        <p:spPr>
          <a:xfrm>
            <a:off x="3205080" y="4314960"/>
            <a:ext cx="542880" cy="3045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aaaaaa"/>
          </a:solidFill>
          <a:ln w="25560">
            <a:solidFill>
              <a:srgbClr val="7c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4205160" y="2514600"/>
            <a:ext cx="3181320" cy="580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1908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-picture boundary process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1160640" y="5143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e.g.4kx2K@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4866480" y="5724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e.g. 8Kx4K@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433440" y="973080"/>
            <a:ext cx="85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recommended to add “parallel” levels to mandate sub-pictures (signaled with tile syntax) for level 5.2 and above to enable parallel decoding  on multi-core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level specification remains un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355680" y="60786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435-68CC-4369-A645-A6DB445C5A6D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2AD8-0BD0-417B-B925-766FB254AF9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of proposa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3360" y="914040"/>
            <a:ext cx="84679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mpanion “parallel” levels for level 5.2 and ab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 parallel decoding by mandating uniformed spaced tiles (or sub-pictu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parallel decoding on multiple core platforms with pixel-rate balancing among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building a multi-core decoder by simply replicating the single core decoders without need of increasing the line buff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levels remain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coder conforming to a level can decode “parallel” stream at sam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iles or other parallel tools are mand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55680" y="60786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2507-8382-4614-851D-F45FB0C451C1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CE8A-4371-4202-9FA3-F502149C92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y multi-core parallel decoding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3360" y="914040"/>
            <a:ext cx="846792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2480" indent="-2224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 decoding is bottleneck for real-time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re real-time decoding for UHD is only possible when the CABAC parsing can be decoupled, latency, area and power consumption are not a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3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6.2, 800 Mbits/sec =&gt; ~500 MHz assuming 2 bin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for low-latency real-time applications MHz requirements are much higher, cannot be handled by single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480"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60240" y="3348000"/>
          <a:ext cx="6855120" cy="2992320"/>
        </p:xfrm>
        <a:graphic>
          <a:graphicData uri="http://schemas.openxmlformats.org/drawingml/2006/table">
            <a:tbl>
              <a:tblPr/>
              <a:tblGrid>
                <a:gridCol w="774720"/>
                <a:gridCol w="1444680"/>
                <a:gridCol w="1139760"/>
                <a:gridCol w="758880"/>
                <a:gridCol w="836640"/>
                <a:gridCol w="1139760"/>
                <a:gridCol w="760680"/>
              </a:tblGrid>
              <a:tr h="852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ax Lum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ax bit rate MaxBR (kbits/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in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ax bins per 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Hz (frame decoupling) -1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Hz (LCU pipeli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,668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,668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3,693,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3,693,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67,386,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67,386,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34,773,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,002,700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,005,401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,010,803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355680" y="60786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A3D3-9CF1-49F7-A843-8B47B0A92FA1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E44-90D0-4762-BBBC-B2C4AC3C568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ighlights of Proposa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46040" y="939960"/>
            <a:ext cx="79246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e sub-pictures for high levels. A picture is divided into a number of sub-pictures of equal size (in units of L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tures are independent, only in-loop filters can be allowed to cross the sub-picture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s, slices, entropy slices and WPP are contained in sub-pictures and cannot cross sub-picture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picture partitioning information is signaled with tile syntax, and realized by imposing constraints on tile partit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ture entries in bitstream are signaled in APS (see JCTVC-J008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297000" y="5375160"/>
            <a:ext cx="64753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companion “parallel” levels for level 5.2 an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b-picture Partitioning &amp; Signaling (option 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883800"/>
            <a:ext cx="84679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14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-picture is a uniformly spaced tile ( no syntax change is 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36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r and decoder have the same degree of paralle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36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mandated tiles can be derived from level_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7"/>
          <p:cNvSpPr/>
          <p:nvPr/>
        </p:nvSpPr>
        <p:spPr>
          <a:xfrm>
            <a:off x="2009880" y="2692440"/>
            <a:ext cx="2143080" cy="1714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8"/>
          <p:cNvSpPr/>
          <p:nvPr/>
        </p:nvSpPr>
        <p:spPr>
          <a:xfrm>
            <a:off x="4154400" y="2692440"/>
            <a:ext cx="2143080" cy="1714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9"/>
          <p:cNvSpPr/>
          <p:nvPr/>
        </p:nvSpPr>
        <p:spPr>
          <a:xfrm>
            <a:off x="2011320" y="4416480"/>
            <a:ext cx="2143080" cy="1714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0"/>
          <p:cNvSpPr/>
          <p:nvPr/>
        </p:nvSpPr>
        <p:spPr>
          <a:xfrm>
            <a:off x="4154400" y="4406760"/>
            <a:ext cx="2143080" cy="171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51"/>
          <p:cNvSpPr/>
          <p:nvPr/>
        </p:nvSpPr>
        <p:spPr>
          <a:xfrm>
            <a:off x="4153680" y="2701800"/>
            <a:ext cx="9720" cy="340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52"/>
          <p:cNvSpPr/>
          <p:nvPr/>
        </p:nvSpPr>
        <p:spPr>
          <a:xfrm flipV="1">
            <a:off x="2011320" y="4406400"/>
            <a:ext cx="42958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2592360" y="3768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4649760" y="3692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4725720" y="4987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9"/>
          <p:cNvSpPr/>
          <p:nvPr/>
        </p:nvSpPr>
        <p:spPr>
          <a:xfrm>
            <a:off x="2592360" y="4987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1"/>
          <p:cNvSpPr/>
          <p:nvPr/>
        </p:nvSpPr>
        <p:spPr>
          <a:xfrm>
            <a:off x="4731840" y="315900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2"/>
          <p:cNvSpPr/>
          <p:nvPr/>
        </p:nvSpPr>
        <p:spPr>
          <a:xfrm>
            <a:off x="2504520" y="320688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3"/>
          <p:cNvSpPr/>
          <p:nvPr/>
        </p:nvSpPr>
        <p:spPr>
          <a:xfrm>
            <a:off x="2445840" y="544500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4"/>
          <p:cNvSpPr/>
          <p:nvPr/>
        </p:nvSpPr>
        <p:spPr>
          <a:xfrm>
            <a:off x="4731840" y="544500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61"/>
          <p:cNvCxnSpPr/>
          <p:nvPr/>
        </p:nvCxnSpPr>
        <p:spPr>
          <a:xfrm flipV="1">
            <a:off x="4195440" y="2225160"/>
            <a:ext cx="182772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62"/>
          <p:cNvCxnSpPr/>
          <p:nvPr/>
        </p:nvCxnSpPr>
        <p:spPr>
          <a:xfrm flipV="1">
            <a:off x="6191640" y="2377800"/>
            <a:ext cx="229320" cy="20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TextBox 59"/>
          <p:cNvSpPr/>
          <p:nvPr/>
        </p:nvSpPr>
        <p:spPr>
          <a:xfrm>
            <a:off x="5190120" y="18637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ture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8"/>
          <p:cNvSpPr/>
          <p:nvPr/>
        </p:nvSpPr>
        <p:spPr>
          <a:xfrm>
            <a:off x="2268360" y="23209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_width[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0"/>
          <p:cNvSpPr/>
          <p:nvPr/>
        </p:nvSpPr>
        <p:spPr>
          <a:xfrm>
            <a:off x="4403520" y="2320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_width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407600" y="2835000"/>
            <a:ext cx="45468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_heigh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7"/>
          <p:cNvSpPr/>
          <p:nvPr/>
        </p:nvSpPr>
        <p:spPr>
          <a:xfrm>
            <a:off x="1407600" y="4511160"/>
            <a:ext cx="45468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_height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50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355680" y="60786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15BB-4E55-4C0D-8E6E-258E0296694F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76F-002D-4E5D-9548-9628FE03FA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01240" y="16524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umber of Tiles Specification (option 1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846000" y="4991040"/>
            <a:ext cx="75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 limits (assuming 4kx2k@30 single core decoder capabil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Table 7" descr=""/>
          <p:cNvPicPr/>
          <p:nvPr/>
        </p:nvPicPr>
        <p:blipFill>
          <a:blip r:embed="rId1"/>
          <a:stretch/>
        </p:blipFill>
        <p:spPr>
          <a:xfrm>
            <a:off x="219240" y="1109520"/>
            <a:ext cx="858348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52848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3BD-EA57-4AB7-B4D1-99465989906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161200" y="6240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BAAB-CA30-48FF-B8CC-9572AEEA1DC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b-picture Partitioning &amp; Signaling (option 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33360" y="883800"/>
            <a:ext cx="84679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42280" indent="-242280">
              <a:spcBef>
                <a:spcPts val="14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ture partitioning and signaling is realized by imposing constraints on tiles. If sub-pictures are pres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42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les can be evenly or unevenly divided in both vertical  and horizontal directions, but there must b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num_subPic_rows 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tom tile row  boundaries that are coincident with the horizontal sub-pictur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42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les can be evenly or unevenly divided in horizontal direction, but there must b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num_subPic_columns 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ght-hand tile column boundaries that are coincident with the vertical sub-pictur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656240" y="3479760"/>
            <a:ext cx="2143080" cy="1408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799320" y="3479760"/>
            <a:ext cx="2143080" cy="1408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657680" y="4896000"/>
            <a:ext cx="2141640" cy="1407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6799320" y="4888080"/>
            <a:ext cx="2143080" cy="1407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9"/>
          <p:cNvSpPr/>
          <p:nvPr/>
        </p:nvSpPr>
        <p:spPr>
          <a:xfrm>
            <a:off x="6799320" y="3487680"/>
            <a:ext cx="9360" cy="280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0"/>
          <p:cNvSpPr/>
          <p:nvPr/>
        </p:nvSpPr>
        <p:spPr>
          <a:xfrm flipV="1">
            <a:off x="4657680" y="4888080"/>
            <a:ext cx="4294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1"/>
          <p:cNvSpPr/>
          <p:nvPr/>
        </p:nvSpPr>
        <p:spPr>
          <a:xfrm>
            <a:off x="5570640" y="3487680"/>
            <a:ext cx="0" cy="1416240"/>
          </a:xfrm>
          <a:prstGeom prst="line">
            <a:avLst/>
          </a:prstGeom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>
            <a:off x="7780320" y="3495600"/>
            <a:ext cx="0" cy="1416240"/>
          </a:xfrm>
          <a:prstGeom prst="line">
            <a:avLst/>
          </a:prstGeom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3"/>
          <p:cNvSpPr/>
          <p:nvPr/>
        </p:nvSpPr>
        <p:spPr>
          <a:xfrm>
            <a:off x="7780320" y="4863960"/>
            <a:ext cx="0" cy="1416240"/>
          </a:xfrm>
          <a:prstGeom prst="line">
            <a:avLst/>
          </a:prstGeom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4"/>
          <p:cNvSpPr/>
          <p:nvPr/>
        </p:nvSpPr>
        <p:spPr>
          <a:xfrm>
            <a:off x="4583160" y="3619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8"/>
          <p:cNvSpPr/>
          <p:nvPr/>
        </p:nvSpPr>
        <p:spPr>
          <a:xfrm>
            <a:off x="5800680" y="3611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3"/>
          <p:cNvSpPr/>
          <p:nvPr/>
        </p:nvSpPr>
        <p:spPr>
          <a:xfrm>
            <a:off x="6905520" y="3948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4"/>
          <p:cNvSpPr/>
          <p:nvPr/>
        </p:nvSpPr>
        <p:spPr>
          <a:xfrm>
            <a:off x="7924680" y="3940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7"/>
          <p:cNvSpPr/>
          <p:nvPr/>
        </p:nvSpPr>
        <p:spPr>
          <a:xfrm>
            <a:off x="6904080" y="50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8"/>
          <p:cNvSpPr/>
          <p:nvPr/>
        </p:nvSpPr>
        <p:spPr>
          <a:xfrm>
            <a:off x="7907400" y="5037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9"/>
          <p:cNvSpPr/>
          <p:nvPr/>
        </p:nvSpPr>
        <p:spPr>
          <a:xfrm>
            <a:off x="4697280" y="5041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0"/>
          <p:cNvSpPr/>
          <p:nvPr/>
        </p:nvSpPr>
        <p:spPr>
          <a:xfrm>
            <a:off x="5734080" y="5014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1"/>
          <p:cNvSpPr/>
          <p:nvPr/>
        </p:nvSpPr>
        <p:spPr>
          <a:xfrm>
            <a:off x="7378200" y="366696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2"/>
          <p:cNvSpPr/>
          <p:nvPr/>
        </p:nvSpPr>
        <p:spPr>
          <a:xfrm>
            <a:off x="5149440" y="390204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3"/>
          <p:cNvSpPr/>
          <p:nvPr/>
        </p:nvSpPr>
        <p:spPr>
          <a:xfrm>
            <a:off x="5121000" y="586584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4"/>
          <p:cNvSpPr/>
          <p:nvPr/>
        </p:nvSpPr>
        <p:spPr>
          <a:xfrm>
            <a:off x="7332120" y="5835600"/>
            <a:ext cx="1080000" cy="368280"/>
          </a:xfrm>
          <a:prstGeom prst="rect">
            <a:avLst/>
          </a:prstGeom>
          <a:solidFill>
            <a:srgbClr val="9aa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26"/>
          <p:cNvCxnSpPr/>
          <p:nvPr/>
        </p:nvCxnSpPr>
        <p:spPr>
          <a:xfrm flipV="1">
            <a:off x="6865920" y="3095280"/>
            <a:ext cx="18280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7"/>
          <p:cNvCxnSpPr/>
          <p:nvPr/>
        </p:nvCxnSpPr>
        <p:spPr>
          <a:xfrm flipV="1">
            <a:off x="8836560" y="3220560"/>
            <a:ext cx="229320" cy="16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5" name="TextBox 59"/>
          <p:cNvSpPr/>
          <p:nvPr/>
        </p:nvSpPr>
        <p:spPr>
          <a:xfrm>
            <a:off x="6590520" y="2873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icture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29"/>
          <p:cNvSpPr/>
          <p:nvPr/>
        </p:nvSpPr>
        <p:spPr>
          <a:xfrm>
            <a:off x="5570640" y="4888080"/>
            <a:ext cx="0" cy="1415880"/>
          </a:xfrm>
          <a:prstGeom prst="line">
            <a:avLst/>
          </a:prstGeom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8"/>
          <p:cNvSpPr/>
          <p:nvPr/>
        </p:nvSpPr>
        <p:spPr>
          <a:xfrm>
            <a:off x="4412880" y="32367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_width[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9"/>
          <p:cNvSpPr/>
          <p:nvPr/>
        </p:nvSpPr>
        <p:spPr>
          <a:xfrm>
            <a:off x="5555880" y="32367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_width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0"/>
          <p:cNvSpPr/>
          <p:nvPr/>
        </p:nvSpPr>
        <p:spPr>
          <a:xfrm>
            <a:off x="6738480" y="32367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_width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1"/>
          <p:cNvSpPr/>
          <p:nvPr/>
        </p:nvSpPr>
        <p:spPr>
          <a:xfrm>
            <a:off x="7881480" y="32367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_width[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3"/>
          <p:cNvSpPr/>
          <p:nvPr/>
        </p:nvSpPr>
        <p:spPr>
          <a:xfrm>
            <a:off x="4202280" y="3289320"/>
            <a:ext cx="393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w_height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5"/>
          <p:cNvSpPr/>
          <p:nvPr/>
        </p:nvSpPr>
        <p:spPr>
          <a:xfrm>
            <a:off x="4212720" y="5030280"/>
            <a:ext cx="45468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_height[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38"/>
          <p:cNvSpPr/>
          <p:nvPr/>
        </p:nvSpPr>
        <p:spPr>
          <a:xfrm flipV="1">
            <a:off x="4656240" y="4347720"/>
            <a:ext cx="4286160" cy="17640"/>
          </a:xfrm>
          <a:prstGeom prst="line">
            <a:avLst/>
          </a:prstGeom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4"/>
          <p:cNvSpPr/>
          <p:nvPr/>
        </p:nvSpPr>
        <p:spPr>
          <a:xfrm>
            <a:off x="4681440" y="4471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4"/>
          <p:cNvSpPr/>
          <p:nvPr/>
        </p:nvSpPr>
        <p:spPr>
          <a:xfrm>
            <a:off x="5729040" y="4489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3"/>
          <p:cNvSpPr/>
          <p:nvPr/>
        </p:nvSpPr>
        <p:spPr>
          <a:xfrm>
            <a:off x="6897600" y="4476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3"/>
          <p:cNvSpPr/>
          <p:nvPr/>
        </p:nvSpPr>
        <p:spPr>
          <a:xfrm>
            <a:off x="7873920" y="4468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44"/>
          <p:cNvSpPr/>
          <p:nvPr/>
        </p:nvSpPr>
        <p:spPr>
          <a:xfrm flipV="1">
            <a:off x="4630680" y="5397120"/>
            <a:ext cx="4284720" cy="17640"/>
          </a:xfrm>
          <a:prstGeom prst="line">
            <a:avLst/>
          </a:prstGeom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9"/>
          <p:cNvSpPr/>
          <p:nvPr/>
        </p:nvSpPr>
        <p:spPr>
          <a:xfrm>
            <a:off x="4724280" y="5506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9"/>
          <p:cNvSpPr/>
          <p:nvPr/>
        </p:nvSpPr>
        <p:spPr>
          <a:xfrm>
            <a:off x="5729040" y="5472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7"/>
          <p:cNvSpPr/>
          <p:nvPr/>
        </p:nvSpPr>
        <p:spPr>
          <a:xfrm>
            <a:off x="6958080" y="5508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8"/>
          <p:cNvSpPr/>
          <p:nvPr/>
        </p:nvSpPr>
        <p:spPr>
          <a:xfrm>
            <a:off x="7908120" y="546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Table 46" descr=""/>
          <p:cNvPicPr/>
          <p:nvPr/>
        </p:nvPicPr>
        <p:blipFill>
          <a:blip r:embed="rId1"/>
          <a:stretch/>
        </p:blipFill>
        <p:spPr>
          <a:xfrm>
            <a:off x="-79200" y="3541680"/>
            <a:ext cx="4365360" cy="24685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7"/>
          <p:cNvSpPr/>
          <p:nvPr/>
        </p:nvSpPr>
        <p:spPr>
          <a:xfrm>
            <a:off x="172440" y="3255840"/>
            <a:ext cx="2128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change in PPS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355680" y="60786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1F4-A93F-47B5-826F-F70BEB6E9171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06ED-F970-4C4C-B157-530D3FD17D3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umber of Sub-pictures Specification (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3360" y="914040"/>
            <a:ext cx="84679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otal number of sub-pictures and minimum number of sub-picture columns for each level, and constrain both number of sub-picture rows and columns to be powe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 needs of single core line buffer increase when replicating single cores to build up multi-core plat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lnSpc>
                <a:spcPct val="15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single core capability is 4Kx2K@30, if the minimum number of sub-picture columns is specified as 2, then 8Kx4K@30 decoder can be built by replicating 4Kx2K@30 four ti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flexibility of sub-picture partitio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lnSpc>
                <a:spcPct val="15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a picture can be divided either in 2x2 or 4x1 sub-pictur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  pixel-rate balancing when number of decoder cores is unequal to number of sub-pictures in the bitstrea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lnSpc>
                <a:spcPct val="15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4 sub-pictures in bitstream, 2 decoder cores, each core processes two sub-stre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355680" y="607860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67F-1EBD-48F7-83C4-7DFBDFD7DAD3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F902-22CA-4795-AF11-6EE1044498F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41544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umber of Sub-picture Specification (2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809640" y="5670720"/>
            <a:ext cx="75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 limits (assuming 4kx2k@30 single core decoder capabil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able 8" descr=""/>
          <p:cNvPicPr/>
          <p:nvPr/>
        </p:nvPicPr>
        <p:blipFill>
          <a:blip r:embed="rId1"/>
          <a:stretch/>
        </p:blipFill>
        <p:spPr>
          <a:xfrm>
            <a:off x="79200" y="1219320"/>
            <a:ext cx="89982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198101</cp:lastModifiedBy>
  <dcterms:modified xsi:type="dcterms:W3CDTF">2012-07-14T09:19:20Z</dcterms:modified>
  <cp:revision>309</cp:revision>
  <dc:subject/>
  <dc:title>Presentation Title Here</dc:title>
</cp:coreProperties>
</file>