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50D-40E1-4E9F-B280-8012E389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227-CA01-4D66-B073-0FC5EDBE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5E4-2FDF-4298-A479-078C2749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690-8FC9-4F2B-B5D6-36CC780D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5C51-6CC1-4F37-AC9B-2E026FEA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DF53-F5B9-46A1-8C83-27E925CE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1F12-28B1-46BF-97A8-B005B036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CDF4-A905-4541-A74A-FFAA17DE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7FBF-02CD-49B1-9036-76F0099A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79AB-646A-4283-BB83-2C871F2D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D335-AC57-473C-A4B1-BAB3E67A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47F-B861-45A3-9C8D-85A37418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97E0-EADE-4CE9-9B51-0976ED22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166E-F985-432B-AB9A-B0259F0C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2091-CB61-4254-A75F-16140125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9099-9D7D-4BC3-A25E-EA9D1A1C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62E9-504C-4E0D-B485-7EFC2594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D18-0CA3-4593-9AFD-D5FE5DA7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709-CBCF-48FE-8150-B1BAAAD0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D5E-616E-4FD8-9E3B-875B08B1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946-1D19-4E61-967C-A5EE821F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CD8-ABB0-4F40-B675-97EECB41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69A-DD75-445A-ADB6-A1A4DA65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A3B-FD1D-4DF7-96AF-C342713D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684A-97FB-4B46-886E-4D18B8D5234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8952-F333-4BF4-BD61-08DD3ACB7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A5E0-82A4-4903-9C5D-A93B6C8FE6B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0C01-69E1-4921-8D36-854EBEC488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JCTVC-J007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HG9 High-Level Syntax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S loss det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Miska M. Hannuksela</a:t>
            </a:r>
            <a:br>
              <a:rPr sz="3200"/>
            </a:b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Nokia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roblem S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ability to detect APS loss, usage of wrong 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ppens when a lost APS re-used an aps_id value (ID1) that had already been used earlier by another 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equently, the decoder interprets any reference to the aps_id value ID1 to the previous APS NAL unit using the same aps_id valu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JCTVC-I0069: a constraint to the aps_id values that enabled to detect losses of APS NAL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Re-proposed in this con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proposed constraint is analogous to the max POC difference constra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n Geneva, JCTVC-I0069 received the comm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 problem for splicing, as the range in which the APS IDs would fall after the splice point is not under the control of the enco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n alternative loss detection suggestion was to send a parameter set checksum in an SEI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otivation for Re-propo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ssue with splicing has been solved similarly to what is done for POC, i.e. the aps_id constraint is “reset” at IDR and BLA access 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Proposed aps_id constraint and the parameter set checksum SEI have different streng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roposed aps_id constraint provides a basic level of error resilience without implementation or RD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arameter set checksum SEI is optional for both encoders and decoders and is helpful only if both ends use the mechan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arameter set checksum SEI may enable detecting parameter set losses quicker than the proposed aps_id constra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Decoders may deallocate memory based on parameter set checksum SE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i-FI" sz="1800" spc="-1" strike="noStrike">
                <a:solidFill>
                  <a:srgbClr val="000000"/>
                </a:solidFill>
                <a:latin typeface="Calibri"/>
              </a:rPr>
              <a:t>the mechanisms complement each o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PS Loss De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x_aps_id given in SPS: aps_id has the range of 0 to max_aps_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x_aps_id_diff given in SPS: a range of aps_id values that are considered “used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he range is relative to the maximum used aps_id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n APS in the “used” range can be retransmitted (for error resilien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 new APS must use an aps_id from the “unused” range (usually increment by 1 in modulo arithmet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en maximum used aps_id value is updated, the APSes that fall outside the window of “used aps_id values” are marked as unavailable – hence, no accidental re-use of an APS can hap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900000" y="5292720"/>
            <a:ext cx="7344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751680" y="5292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7673400" y="529596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_aps_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5069520" y="536580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 used 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aps_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9"/>
          <p:cNvSpPr/>
          <p:nvPr/>
        </p:nvSpPr>
        <p:spPr>
          <a:xfrm flipV="1">
            <a:off x="5637240" y="5199120"/>
            <a:ext cx="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1"/>
          <p:cNvSpPr/>
          <p:nvPr/>
        </p:nvSpPr>
        <p:spPr>
          <a:xfrm flipV="1">
            <a:off x="2195640" y="5213520"/>
            <a:ext cx="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ight Brace 12"/>
          <p:cNvSpPr/>
          <p:nvPr/>
        </p:nvSpPr>
        <p:spPr>
          <a:xfrm rot="5400000">
            <a:off x="3772080" y="4363920"/>
            <a:ext cx="287280" cy="34401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3440160"/>
              <a:gd name="textAreaBottom" fmla="*/ 3432960 h 344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"/>
                  <a:pt x="10800" y="150"/>
                </a:cubicBezTo>
                <a:lnTo>
                  <a:pt x="10800" y="10650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5"/>
                  <a:pt x="10800" y="10950"/>
                </a:cubicBezTo>
                <a:lnTo>
                  <a:pt x="10800" y="21450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3058560" y="61563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_aps_id_di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ight Brace 14"/>
          <p:cNvSpPr/>
          <p:nvPr/>
        </p:nvSpPr>
        <p:spPr>
          <a:xfrm rot="16200000">
            <a:off x="3772440" y="3283200"/>
            <a:ext cx="289080" cy="344016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3440160"/>
              <a:gd name="textAreaBottom" fmla="*/ 3432960 h 344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2878920" y="451332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sed aps_id value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ight Brace 16"/>
          <p:cNvSpPr/>
          <p:nvPr/>
        </p:nvSpPr>
        <p:spPr>
          <a:xfrm rot="16200000">
            <a:off x="6810480" y="3724200"/>
            <a:ext cx="288720" cy="25783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2578320"/>
              <a:gd name="textAreaBottom" fmla="*/ 2571120 h 257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1"/>
                  <a:pt x="10800" y="202"/>
                </a:cubicBezTo>
                <a:lnTo>
                  <a:pt x="10800" y="10598"/>
                </a:lnTo>
                <a:cubicBezTo>
                  <a:pt x="10800" y="10699"/>
                  <a:pt x="16200" y="10800"/>
                  <a:pt x="21600" y="10800"/>
                </a:cubicBezTo>
                <a:cubicBezTo>
                  <a:pt x="16200" y="10800"/>
                  <a:pt x="10800" y="10901"/>
                  <a:pt x="10800" y="11002"/>
                </a:cubicBezTo>
                <a:lnTo>
                  <a:pt x="10800" y="21398"/>
                </a:lnTo>
                <a:cubicBezTo>
                  <a:pt x="10800" y="2149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ight Brace 17"/>
          <p:cNvSpPr/>
          <p:nvPr/>
        </p:nvSpPr>
        <p:spPr>
          <a:xfrm rot="16200000">
            <a:off x="1396800" y="4349160"/>
            <a:ext cx="289080" cy="130824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1308240"/>
              <a:gd name="textAreaBottom" fmla="*/ 1301040 h 13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9"/>
                  <a:pt x="10800" y="398"/>
                </a:cubicBezTo>
                <a:lnTo>
                  <a:pt x="10800" y="10402"/>
                </a:lnTo>
                <a:cubicBezTo>
                  <a:pt x="10800" y="10601"/>
                  <a:pt x="16200" y="10800"/>
                  <a:pt x="21600" y="10800"/>
                </a:cubicBezTo>
                <a:cubicBezTo>
                  <a:pt x="16200" y="10800"/>
                  <a:pt x="10800" y="10999"/>
                  <a:pt x="10800" y="11198"/>
                </a:cubicBezTo>
                <a:lnTo>
                  <a:pt x="10800" y="21202"/>
                </a:lnTo>
                <a:cubicBezTo>
                  <a:pt x="10800" y="214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6425280" y="447372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nus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1011960" y="452916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nus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6:15:07Z</dcterms:created>
  <dc:creator>Miska Hannuksela</dc:creator>
  <dc:description/>
  <dc:language>en-US</dc:language>
  <cp:lastModifiedBy>Miska Hannuksela</cp:lastModifiedBy>
  <dcterms:modified xsi:type="dcterms:W3CDTF">2012-07-11T15:23:58Z</dcterms:modified>
  <cp:revision>18</cp:revision>
  <dc:subject/>
  <dc:title>JCTVC-I0069 APS error resilience and  partial upda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kiaConfidentiality">
    <vt:lpwstr>Public</vt:lpwstr>
  </property>
  <property fmtid="{D5CDD505-2E9C-101B-9397-08002B2CF9AE}" pid="3" name="TitusGUID">
    <vt:lpwstr>9ed3f25d-14e2-4d3b-b421-6c5e4c220879</vt:lpwstr>
  </property>
</Properties>
</file>