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D69D-4763-48F8-BD1D-A07BB21F6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7A71-4102-4F28-8429-7E235086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E36C-4A01-4E00-9A5E-F6C1019D3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8D3E-0B64-478B-A796-5B4AF22C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7D51-5CED-4BAF-9255-AF0D4C20A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9FAA-B106-4B8B-B4BC-AC28810E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E35C-A6EE-45D1-83A7-D178843A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ACD1-A2AF-4BE1-9FB6-E71A4BDB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C5A7-FC4E-42E9-8BA3-67B206CF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93BC-F693-4841-AB40-878ACB96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84E1-42D1-4822-A8F3-75DAFF44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C443-11AA-423A-8767-59D2EC2C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5C4E-8325-45E2-A2C4-DEA437E0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8643-14A6-4DFC-8D0A-FC6B8434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D960-AF3F-44B7-8502-E7BD1091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F3EF-8EE5-4285-B505-E51B1709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721A-599F-4165-92DD-79DA89519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A5A4-66B7-41C8-B66D-ECFF4997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589D-576F-4695-8AFB-170BBAE1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991C-0DC0-44C6-B836-EDD3C641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B6F4-827A-476C-AFF7-54D949B9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CE6C-801C-4CFE-82F6-D04F173A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0B45-CE45-4865-A12F-062C8C1E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3437-76A1-4750-A464-3AA03EAF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4624-E1C8-4206-AA2F-54DAA9B71BB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CTVC-J00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0036-5A42-4FEA-8851-331B59FF74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c"/>
          <p:cNvSpPr/>
          <p:nvPr/>
        </p:nvSpPr>
        <p:spPr>
          <a:xfrm>
            <a:off x="0" y="66420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c"/>
          <p:cNvSpPr/>
          <p:nvPr/>
        </p:nvSpPr>
        <p:spPr>
          <a:xfrm>
            <a:off x="0" y="66420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fc"/>
          <p:cNvSpPr/>
          <p:nvPr/>
        </p:nvSpPr>
        <p:spPr>
          <a:xfrm>
            <a:off x="0" y="66420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C65A-C1B9-4FB1-ADB3-7643B98A0FD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CTVC-J00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BEA9-72BF-4EE7-8191-92D07EADD3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Calibri"/>
              </a:rPr>
              <a:t>JCTVC-J007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HG9 High-Level Syntax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S loss det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Miska M. Hannuksela</a:t>
            </a:r>
            <a:br>
              <a:rPr sz="3200"/>
            </a:br>
            <a:r>
              <a:rPr b="0" lang="en-CA" sz="3200" spc="-1" strike="noStrike">
                <a:solidFill>
                  <a:srgbClr val="898989"/>
                </a:solidFill>
                <a:latin typeface="Calibri"/>
              </a:rPr>
              <a:t>Nokia Research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Problem Set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ability to detect APS loss, usage of wrong 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ppens when a lost APS re-used an aps_id value (ID1) that had already been used earlier by another A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equently, the decoder interprets any reference to the aps_id value ID1 to the previous APS NAL unit using the same aps_id valu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CTVC-J00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JCTVC-I0069: a constraint to the aps_id values that enabled to detect losses of APS NAL un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Re-proposed in this contrib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The proposed constraint is analogous to the max POC difference constra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n Geneva, JCTVC-I0069 received the commen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A problem for splicing, as the range in which the APS IDs would fall after the splice point is not under the control of the enco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An alternative loss detection suggestion was to send a parameter set checksum in an SEI mess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CTVC-J00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otivation for Re-propo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issue with splicing has been solved similarly to what is done for POC, i.e. the aps_id constraint is “reset” at IDR and BLA access un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Proposed aps_id constraint and the parameter set checksum SEI have different strengt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Proposed aps_id constraint provides a basic level of error resilience without implementation or RD c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Parameter set checksum SEI is optional for both encoders and decoders and is helpful only if both ends use the mechan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Parameter set checksum SEI may enable detecting parameter set losses quicker than the proposed aps_id constra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Decoders may deallocate memory based on parameter set checksum SE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i-FI" sz="1800" spc="-1" strike="noStrike">
                <a:solidFill>
                  <a:srgbClr val="000000"/>
                </a:solidFill>
                <a:latin typeface="Calibri"/>
              </a:rPr>
              <a:t>the mechanisms complement each oth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CTVC-J00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PS Loss Det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max_aps_id given in SPS: aps_id has the range of 0 to max_aps_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max_aps_id_diff given in SPS: a range of aps_id values that are considered “used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The range is relative to the maximum used aps_id val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An APS in the “used” range can be retransmitted (for error resilienc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A new APS must use an aps_id from the “unused” range (usually increment by 1 in modulo arithmeti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When maximum used aps_id value is updated, the APSes that fall outside the window of “used aps_id values” are marked as unavailable – hence, no accidental re-use of an APS can happ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traight Connector 4"/>
          <p:cNvSpPr/>
          <p:nvPr/>
        </p:nvSpPr>
        <p:spPr>
          <a:xfrm>
            <a:off x="900000" y="5292720"/>
            <a:ext cx="7344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751680" y="5292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7673400" y="529596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max_aps_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5069520" y="536580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Max used 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aps_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traight Connector 9"/>
          <p:cNvSpPr/>
          <p:nvPr/>
        </p:nvSpPr>
        <p:spPr>
          <a:xfrm flipV="1">
            <a:off x="5637240" y="5199120"/>
            <a:ext cx="0" cy="164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traight Connector 11"/>
          <p:cNvSpPr/>
          <p:nvPr/>
        </p:nvSpPr>
        <p:spPr>
          <a:xfrm flipV="1">
            <a:off x="2195640" y="5213520"/>
            <a:ext cx="0" cy="16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ight Brace 12"/>
          <p:cNvSpPr/>
          <p:nvPr/>
        </p:nvSpPr>
        <p:spPr>
          <a:xfrm rot="5400000">
            <a:off x="3772080" y="4363920"/>
            <a:ext cx="287280" cy="344016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3440160"/>
              <a:gd name="textAreaBottom" fmla="*/ 3432960 h 344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"/>
                  <a:pt x="10800" y="150"/>
                </a:cubicBezTo>
                <a:lnTo>
                  <a:pt x="10800" y="10650"/>
                </a:lnTo>
                <a:cubicBezTo>
                  <a:pt x="10800" y="10725"/>
                  <a:pt x="16200" y="10800"/>
                  <a:pt x="21600" y="10800"/>
                </a:cubicBezTo>
                <a:cubicBezTo>
                  <a:pt x="16200" y="10800"/>
                  <a:pt x="10800" y="10875"/>
                  <a:pt x="10800" y="10950"/>
                </a:cubicBezTo>
                <a:lnTo>
                  <a:pt x="10800" y="21450"/>
                </a:lnTo>
                <a:cubicBezTo>
                  <a:pt x="10800" y="2152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3058560" y="615636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max_aps_id_dif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ight Brace 14"/>
          <p:cNvSpPr/>
          <p:nvPr/>
        </p:nvSpPr>
        <p:spPr>
          <a:xfrm rot="16200000">
            <a:off x="3772440" y="3283200"/>
            <a:ext cx="289080" cy="3440160"/>
          </a:xfrm>
          <a:custGeom>
            <a:avLst/>
            <a:gdLst>
              <a:gd name="textAreaLeft" fmla="*/ 0 w 289080"/>
              <a:gd name="textAreaRight" fmla="*/ 104400 w 289080"/>
              <a:gd name="textAreaTop" fmla="*/ 7200 h 3440160"/>
              <a:gd name="textAreaBottom" fmla="*/ 3432960 h 344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6"/>
                  <a:pt x="10800" y="151"/>
                </a:cubicBezTo>
                <a:lnTo>
                  <a:pt x="10800" y="10649"/>
                </a:lnTo>
                <a:cubicBezTo>
                  <a:pt x="10800" y="10725"/>
                  <a:pt x="16200" y="10800"/>
                  <a:pt x="21600" y="10800"/>
                </a:cubicBezTo>
                <a:cubicBezTo>
                  <a:pt x="16200" y="10800"/>
                  <a:pt x="10800" y="10876"/>
                  <a:pt x="10800" y="10951"/>
                </a:cubicBezTo>
                <a:lnTo>
                  <a:pt x="10800" y="21449"/>
                </a:lnTo>
                <a:cubicBezTo>
                  <a:pt x="10800" y="2152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2878920" y="4513320"/>
            <a:ext cx="21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used aps_id values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ight Brace 16"/>
          <p:cNvSpPr/>
          <p:nvPr/>
        </p:nvSpPr>
        <p:spPr>
          <a:xfrm rot="16200000">
            <a:off x="6810480" y="3724200"/>
            <a:ext cx="288720" cy="2578320"/>
          </a:xfrm>
          <a:custGeom>
            <a:avLst/>
            <a:gdLst>
              <a:gd name="textAreaLeft" fmla="*/ 0 w 288720"/>
              <a:gd name="textAreaRight" fmla="*/ 104040 w 288720"/>
              <a:gd name="textAreaTop" fmla="*/ 7200 h 2578320"/>
              <a:gd name="textAreaBottom" fmla="*/ 2571120 h 257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1"/>
                  <a:pt x="10800" y="202"/>
                </a:cubicBezTo>
                <a:lnTo>
                  <a:pt x="10800" y="10598"/>
                </a:lnTo>
                <a:cubicBezTo>
                  <a:pt x="10800" y="10699"/>
                  <a:pt x="16200" y="10800"/>
                  <a:pt x="21600" y="10800"/>
                </a:cubicBezTo>
                <a:cubicBezTo>
                  <a:pt x="16200" y="10800"/>
                  <a:pt x="10800" y="10901"/>
                  <a:pt x="10800" y="11002"/>
                </a:cubicBezTo>
                <a:lnTo>
                  <a:pt x="10800" y="21398"/>
                </a:lnTo>
                <a:cubicBezTo>
                  <a:pt x="10800" y="2149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ight Brace 17"/>
          <p:cNvSpPr/>
          <p:nvPr/>
        </p:nvSpPr>
        <p:spPr>
          <a:xfrm rot="16200000">
            <a:off x="1396800" y="4349160"/>
            <a:ext cx="289080" cy="1308240"/>
          </a:xfrm>
          <a:custGeom>
            <a:avLst/>
            <a:gdLst>
              <a:gd name="textAreaLeft" fmla="*/ 0 w 289080"/>
              <a:gd name="textAreaRight" fmla="*/ 104400 w 289080"/>
              <a:gd name="textAreaTop" fmla="*/ 7200 h 1308240"/>
              <a:gd name="textAreaBottom" fmla="*/ 1301040 h 130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9"/>
                  <a:pt x="10800" y="398"/>
                </a:cubicBezTo>
                <a:lnTo>
                  <a:pt x="10800" y="10402"/>
                </a:lnTo>
                <a:cubicBezTo>
                  <a:pt x="10800" y="10601"/>
                  <a:pt x="16200" y="10800"/>
                  <a:pt x="21600" y="10800"/>
                </a:cubicBezTo>
                <a:cubicBezTo>
                  <a:pt x="16200" y="10800"/>
                  <a:pt x="10800" y="10999"/>
                  <a:pt x="10800" y="11198"/>
                </a:cubicBezTo>
                <a:lnTo>
                  <a:pt x="10800" y="21202"/>
                </a:lnTo>
                <a:cubicBezTo>
                  <a:pt x="10800" y="214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8"/>
          <p:cNvSpPr/>
          <p:nvPr/>
        </p:nvSpPr>
        <p:spPr>
          <a:xfrm>
            <a:off x="6425280" y="4473720"/>
            <a:ext cx="10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unused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9"/>
          <p:cNvSpPr/>
          <p:nvPr/>
        </p:nvSpPr>
        <p:spPr>
          <a:xfrm>
            <a:off x="1011960" y="4529160"/>
            <a:ext cx="10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unused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ooter Placeholder 2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CTVC-J00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8"/>
          <p:cNvSpPr/>
          <p:nvPr/>
        </p:nvSpPr>
        <p:spPr>
          <a:xfrm>
            <a:off x="6155280" y="6156360"/>
            <a:ext cx="27943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Constraint: max_aps_id_diff * 2</a:t>
            </a:r>
            <a:br>
              <a:rPr sz="1600"/>
            </a:b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 shall be less than max_aps_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8T06:15:07Z</dcterms:created>
  <dc:creator>Miska Hannuksela</dc:creator>
  <dc:description/>
  <dc:language>en-US</dc:language>
  <cp:lastModifiedBy>Miska Hannuksela</cp:lastModifiedBy>
  <dcterms:modified xsi:type="dcterms:W3CDTF">2012-07-14T12:31:22Z</dcterms:modified>
  <cp:revision>21</cp:revision>
  <dc:subject/>
  <dc:title>JCTVC-I0069 APS error resilience and  partial upda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kiaConfidentiality">
    <vt:lpwstr>Public</vt:lpwstr>
  </property>
  <property fmtid="{D5CDD505-2E9C-101B-9397-08002B2CF9AE}" pid="3" name="TitusGUID">
    <vt:lpwstr>9ed3f25d-14e2-4d3b-b421-6c5e4c220879</vt:lpwstr>
  </property>
</Properties>
</file>