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45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F8F4-E0E6-45AE-B426-45705F027BD1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9344-3372-4349-9CB1-22D1B0A4466E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D88-017E-4364-AB12-770D00505940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6BBE-EB9C-4FE6-BE56-356B7D88991E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0991-E864-42FD-B185-989CC40EBC09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EAB4-D62D-46EC-BA82-EDE3B2769D06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43C2-7F36-478E-B0D4-45D34FDD09A1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4B9C-6F50-4E64-81C3-4313DC657C45}" type="slidenum">
              <a:rPr b="0" lang="en-GB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11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91720" y="177300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1088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511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91720" y="3803760"/>
            <a:ext cx="25142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10880" y="404280"/>
            <a:ext cx="7808760" cy="45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2280" y="380376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08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2280" y="1773000"/>
            <a:ext cx="381060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0880" y="3803760"/>
            <a:ext cx="78087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1533-A6B8-467F-B4EA-EE862C29913E}" type="slidenum">
              <a:rPr b="0" lang="en-GB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11240" y="6407280"/>
            <a:ext cx="24876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titre de la pré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62"/>
          <p:cNvSpPr/>
          <p:nvPr/>
        </p:nvSpPr>
        <p:spPr>
          <a:xfrm>
            <a:off x="3632040" y="6408720"/>
            <a:ext cx="2795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Helvetica 55 Roman"/>
              </a:rPr>
              <a:t>interne France T</a:t>
            </a:r>
            <a:r>
              <a:rPr b="0" lang="en-US" sz="1000" spc="-1" strike="noStrike">
                <a:solidFill>
                  <a:srgbClr val="000000"/>
                </a:solidFill>
                <a:latin typeface="Helvetica 55 Roman"/>
              </a:rPr>
              <a:t>élécom - Orange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RGB_logo"/>
          <p:cNvPicPr/>
          <p:nvPr/>
        </p:nvPicPr>
        <p:blipFill>
          <a:blip r:embed="rId2"/>
          <a:stretch/>
        </p:blipFill>
        <p:spPr>
          <a:xfrm>
            <a:off x="8101080" y="5877000"/>
            <a:ext cx="718920" cy="71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3900960" y="645804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JCTVC-006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1010880" y="1773000"/>
            <a:ext cx="78087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0880" y="184428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Helvetica 35 Thin"/>
              </a:rPr>
              <a:t>SAO CABAC Context Initialisation to Reduce Parallel Encoding Losses</a:t>
            </a: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Helvetica 35 Thin"/>
              </a:rPr>
              <a:t>JCTVC-0062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10880" y="4939920"/>
            <a:ext cx="780876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 – Orange Lab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at we observed in HM7 compared with HM6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04920" y="1773360"/>
            <a:ext cx="7089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Increased losses in RA for parallel processing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349200" y="4565520"/>
          <a:ext cx="602316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565520"/>
                    <a:ext cx="602316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636480" y="2836800"/>
          <a:ext cx="602316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480" y="2836800"/>
                    <a:ext cx="60231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ZoneTexte 5"/>
          <p:cNvSpPr/>
          <p:nvPr/>
        </p:nvSpPr>
        <p:spPr>
          <a:xfrm>
            <a:off x="3213360" y="2435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il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2923920" y="416412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PP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36" name="Connecteur droit avec flèche 14"/>
          <p:cNvCxnSpPr/>
          <p:nvPr/>
        </p:nvCxnSpPr>
        <p:spPr>
          <a:xfrm flipH="1">
            <a:off x="5054040" y="355104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7" name="ZoneTexte 15"/>
          <p:cNvSpPr/>
          <p:nvPr/>
        </p:nvSpPr>
        <p:spPr>
          <a:xfrm>
            <a:off x="5342040" y="33354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0.8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38" name="Connecteur droit avec flèche 16"/>
          <p:cNvCxnSpPr/>
          <p:nvPr/>
        </p:nvCxnSpPr>
        <p:spPr>
          <a:xfrm flipH="1">
            <a:off x="4460400" y="52718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ZoneTexte 17"/>
          <p:cNvSpPr/>
          <p:nvPr/>
        </p:nvSpPr>
        <p:spPr>
          <a:xfrm>
            <a:off x="4749840" y="5056200"/>
            <a:ext cx="11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+0.4%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hat we found 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11240" y="1773360"/>
            <a:ext cx="708984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traced it down to a badly initialized Cabac contex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Badly initialized contexts are more evident i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Methods that often re-initialize contexts (slices, tiles, entropy slices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Methods that do not re-initialize contexts but have a slower learning of probabilities (WPP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e have not tested the presence of the problem with slices and entropy slices but we suspect that the same behaviour will be observ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 context initialization change is proposed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1240" y="1125000"/>
            <a:ext cx="7664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91520" indent="-1915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Prior to HM7, SAO information was encoded in a separate APS packet. 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1520" indent="-1915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From HM7, SAO information is encoded in the slice data using dedicated CABAC contexts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1520" indent="-19152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We propose to change the initializations of SAO contexts to “end of range” values that produce better result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-28260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Current table (slope,offset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0320" indent="-28260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Proposed table (slope,offset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1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1520" indent="0"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44" name="Object 25"/>
          <p:cNvGraphicFramePr/>
          <p:nvPr/>
        </p:nvGraphicFramePr>
        <p:xfrm>
          <a:off x="1546200" y="3246480"/>
          <a:ext cx="605016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3246480"/>
                    <a:ext cx="605016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6"/>
          <p:cNvGraphicFramePr/>
          <p:nvPr/>
        </p:nvGraphicFramePr>
        <p:xfrm>
          <a:off x="1349280" y="5072040"/>
          <a:ext cx="6050160" cy="14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9280" y="5072040"/>
                    <a:ext cx="60501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erformanc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11240" y="1052280"/>
            <a:ext cx="7664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marL="139320" indent="-13932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ommon condition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-205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iles (using HM7r2445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-205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PP (using HM7)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-205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Similar behaviour expected for multiple slices but not tested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39320" indent="-13932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reference is slightly improved and the parallel version shows greater improvemen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39320" indent="-13932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is brings the rate-distortion performance of tiles and WPP almost to the level of HM6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52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150" name="Object 166"/>
          <p:cNvGraphicFramePr/>
          <p:nvPr/>
        </p:nvGraphicFramePr>
        <p:xfrm>
          <a:off x="611280" y="3554280"/>
          <a:ext cx="7505640" cy="24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1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554280"/>
                    <a:ext cx="750564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67"/>
          <p:cNvGraphicFramePr/>
          <p:nvPr/>
        </p:nvGraphicFramePr>
        <p:xfrm>
          <a:off x="1014480" y="1895400"/>
          <a:ext cx="7103880" cy="200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1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1895400"/>
                    <a:ext cx="7103880" cy="20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10880" y="404280"/>
            <a:ext cx="7808760" cy="9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11240" y="1412640"/>
            <a:ext cx="7377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blem: In HM7, an increase of RD penalty of tiles and WPP was observed in Random Access configurations compared with HM6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is was traced down to badly initialized SAO contexts introduced during last meeting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proposed new initializations use « end of range » valu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is solves most of the proble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performance in Main settings (non-parallel) is unaffected or slightly improv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rosscheck performed by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9640" indent="-2340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LGE in JCTVC-0401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9640" indent="-2340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Qualcomm in JCTVC-0455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-15876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suggest to adopt this proposal in the standar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296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5876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10880" y="177300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6600"/>
                </a:solidFill>
                <a:latin typeface="Helvetica 35 Thin"/>
              </a:rPr>
              <a:t>Thank you</a:t>
            </a:r>
            <a:endParaRPr b="0" lang="en-US" sz="48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JCTVC-I0529</cp:lastModifiedBy>
  <cp:lastPrinted>2006-12-15T12:06:31Z</cp:lastPrinted>
  <dcterms:modified xsi:type="dcterms:W3CDTF">2012-07-11T10:48:52Z</dcterms:modified>
  <cp:revision>301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