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Click to move the slide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BB6D-95BF-45B0-9462-ADA7404CE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F030-4C31-4EAB-8C94-0134A6A23270}" type="slidenum">
              <a:rPr b="0" lang="en-US" sz="1300" spc="-1" strike="noStrike">
                <a:solidFill>
                  <a:srgbClr val="1e1e1e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1EC7D213-D900-4E38-BFC7-EDA17F2A3C0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733400" y="601560"/>
            <a:ext cx="3494160" cy="2619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236160" y="3349800"/>
            <a:ext cx="6567480" cy="52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Click to edit the title text format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2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3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5" name="Text Box 14"/>
          <p:cNvSpPr/>
          <p:nvPr/>
        </p:nvSpPr>
        <p:spPr>
          <a:xfrm>
            <a:off x="8553600" y="648252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4FB0-FBF6-43BF-B9B7-4479E92CF939}" type="slidenum">
              <a:rPr b="1" lang="en-US" sz="900" spc="-1" strike="noStrike">
                <a:solidFill>
                  <a:srgbClr val="e31b2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8096400" y="6445080"/>
            <a:ext cx="41904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31b23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TextBox 1"/>
          <p:cNvSpPr/>
          <p:nvPr/>
        </p:nvSpPr>
        <p:spPr>
          <a:xfrm>
            <a:off x="678600" y="6359040"/>
            <a:ext cx="204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Arial"/>
              </a:rPr>
              <a:t>© 2011 Motorola Mobility, Inc.</a:t>
            </a:r>
            <a:endParaRPr b="0" lang="en-US" sz="11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127080" y="4102200"/>
            <a:ext cx="8888400" cy="2562120"/>
          </a:xfrm>
          <a:prstGeom prst="rect">
            <a:avLst/>
          </a:prstGeom>
          <a:solidFill>
            <a:srgbClr val="b512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45" name="Group 12"/>
          <p:cNvGrpSpPr/>
          <p:nvPr/>
        </p:nvGrpSpPr>
        <p:grpSpPr>
          <a:xfrm>
            <a:off x="8244000" y="4403880"/>
            <a:ext cx="518760" cy="521640"/>
            <a:chOff x="8244000" y="4403880"/>
            <a:chExt cx="518760" cy="521640"/>
          </a:xfrm>
        </p:grpSpPr>
        <p:sp>
          <p:nvSpPr>
            <p:cNvPr id="46" name="Oval 13"/>
            <p:cNvSpPr/>
            <p:nvPr/>
          </p:nvSpPr>
          <p:spPr>
            <a:xfrm>
              <a:off x="8268840" y="4434480"/>
              <a:ext cx="479520" cy="46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47" name="Freeform 22"/>
            <p:cNvSpPr/>
            <p:nvPr/>
          </p:nvSpPr>
          <p:spPr>
            <a:xfrm>
              <a:off x="8244000" y="4403880"/>
              <a:ext cx="518760" cy="52164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48" name="Rectangle 20"/>
          <p:cNvSpPr/>
          <p:nvPr/>
        </p:nvSpPr>
        <p:spPr>
          <a:xfrm>
            <a:off x="378000" y="6323040"/>
            <a:ext cx="5371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OTOROLA and the Stylized M Logo are trademarks or registered trademarks of Motorola Trademark Holdings, LLC. All other trademarks are the property of their respective owners.  © 2011 Motorola Mobility, Inc.  All rights reserved.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Click to edit the title text format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32840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e1e1e"/>
                </a:solidFill>
                <a:latin typeface="Klavika Motorola Bold SC"/>
              </a:rPr>
              <a:t>DST quantization matrix for DST in intra prediction </a:t>
            </a:r>
            <a:br>
              <a:rPr sz="4000"/>
            </a:br>
            <a:r>
              <a:rPr b="1" lang="en-US" sz="4000" spc="-1" strike="noStrike">
                <a:solidFill>
                  <a:srgbClr val="1e1e1e"/>
                </a:solidFill>
                <a:latin typeface="Klavika Motorola Bold SC"/>
              </a:rPr>
              <a:t>(JCTVC-I0592)</a:t>
            </a:r>
            <a:br>
              <a:rPr sz="2800"/>
            </a:br>
            <a:endParaRPr b="1" lang="en-US" sz="40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72600" y="4300560"/>
            <a:ext cx="7745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Klavika Motorola Bold SC"/>
              </a:rPr>
              <a:t>Jian Lou, Yue Yu, Vivian Kung, 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Klavika Motorola Bold SC"/>
              </a:rPr>
              <a:t>Krit Panusopone, Limin Wan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Klavika Motorola Bold SC"/>
              </a:rPr>
              <a:t>Motorola Mobility, Inc.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Simulation results (Part 2)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63440" y="1208160"/>
          <a:ext cx="8815320" cy="4730760"/>
        </p:xfrm>
        <a:graphic>
          <a:graphicData uri="http://schemas.openxmlformats.org/drawingml/2006/table">
            <a:tbl>
              <a:tblPr/>
              <a:tblGrid>
                <a:gridCol w="1495440"/>
                <a:gridCol w="1341360"/>
                <a:gridCol w="1144800"/>
                <a:gridCol w="1174680"/>
                <a:gridCol w="1339920"/>
                <a:gridCol w="1146240"/>
                <a:gridCol w="1172880"/>
              </a:tblGrid>
              <a:tr h="4824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Intra Main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Intra HE10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 (8bit)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9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e1e1e"/>
                          </a:solidFill>
                          <a:latin typeface="Arial"/>
                          <a:ea typeface="Times New Roman"/>
                        </a:rPr>
                        <a:t>3.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1.6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1.6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2.0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2.1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Conclusions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Frequent switching problem partially solved by using 2D-DST for intra 4x4 luma TU (JCTVC-I0582)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Using 2D-DST for all intra 4x4 TU removes all transform matrix switching under 8x8 TU level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Using DST based Q matrix when 2D-DST is used improves subject quality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0" y="1992240"/>
            <a:ext cx="9144000" cy="28735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2385000" y="1434960"/>
            <a:ext cx="4326120" cy="1008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445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e1e1e"/>
                </a:solidFill>
                <a:latin typeface="Arial"/>
              </a:rPr>
              <a:t>Thank You!</a:t>
            </a:r>
            <a:endParaRPr b="0" lang="en-US" sz="6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Introduction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JCTVC-I0268 proposes 3 additional Q matrix to support mode dependent transform (DST/DCT, DCT/DST, DST/DST)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Concerns raised about Q matrix switching at 4x4 TU level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Switching problem also happens in mode dependent transform for intra 4x4 luma TU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JCTVC-I0582 proposes using 2D-DST for all intra 4x4 luma prediction modes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2328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445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Suggested Modifications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Two modifications based on JCTVC-I0582; 2D-DST used for intra 4x4 luma TU instead of combination of DST/DCT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First modification uses DST based Q matrix instead of current DCT based Q matrix for intra 4x4 luma TU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Second modification uses 2D-DST for intra 4x4 chroma TU in addition to intra 4x4 luma TU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24112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445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445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445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445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First modification (DST Q matrix)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78000" y="1512720"/>
            <a:ext cx="8386560" cy="39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DST based Q matrix is used for intra 4x4 luma TU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(same as in JCTVC-I0268)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445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969920" y="2836800"/>
          <a:ext cx="4853160" cy="3200400"/>
        </p:xfrm>
        <a:graphic>
          <a:graphicData uri="http://schemas.openxmlformats.org/drawingml/2006/table">
            <a:tbl>
              <a:tblPr/>
              <a:tblGrid>
                <a:gridCol w="1212840"/>
                <a:gridCol w="1214640"/>
                <a:gridCol w="1212840"/>
                <a:gridCol w="1212840"/>
              </a:tblGrid>
              <a:tr h="80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e1e1e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endParaRPr b="0" lang="en-US" sz="2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e1e1e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endParaRPr b="0" lang="en-US" sz="2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e1e1e"/>
                          </a:solidFill>
                          <a:latin typeface="Times New Roman"/>
                          <a:ea typeface="SimSun"/>
                        </a:rPr>
                        <a:t>8</a:t>
                      </a:r>
                      <a:endParaRPr b="0" lang="en-US" sz="2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e1e1e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endParaRPr b="0" lang="en-US" sz="2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e1e1e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endParaRPr b="0" lang="en-US" sz="2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e1e1e"/>
                          </a:solidFill>
                          <a:latin typeface="Times New Roman"/>
                          <a:ea typeface="SimSun"/>
                        </a:rPr>
                        <a:t>12</a:t>
                      </a:r>
                      <a:endParaRPr b="0" lang="en-US" sz="2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e1e1e"/>
                          </a:solidFill>
                          <a:latin typeface="Times New Roman"/>
                          <a:ea typeface="SimSun"/>
                        </a:rPr>
                        <a:t>15</a:t>
                      </a:r>
                      <a:endParaRPr b="0" lang="en-US" sz="2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e1e1e"/>
                          </a:solidFill>
                          <a:latin typeface="Times New Roman"/>
                          <a:ea typeface="SimSun"/>
                        </a:rPr>
                        <a:t>17</a:t>
                      </a:r>
                      <a:endParaRPr b="0" lang="en-US" sz="2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e1e1e"/>
                          </a:solidFill>
                          <a:latin typeface="Times New Roman"/>
                          <a:ea typeface="SimSun"/>
                        </a:rPr>
                        <a:t>8</a:t>
                      </a:r>
                      <a:endParaRPr b="0" lang="en-US" sz="2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e1e1e"/>
                          </a:solidFill>
                          <a:latin typeface="Times New Roman"/>
                          <a:ea typeface="SimSun"/>
                        </a:rPr>
                        <a:t>15</a:t>
                      </a:r>
                      <a:endParaRPr b="0" lang="en-US" sz="2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e1e1e"/>
                          </a:solidFill>
                          <a:latin typeface="Times New Roman"/>
                          <a:ea typeface="SimSun"/>
                        </a:rPr>
                        <a:t>29</a:t>
                      </a:r>
                      <a:endParaRPr b="0" lang="en-US" sz="2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e1e1e"/>
                          </a:solidFill>
                          <a:latin typeface="Times New Roman"/>
                          <a:ea typeface="SimSun"/>
                        </a:rPr>
                        <a:t>43</a:t>
                      </a:r>
                      <a:endParaRPr b="0" lang="en-US" sz="2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e1e1e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endParaRPr b="0" lang="en-US" sz="2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e1e1e"/>
                          </a:solidFill>
                          <a:latin typeface="Times New Roman"/>
                          <a:ea typeface="SimSun"/>
                        </a:rPr>
                        <a:t>17</a:t>
                      </a:r>
                      <a:endParaRPr b="0" lang="en-US" sz="2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e1e1e"/>
                          </a:solidFill>
                          <a:latin typeface="Times New Roman"/>
                          <a:ea typeface="SimSun"/>
                        </a:rPr>
                        <a:t>43</a:t>
                      </a:r>
                      <a:endParaRPr b="0" lang="en-US" sz="2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e1e1e"/>
                          </a:solidFill>
                          <a:latin typeface="Times New Roman"/>
                          <a:ea typeface="SimSun"/>
                        </a:rPr>
                        <a:t>87</a:t>
                      </a:r>
                      <a:endParaRPr b="0" lang="en-US" sz="2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Simulation results (Part 1)</a:t>
            </a:r>
            <a:br>
              <a:rPr sz="3200"/>
            </a:br>
            <a:r>
              <a:rPr b="1" lang="en-US" sz="2400" spc="-1" strike="noStrike">
                <a:solidFill>
                  <a:srgbClr val="e31b23"/>
                </a:solidFill>
                <a:latin typeface="Klavika Motorola Bold SC"/>
              </a:rPr>
              <a:t>JCTVC-I0582 with DCT Q matrix</a:t>
            </a:r>
            <a:endParaRPr b="1" lang="en-US" sz="24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819440" y="1704960"/>
            <a:ext cx="5505120" cy="3448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Simulation results (Part 1)</a:t>
            </a:r>
            <a:br>
              <a:rPr sz="3200"/>
            </a:br>
            <a:r>
              <a:rPr b="1" lang="en-US" sz="2400" spc="-1" strike="noStrike">
                <a:solidFill>
                  <a:srgbClr val="e31b23"/>
                </a:solidFill>
                <a:latin typeface="Klavika Motorola Bold SC"/>
              </a:rPr>
              <a:t>JCTVC-I0582 with DST Q matrix</a:t>
            </a:r>
            <a:endParaRPr b="1" lang="en-US" sz="24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814400" y="1690560"/>
            <a:ext cx="5515200" cy="347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Simulation results (Part 1)</a:t>
            </a:r>
            <a:br>
              <a:rPr sz="3200"/>
            </a:br>
            <a:r>
              <a:rPr b="1" lang="en-US" sz="2400" spc="-1" strike="noStrike">
                <a:solidFill>
                  <a:srgbClr val="e31b23"/>
                </a:solidFill>
                <a:latin typeface="Klavika Motorola Bold SC"/>
              </a:rPr>
              <a:t>JCTVC-I0582 with DCT Q matrix</a:t>
            </a:r>
            <a:endParaRPr b="1" lang="en-US" sz="24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523880" y="1704960"/>
            <a:ext cx="6096240" cy="3448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Simulation results (Part 1)</a:t>
            </a:r>
            <a:br>
              <a:rPr sz="3200"/>
            </a:br>
            <a:r>
              <a:rPr b="1" lang="en-US" sz="2400" spc="-1" strike="noStrike">
                <a:solidFill>
                  <a:srgbClr val="e31b23"/>
                </a:solidFill>
                <a:latin typeface="Klavika Motorola Bold SC"/>
              </a:rPr>
              <a:t>JCTVC-I0582 with DST Q matrix </a:t>
            </a:r>
            <a:endParaRPr b="1" lang="en-US" sz="24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519200" y="1695600"/>
            <a:ext cx="6105600" cy="3466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Second modification (DST for chroma)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Use 2D-DST for intra 4x4 chroma TU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Harmonize transform operation with intra 4x4 luma TU; one transform for all intra 4x4 TU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Simplify operation by removing transform matrix switching under 8x8 TU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445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22:14:02Z</dcterms:created>
  <dc:creator>Amanda Cohen</dc:creator>
  <dc:description/>
  <dc:language>en-US</dc:language>
  <cp:lastModifiedBy>MGI1538</cp:lastModifiedBy>
  <cp:lastPrinted>2011-01-13T16:35:06Z</cp:lastPrinted>
  <dcterms:modified xsi:type="dcterms:W3CDTF">2012-05-05T13:18:10Z</dcterms:modified>
  <cp:revision>823</cp:revision>
  <dc:subject/>
  <dc:title>BUSINESS UNIT NAME</dc:title>
</cp:coreProperties>
</file>