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9EA-CA87-4E67-A9C2-70E43C52DA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0723-9DDE-4F4C-9AAD-3D1D813133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0404-F681-4C74-99EC-85CA8FC856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024-C382-4907-A1F2-CD8F776B4B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9555-C3B7-4398-ADD9-83F2CFCE39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334-6F99-458E-9C3E-FE77EC0F1A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3DE4-1992-4A2A-9609-D90BD35968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6F6-4147-4A8B-9CBB-45EB7EE2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15E-D959-4329-83BE-EFDB4BB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5C6-DDDB-4666-A275-51115DBF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CFB-3B7E-4914-91F0-C9BF7143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7A4-514A-4180-9E0A-704A7E83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A89-721C-467A-91B7-1E75908B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5903-A824-4780-B0F7-0E1F76C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20A9-726C-4256-82AA-9949ADB5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5E2-FCFE-4014-AEA4-A8F203B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DD3-32DF-4CA6-894A-A949A78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D3D-4BA1-4DB2-9CD7-EEC342A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75E-67BF-4479-94E4-9AFD5DE6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98D9-1E55-45D3-8ADD-6DF2348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30F8-9C20-4FBB-A92B-F77A6BD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4301-3636-4142-AA69-C9E3AB4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62D9-1085-44DC-85BB-30B63963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60C7-7D9E-48B1-9016-512C96F7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196-0700-4ED8-B8CE-9A49318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867-6548-482D-BAE2-04C8E61B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033-8C85-4187-8025-509B0CF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DF0-EDF6-4539-9CED-15B31EF3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A43-3310-4E3A-9013-6931E96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412-5E74-489F-8FDD-1FCE86E3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4D8-58A6-467E-8CFE-18250DA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C23B-DC40-4D6E-85DE-4A1567106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3745-E50F-4E44-97E5-54D36905D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0EF-2658-48C8-AE94-7BB90ADF4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85760" y="1109520"/>
            <a:ext cx="878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ied context derivation with CABAC context reduction for last position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CTVC-05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360" y="414972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g Zou, Oscar C. Au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ngjing Dai, Xingyu Zhang, Chao P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Out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464-B03B-45CC-93A8-0102D6CFD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11280" y="1700280"/>
            <a:ext cx="8137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 modeling for last significant coefficient positio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context derivation with CABAC context reduction for last positio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Related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51C0-2C98-4349-8EB3-E2E78CCAF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11280" y="1700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M6.0, last significant (none zero) coefficient position coding, compri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positio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position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significant coefficient position is represented by a binary string which consis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first par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cated una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where each bin is encoded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AC contex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le the second par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binary c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-pass coding (no con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039B-481F-44D0-BB7A-B04FAA3F9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70028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1. Last position coding for TU 4x4 L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1547640" y="2225520"/>
            <a:ext cx="6132600" cy="149076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8560" y="386064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2. Last position coding for TU 8x8 L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2"/>
          <a:stretch/>
        </p:blipFill>
        <p:spPr>
          <a:xfrm>
            <a:off x="1547640" y="4362480"/>
            <a:ext cx="61772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75B-2113-40D9-BE3C-9713947D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68360" y="1181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3. Last position coding for TU 16x16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12720" y="3348000"/>
            <a:ext cx="73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4. Last position coding for TU 32x32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1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5977080" cy="1721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2"/>
          <a:stretch/>
        </p:blipFill>
        <p:spPr>
          <a:xfrm>
            <a:off x="1042920" y="3809880"/>
            <a:ext cx="5977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C59-176C-41E5-B9BD-34C48FC50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8360" y="11811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5. The context assignment for each bin in the truncated unary codeword for Lu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tretch/>
        </p:blipFill>
        <p:spPr>
          <a:xfrm>
            <a:off x="892080" y="1846440"/>
            <a:ext cx="68421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574  Propos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2A77-DD6B-4A9C-8856-ED5F704F7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8360" y="11811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ied context derivation with CABAC context reduction for last position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statistics for several bins for TU32x32, and therefore, several bins share the same CABAC contexts (Reducing the CABAC context from 15 to 13 for each direction  x /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179280" y="3098880"/>
            <a:ext cx="42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7. The CABAC context index for each bin of different TU sizes(Total contexts 13  for each direction x/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4840" y="4005360"/>
          <a:ext cx="4151160" cy="2016000"/>
        </p:xfrm>
        <a:graphic>
          <a:graphicData uri="http://schemas.openxmlformats.org/drawingml/2006/table">
            <a:tbl>
              <a:tblPr/>
              <a:tblGrid>
                <a:gridCol w="628560"/>
                <a:gridCol w="399960"/>
                <a:gridCol w="398520"/>
                <a:gridCol w="399960"/>
                <a:gridCol w="400320"/>
                <a:gridCol w="399960"/>
                <a:gridCol w="399960"/>
                <a:gridCol w="399960"/>
                <a:gridCol w="400320"/>
                <a:gridCol w="323640"/>
              </a:tblGrid>
              <a:tr h="4032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Bin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32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4x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32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8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32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16x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32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32x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643280" y="4005360"/>
          <a:ext cx="4321440" cy="2016000"/>
        </p:xfrm>
        <a:graphic>
          <a:graphicData uri="http://schemas.openxmlformats.org/drawingml/2006/table">
            <a:tbl>
              <a:tblPr/>
              <a:tblGrid>
                <a:gridCol w="641520"/>
                <a:gridCol w="407880"/>
                <a:gridCol w="409680"/>
                <a:gridCol w="407880"/>
                <a:gridCol w="409680"/>
                <a:gridCol w="409680"/>
                <a:gridCol w="407880"/>
                <a:gridCol w="409680"/>
                <a:gridCol w="407880"/>
                <a:gridCol w="409680"/>
              </a:tblGrid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Bin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4x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8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16x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32x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新細明體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0" name="矩形 7"/>
          <p:cNvSpPr/>
          <p:nvPr/>
        </p:nvSpPr>
        <p:spPr>
          <a:xfrm>
            <a:off x="4643280" y="309888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8. The CABAC context index for each bin of different TU sizes (15 context for each direction x/y) in JCTVC-I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I0574 Test Condition an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Condition a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chor is HM6.0 with encoding conditions specified in the common test conditions in JCTVC-H1100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results show that there is  negligible loss under the common test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539640" y="1444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st_significant_coeff_x_prefix, ctxIdxInc is derived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xIdxInc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+ (binIdx&gt;&gt;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st_significant_coeff_y_prefix, ctxIdxInc is derived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xIdxInc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+ (binIdx&gt;&gt;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  m = 3* k + ((k+1)&gt;&gt;2)                                                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 = (k+1)&gt;&gt;1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( different from  n = (k+3)&gt;&gt;2   in I03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= log2(TrafoWidth)-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st_significant_coeff_x_prefix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= log2(TrafoHeight)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ast_significant_coeff_y_pref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I0574  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CABAC contexts for significant coefficient position coding (30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,  13.3%) with no significant R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to adopt them into the HEVC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gZou</dc:creator>
  <dc:description/>
  <dc:language>en-US</dc:language>
  <cp:lastModifiedBy>Feng Zou</cp:lastModifiedBy>
  <dcterms:modified xsi:type="dcterms:W3CDTF">2012-05-05T10:23:53Z</dcterms:modified>
  <cp:revision>1503</cp:revision>
  <dc:subject/>
  <dc:title>Edge-based Adaptive Directional Intra Prediction</dc:title>
</cp:coreProperties>
</file>