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DE0-394D-44DF-A8CC-D8154CD3DCBF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DD0-6BA9-40AB-9470-BF950D157CC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303E-D10C-43B0-8AAA-3905D71C867E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2578-CA2F-4E39-B74B-F1E1BDFB3F0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7DF-8D3E-4AD6-ABE7-6B2801B84B9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E6FE-6B39-4A4D-9BD1-429C8F733791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03D-64CB-414E-9E45-F3C633E094B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6DF-2282-4AB4-946C-7D09A72D10EA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1B7-8706-4E3F-B89B-4E1E9570F272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228420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AHG13: Proposed bugfix for tickets 410 and 470 related to lossless coding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JCTVC-I0529</a:t>
            </a:r>
            <a:endParaRPr b="0" lang="en-US" sz="36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920" y="50842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Bug #410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ign Data Hiding (SDH) and lossless must be mutually exclusive at CU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ecause SDH requires that quantization levels can be chang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urrent HM/Text already has a bugfix (JCTVC-I0464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DH is deactivated if lossless flag is on and QP is zero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ncoding and decoding work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Requires QP derivation during parsing proces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Bug #470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ossless coding of a CU happens whe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equence lossless flag is activ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QP’Y is zero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f no residue is encoded, </a:t>
            </a:r>
            <a:r>
              <a:rPr b="1" lang="en-GB" sz="1800" spc="-1" strike="noStrike">
                <a:solidFill>
                  <a:srgbClr val="000000"/>
                </a:solidFill>
                <a:latin typeface="Helvetica 45 Light"/>
              </a:rPr>
              <a:t>cu_qp_delta </a:t>
            </a:r>
            <a:r>
              <a:rPr b="0" lang="en-GB" sz="1800" spc="-1" strike="noStrike">
                <a:solidFill>
                  <a:srgbClr val="000000"/>
                </a:solidFill>
                <a:latin typeface="Helvetica 45 Light"/>
              </a:rPr>
              <a:t>is not cod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 45 Light"/>
              </a:rPr>
              <a:t>Hence, for some CUs, lossless/lossy mode cannot be specifi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Bug #470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6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55640" y="1052640"/>
          <a:ext cx="8064360" cy="525924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Predicted Q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Encoder wants to encode residual inf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Encoder wants block to b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Helvetica 45 Light"/>
                        </a:rPr>
                        <a:t>Con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n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n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n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n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Helvetica 45 Light"/>
                        </a:rPr>
                        <a:t>Lossless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Block is filtered hence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Helvetica 45 Light"/>
                        </a:rPr>
                        <a:t>Lossy is not pos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Block is not filtered (blocking artifac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loss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b050"/>
                          </a:solidFill>
                          <a:latin typeface="Helvetica 45 Light"/>
                        </a:rPr>
                        <a:t>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4"/>
          <p:cNvSpPr/>
          <p:nvPr/>
        </p:nvSpPr>
        <p:spPr>
          <a:xfrm>
            <a:off x="755640" y="3552840"/>
            <a:ext cx="8064360" cy="5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55640" y="5084640"/>
            <a:ext cx="8064360" cy="74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Bug #470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1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Workaround : force the encoder to use a coding mode that produces some residue for the sake of transmitting delta QP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Less efficient from RD point of view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ot always possible because all modes may have zero residue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ode restrictions in encode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624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ntra when prediction area is fl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Slice level flag indicating if lossless coding is enable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If this slice level flag is on, CU level flag indicating if block is lossless or not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dvantag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Bug #410 is fixed by making Sign Data Hiding dependent on the CU level fla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QP derivation is no longer requir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Bug #470 is fixed because lossless coding can be activated / deactivated regardless of the presence of a residu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Lossless coding independent from Q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QP level can be maintained throughout a lossless section of the image, so that a protected lossless area does not disrupt the background QP level (Example: fixed QP with lossless logo)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G197</cp:lastModifiedBy>
  <cp:lastPrinted>2006-12-08T11:02:13Z</cp:lastPrinted>
  <dcterms:modified xsi:type="dcterms:W3CDTF">2012-04-28T19:08:08Z</dcterms:modified>
  <cp:revision>479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