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2E50-E57E-4EC4-82BE-D9E50BDB7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c"/>
          <p:cNvSpPr/>
          <p:nvPr/>
        </p:nvSpPr>
        <p:spPr>
          <a:xfrm>
            <a:off x="0" y="892800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7304-6E4F-4E10-B41B-2BDF29307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1BBC-BCA3-412B-A2A1-EC49D76E9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CF8-77D8-469F-A914-24AF6EC0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6FF2-468A-402D-B48B-51896189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73A-9D08-4462-B24B-0563C550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533-2A49-447C-88CD-18A03957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C8A1-9AB5-47F3-9C68-3531F5A7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1C2C-4E85-4553-9041-2E142CDD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9241-7A52-40BF-8012-C3170DC2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4DD9-0868-4D4F-BE3F-703A7974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7952-D5CE-4BDC-A837-9AC4A68D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7EA3-E855-403A-A91D-C3DB4FC2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41DE-A734-4980-940A-46BBDAA5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000-3344-4A6C-8B64-E7CDF650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C31E-D0F4-4B30-B3F6-34C62589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8B50-0F89-4B03-BB06-7B9FB339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570E-D5A6-48A4-AF72-915BB5D9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97C6-5562-4049-B089-FA59FB70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3A31-0E33-46ED-9BAF-D20AEDAA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DB8F-44D2-4C15-9097-36CA3A0E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552A-825B-4BEC-93F1-0455FF3D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8B1-47C4-4945-ADBF-11AC837E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C5D8-892E-46D0-9DF3-01F27816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6692-A897-4E6F-92D0-D32A547C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2CF4-D975-4A41-9380-D60F82B8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CF2-D8E9-49BD-BD46-C2F3DA50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A042-58EF-4445-ACD2-EFE67054D20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CTVC-I0524 / MPEG M248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8A18-96E5-4D91-ACD4-10BE15B567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B877-778B-4171-AEF4-E3350461D5B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CTVC-I0524 / MPEG M248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B2E2-8026-4EEA-B43A-C9A1928E7B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9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JCTVC-I0524: Hook for scalable extensions: video parameter set</a:t>
            </a:r>
            <a:br>
              <a:rPr sz="4000"/>
            </a:br>
            <a:br>
              <a:rPr sz="4000"/>
            </a:b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MPEG M24896: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DV-HTM high-level syntax: video and sequence parameter set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898989"/>
                </a:solidFill>
                <a:latin typeface="Calibri"/>
              </a:rPr>
              <a:t>Miska M. Hannuksela, </a:t>
            </a:r>
            <a:br>
              <a:rPr sz="3200"/>
            </a:br>
            <a:r>
              <a:rPr b="0" lang="en-CA" sz="3200" spc="-1" strike="noStrike">
                <a:solidFill>
                  <a:srgbClr val="898989"/>
                </a:solidFill>
                <a:latin typeface="Calibri"/>
              </a:rPr>
              <a:t>Dmytro Rusanovskyy</a:t>
            </a:r>
            <a:br>
              <a:rPr sz="3200"/>
            </a:br>
            <a:r>
              <a:rPr b="0" lang="en-CA" sz="3200" spc="-1" strike="noStrike">
                <a:solidFill>
                  <a:srgbClr val="898989"/>
                </a:solidFill>
                <a:latin typeface="Calibri"/>
              </a:rPr>
              <a:t>Nokia Research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000" spc="-1" strike="noStrike">
                <a:solidFill>
                  <a:srgbClr val="000000"/>
                </a:solidFill>
                <a:latin typeface="Calibri"/>
              </a:rPr>
              <a:t>A component sequence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can be for example a texture view, a depth view, or an enhancement layer of spatial/quality scalabilit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Bitstreams compliant with the current non-scalable HEVC design have only one component sequenc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An access unit consists of one or more </a:t>
            </a:r>
            <a:r>
              <a:rPr b="0" i="1" lang="en-CA" sz="3000" spc="-1" strike="noStrike">
                <a:solidFill>
                  <a:srgbClr val="000000"/>
                </a:solidFill>
                <a:latin typeface="Calibri"/>
              </a:rPr>
              <a:t>component pictures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In the current HEVC specification a component picture is the coded picture of an access un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In the future scalable extensions it would be for example a view component, a depth map, or a layer represent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I0524 / MPEG M248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AD5A-FFE2-47EC-81AA-F1BFF70D5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Base Spec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35280" y="1413000"/>
            <a:ext cx="35384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Sequence parameter set (S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Profile and level information remo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Slice hea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The slice header of IDR and CRA pictures is proposed to include an identifier (ref_vps_id) of the active VPS of the coded video seque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4000" y="3141720"/>
          <a:ext cx="4824360" cy="3527280"/>
        </p:xfrm>
        <a:graphic>
          <a:graphicData uri="http://schemas.openxmlformats.org/drawingml/2006/table">
            <a:tbl>
              <a:tblPr/>
              <a:tblGrid>
                <a:gridCol w="4230360"/>
                <a:gridCol w="594000"/>
              </a:tblGrid>
              <a:tr h="321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eo_parameter_set_rbsp( )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_component_sequences_minus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(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_temporal_layers_minus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( i = 0; 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&lt;= max_component_sequences_minus1; i++ )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le_struct(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( j = 0; j &lt; max_temporal_layers_minus1; j++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_idc[ i ]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 j 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(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ps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e(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ps_extension_f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( vps_extension_flag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le( more_rbsp_data( )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ps_extension_data_f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bsp_trailing_bits( 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2" name="Content Placeholder 2"/>
          <p:cNvSpPr/>
          <p:nvPr/>
        </p:nvSpPr>
        <p:spPr>
          <a:xfrm>
            <a:off x="324000" y="1341360"/>
            <a:ext cx="467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Video parameter set (V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ile and level information for bitstream subsets defined for each component seque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Level information for temporal subsets of component sequen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I0524 / MPEG M248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1FAC-131E-47B6-A7AE-490EE4D4C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calable Exten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600200"/>
            <a:ext cx="34671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AL unit heade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erved_one_5bits in the nal_unit syntax structure is re-specified to be called cpd_id_plus1, indicating an identifier for a component sequence/pictu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PS is extended to contai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dependencies between component sequenc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apping of component sequence/picture identifiers to specific scalability properties (e.g. dependency_id, quality_id, view order index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002120" y="1484280"/>
          <a:ext cx="5033880" cy="4907160"/>
        </p:xfrm>
        <a:graphic>
          <a:graphicData uri="http://schemas.openxmlformats.org/drawingml/2006/table">
            <a:tbl>
              <a:tblPr/>
              <a:tblGrid>
                <a:gridCol w="4392720"/>
                <a:gridCol w="64116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ps_extension1_f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( vps_extension1_flag )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( i = 1; 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&lt;= max_component_sequences_minus1; i++ )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_ref_component_seq[ i 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e(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( j = 0; j &lt; num_ref_component_seq; j++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_component_seq_id[ i ][ j 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(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_component_seq_ty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e(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( i = 1; i &lt;= num_component_seq_types; i++ )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nent_sequence_type[ i 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e(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nent_sequence_property_len[ i 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e(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[ i ] = component_sequence_property_len[ i 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( i = 1; 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&lt;= max_component_sequences_minus1; i++ )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nent_sequence_type_idx[ i 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e(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 = component_sequence_type_idx[ i 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nent_sequence_property</a:t>
                      </a:r>
                      <a:r>
                        <a:rPr b="0" lang="fi-F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 i 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(len[tp]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I0524 / MPEG M248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D133-66E6-4F94-BCC2-9D51DC510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3D Scalable 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3640" y="1600200"/>
            <a:ext cx="360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appings of the generic VPS extension to 3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The semantics of two values of component_sequence_type: texture view component, depth view compon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omponent_sequence_property_len = number of bits that covers the maximum number of vie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omponent_sequence_property specifies the view order index within the component sequ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002120" y="1484280"/>
          <a:ext cx="5033880" cy="4907160"/>
        </p:xfrm>
        <a:graphic>
          <a:graphicData uri="http://schemas.openxmlformats.org/drawingml/2006/table">
            <a:tbl>
              <a:tblPr/>
              <a:tblGrid>
                <a:gridCol w="4392720"/>
                <a:gridCol w="64116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ps_extension1_f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( vps_extension1_flag )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( i = 1; 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&lt;= max_component_sequences_minus1; i++ )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_ref_component_seq[ i 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e(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( j = 0; j &lt; num_ref_component_seq; j++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_component_seq_id[ i ][ j 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(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_component_seq_ty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e(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( i = 1; i &lt;= num_component_seq_types; i++ )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nent_sequence_type[ i 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e(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nent_sequence_property_len[ i 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e(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[ i ] = component_sequence_property_len[ i 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( i = 1; 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&lt;= max_component_sequences_minus1; i++ )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nent_sequence_type_idx[ i 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e(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 = component_sequence_type_idx[ i 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nent_sequence_property</a:t>
                      </a:r>
                      <a:r>
                        <a:rPr b="0" lang="fi-F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 i 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(len[tp]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I0524 / MPEG M248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724F-B317-477F-8ADD-9C6339187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8T13:35:04Z</dcterms:created>
  <dc:creator>Miska Hannuksela</dc:creator>
  <dc:description/>
  <dc:language>en-US</dc:language>
  <cp:lastModifiedBy>Miska Hannuksela</cp:lastModifiedBy>
  <dcterms:modified xsi:type="dcterms:W3CDTF">2012-04-28T14:11:5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kiaConfidentiality">
    <vt:lpwstr>Public</vt:lpwstr>
  </property>
  <property fmtid="{D5CDD505-2E9C-101B-9397-08002B2CF9AE}" pid="3" name="TitusGUID">
    <vt:lpwstr>5a98989c-4ada-4742-a501-8c6f5ee58a4a</vt:lpwstr>
  </property>
</Properties>
</file>