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EF93D-9C5A-445C-92B6-5DE6E22A8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BAA1-1D3D-47DE-AEF3-51BDB08D3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BDFB-C05D-4EC8-BC17-82C132282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103F-63BA-4483-810B-D53CBAA08A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47758-1800-4E13-BD9C-751FCB802D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8BB81-DD6C-47FA-B60E-6F1124224D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AA0FE-CD50-49A0-B5F4-47F16C0508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E4DD-DF33-4B5B-9133-C3E8DC4D75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F5EB1-5E9A-479A-B81B-BDD914E59A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7938F-A15F-4346-9800-88F6704819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13CFF-12C4-4A07-9CB8-1192562B75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95C0-AC20-4373-83BF-3421A6A74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6EC71-8FE8-4C04-96B7-B73CB61A80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3BC36-876D-44FF-9E25-0A3B156F4E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4A1D6-6528-4194-A7C3-BEC900AC26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CE10D-AFC0-4A1D-876E-AECB54E2E3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F2111-C388-43F8-BA99-44FA967D6D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3C7-3088-4BBF-9FB8-41AB9B62B0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E0C2-B6AD-48B5-BDE0-BA7BCD9777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52A9-6D75-4858-AC06-027F84A723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8C2D-E856-4A49-BE5D-8E7898F09A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5393-E1AE-4577-8FBD-F2FA1A8D29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3CB3-9278-4FE0-ACC5-05702F9EC3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309-BBF7-4553-A8F5-8B27E9157E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0BC7-15CE-414F-97DA-2AB3ADB7EA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F51-83CF-4D2E-BE15-14A5D0474C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BFD-6050-41C9-A137-2799D5180B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910D-1841-409B-89E4-EC3755D825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AEB2-C5FE-4A08-802A-90FC4ADF6E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538A-61CB-4659-B3B3-DE75FBACE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2B45-D9AF-4440-B757-5D4846378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198B-90F6-4C50-A049-9FE80877F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773E6-8801-49CB-AB68-9C30237D3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DE6B-1839-40B4-A7B7-865D3CDFF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DE93-BA6C-4E18-B2CD-23A78A6E2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C244-FEBD-42DF-9DE6-0747B5179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A468-B919-48B2-8065-D601C4DE64A3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67" descr="Pifl_horiz_RGB_pozi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0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632304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43" name="Picture 8" descr="Pifl_horiz_RGB_pozi"/>
          <p:cNvPicPr/>
          <p:nvPr/>
        </p:nvPicPr>
        <p:blipFill>
          <a:blip r:embed="rId2"/>
          <a:stretch/>
        </p:blipFill>
        <p:spPr>
          <a:xfrm>
            <a:off x="7184880" y="6037200"/>
            <a:ext cx="2592360" cy="168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B5C3-5475-4F2D-AB48-6D087064DC35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83" name="Picture 67" descr="Pifl_horiz_RGB_pozi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0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85" name="テキスト ボックス 6"/>
          <p:cNvSpPr/>
          <p:nvPr/>
        </p:nvSpPr>
        <p:spPr>
          <a:xfrm>
            <a:off x="8408880" y="6535800"/>
            <a:ext cx="1440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CTVC-H0436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3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B5D3-EFE0-4DA5-8300-5F191BDC12B9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69FF-478C-4335-96FB-6310D2B47B88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2130480"/>
            <a:ext cx="84582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CTVC-I0436:</a:t>
            </a:r>
            <a:br>
              <a:rPr sz="20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dified derivation process on motion vector predictor and weighted prediction for HEVC multi-view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870C-4AB8-439D-B99F-4AA3EFC13EBF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roblem statement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72880" y="731880"/>
            <a:ext cx="93600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multi-view video coding, inter-view prediction is helpful to achieve higher coding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if inter-view prediction were introduced on top of the HEVC CD specification only with high-level modifications, scaling calculations for MVP cannot work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nominator and numerator, which are derived from POC difference, could become zer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proposes to modify them without affecting the coding efficiency of single-view video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39800" y="3219480"/>
            <a:ext cx="597708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15440" y="1052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odified derivation process on MVP and weighted prediction is proposed as hooks for future HEVC multi-view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t includes the following three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odified derivation process on spatial M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odified derivation process on temporal M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odified derivation process on weighted prediction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roposed method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7918-1150-495C-9287-3A48A70BF04A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odified derivation process on spatial MVP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72520" y="620640"/>
            <a:ext cx="94330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atial MVP is calculated by using the scaling calculation with POC differences between current picture, current reference picture and reference picture of neighbor 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single-view video coding, the variable td and tb could not become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multi-view video coding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d and tb could become zer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inter-view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ling calculation could not work properly due to division by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d is equal to td, mv of neighbor PU is added into MVP list directly (same as HM6.0 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f either td or tb becomes zero, mv of neighbor PU is not added to MVP li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88880" y="3357720"/>
            <a:ext cx="3816360" cy="253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8520" y="3429000"/>
            <a:ext cx="4700520" cy="3246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65120" y="6001560"/>
            <a:ext cx="455616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x = ( 16384 + (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bs( td 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) ) / td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d = Clip3( −128, 127, PicOrderCntVal – PicOrderCnt( RefPicListListA( refIdxA ) ) )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b = Clip3( −128, 127, PicOrderCntVal – PicOrderCnt( RefPicListLX( refIdxLX ) ) ) 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65F6-0C0F-4A4B-87C5-726060930217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odified derivation process on temporal MVP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72520" y="620640"/>
            <a:ext cx="94330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oral MVP is also calculated by using the scaling calculation with POC differences between current picture, current reference picture, colPic and reference picture of col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single-view video coding, the variable td and tb could not become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multi-view video coding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d and tb could become zer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inter-view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ling calculation could not work properly due to division by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d is equal to td, mv of colPu is added into MVP list directly (same as HM6.0 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f either td or tb becomes zero, mv of colPu is not added to MVP li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2960" y="6001560"/>
            <a:ext cx="49172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x = ( 16384 + (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bs( td 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) ) / td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d = Clip3( −128, 127, PicOrderCnt( colPic ) – RefPicOrderCnt( colPic, refIdxCol, listCol ) )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b = Clip3( −128, 127, PicOrderCntVal – PicOrderCnt( RefPicListLX ( refIdxLX ) ) )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88880" y="3284640"/>
            <a:ext cx="4008600" cy="2525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65600" y="3360600"/>
            <a:ext cx="468648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1EF1-3B95-49FA-A7A5-9722CA7BDF45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odified derivation process on weighted prediction parameters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72520" y="620640"/>
            <a:ext cx="94330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icit weighted prediction parameters are also calculated by using the scaling calculation with POC differences between current picture and current reference picture for L0/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single-view video coding, the variable tb could not become zero and td could be equal to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multi-view coding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b could become zer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d could be equal to t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inter-view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icit weighted prediction for inter-view prediction would not work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f tb becomes zero or td is equal to tb, w0c and w1c are set to 32 (averag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5240" y="6001560"/>
            <a:ext cx="57128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x = ( 16384 + (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bs( td 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) ) / td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d = Clip3( −128, 127, PicOrderCnt( RefPicListL1( refIdxL1 ) ) – PicOrderCnt( RefPicListL0( refIdxL0 ) ) )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b = Clip3( −128, 127, PicOrderCntVal – PicOrderCnt( RefPicListL0( refIdxL0 ) ) )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60520" y="3429000"/>
            <a:ext cx="4044960" cy="2338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881600" y="3284640"/>
            <a:ext cx="468612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CB73-0ADA-4C1F-B00E-46F1777CB7F1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147600" y="572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imulation Result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3" name="テキスト ボックス 6"/>
          <p:cNvSpPr/>
          <p:nvPr/>
        </p:nvSpPr>
        <p:spPr>
          <a:xfrm>
            <a:off x="3584520" y="191628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r: HM6.0 with implicit weighted prediction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44520" y="620640"/>
            <a:ext cx="90597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proposed methods were implemented to HM6.0 softwar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o loss was observed for all test condition in both cases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Proposal would not affect the coding efficiency of single-view video coding 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9240" y="2220840"/>
            <a:ext cx="489888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A66E-FD24-4687-B980-F998FE66B23E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72880" y="731520"/>
            <a:ext cx="92822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high-level modification on top of the HEVC CD specification, denominator or numerator on scaling calculation of MVP could become zero for inter-view predi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resolve this issue, additional conditions are proposed to take care of the case that either denominator or numerator is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hows no loss for all test conditions relative to HM6.0 with implicit weighted prediction since the denominator and the numerator will never become zero for single-view video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view prediction is one of the most important technologies for HEVC multi-view extension to achieve high coding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is proposal could solve the issue without any impact on the coding efficiency of HEVC single-view video coding, we suggest the proposed method be adopted in the DIS of HE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onclusion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01:19Z</dcterms:created>
  <dc:creator>Hisao Sasai</dc:creator>
  <dc:description/>
  <dc:language>en-US</dc:language>
  <cp:lastModifiedBy>全社標準ＰＣ</cp:lastModifiedBy>
  <dcterms:modified xsi:type="dcterms:W3CDTF">2012-04-27T09:38:18Z</dcterms:modified>
  <cp:revision>2282</cp:revision>
  <dc:subject/>
  <dc:title>Title</dc:title>
</cp:coreProperties>
</file>