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3C0D50-7E94-4424-91F5-F16E4443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070F5A-CCB1-48C8-BF3C-E087B898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682E5-3877-4BAD-A3EC-A5DFC837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01D-AD41-44A9-AC35-972BDBFF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8E1-9924-44E8-B542-494EC756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3B5-B646-4D42-B432-D57D4A4B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DE6-CD2A-4AB5-B4DE-00F84713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596-D909-49B9-A0CC-D3A65CFB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60E-5792-4B2E-8884-8DD8F8A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81B-64E8-4114-80DE-6C90EA9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826-2924-4657-A874-B6B2C66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2A5-0565-4EB8-B5BC-D45B099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084-3089-42E2-813A-AD3114A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9F1-9F8A-4723-BDE4-9942C72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56E-2436-4A8B-AB3D-69DA68B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35A9-52F6-4931-83AF-EE2B3955D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0394: Copy Slice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, Andrew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078-BF9A-4C87-B670-77639F555A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C CD supports three slice types  - I Slice, P Slice, B S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a new slice_type – C (Copy Sli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Copy slice type allows very low overhead for signaling that a slice from one frame is a copy of a slice from other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C01-29FE-44C8-896E-8A854C699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s for Copy Slice 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where Copy Slice is useful for efficiently signa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low motion video sequence coded with frame replication: In this case each frame is repeated two or more times. The proposed copy Slice type can signal the repeated frames effici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frame rate upsampler with frame repeat: In LCD televisions a frame rate upsampler may be used to generate higher frame rate sequence from original frame rate sequence (e.g. 60 Hz -&gt; 120Hz). A simple frame rate up-converter may double the frame rate of the video by simply repeating each frame. In some cases this higher frame rate video may be already encoded and transmitted as a 120 Hz video bitstream. In this case the proposed copy slice type can be used for efficient coding of repeated fra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UP Videos with static background: In certain news video segments video of news anchor and a reporter may be shown in 2 windows side by side with static background at the top and bottom of the overall video window. In this case if multiple slices are used per frame a Copy slice type can be used to efficiently code entire slice (at the top/ bottom) as a copy of collocated slice from previous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681-B44C-4EFA-96B4-703FCC689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yntax and Semantics : Slice Hea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803760" cy="533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4035600" cy="1244520"/>
          </a:xfrm>
          <a:prstGeom prst="rect">
            <a:avLst/>
          </a:prstGeom>
          <a:ln w="0">
            <a:noFill/>
          </a:ln>
        </p:spPr>
      </p:pic>
      <p:sp>
        <p:nvSpPr>
          <p:cNvPr id="70" name="Content Placeholder 2"/>
          <p:cNvSpPr/>
          <p:nvPr/>
        </p:nvSpPr>
        <p:spPr>
          <a:xfrm>
            <a:off x="4495680" y="1981080"/>
            <a:ext cx="4114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lice_type is 3 the slice is of type C, i.e. copy slice. In this case following syntax elements are pres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slice_delta_poc_sig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ies the sign of copyslice_delta_poc_minus1. A value of 0 indicates that the sign is positive and a value of 1 indicates that the sign is negati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slice_delta_poc_minu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us 1 specifies an absolute difference between two picture order count values. The value of copyslice_delta_poc_minus1 shall be in the range of 0 to 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− 1, inclusi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89400" y="5562720"/>
            <a:ext cx="470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ondition: Low Delay P Main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 With successive pictures repe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Count for repeated pi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6260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proposed syntax and semantics for a new slice_type – C (Copy Slic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Copy slice type allows improved coding efficiency when a slice from one frame is a copy of a slice from other fr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C156-EFA3-41A5-90E8-8A9C3A2B44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1:42:47Z</dcterms:created>
  <dc:creator>lkerofsky</dc:creator>
  <dc:description/>
  <dc:language>en-US</dc:language>
  <cp:lastModifiedBy>Sachin Deshpande</cp:lastModifiedBy>
  <dcterms:modified xsi:type="dcterms:W3CDTF">2012-04-23T20:55:00Z</dcterms:modified>
  <cp:revision>1030</cp:revision>
  <dc:subject/>
  <dc:title>Slide 1</dc:title>
</cp:coreProperties>
</file>