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3CC0-9CF4-4AF3-BF95-1A050DEACD8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8BCC-0827-4600-8340-CEFB2243AF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5DC-9A0E-4EEA-AD7E-634BB5B9652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12E-0017-4787-B926-48547FAADA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A0F3-1B52-424F-AB4B-50176CF9561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0494-3B3D-4C16-B7D0-CE637DC28FC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33DD-223A-42EF-9824-AF4DE514B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092B-597E-4047-AF56-F8B45B599D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171FF-D43B-4DB3-B015-E9A7F08F1DE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CCC70-E412-4B15-A992-A3F5429A2D4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3180-1863-4CFB-B780-0B31C7F5219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CD4C-55A0-49D8-A3A2-23F8781457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927F-B1A8-4E1A-9855-9A30804DC62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FD0FD-576E-4605-9B8D-DDBEF51FDCF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A990D-5F6B-43BE-BB18-B12194CB43C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6783-8880-4F40-96D0-6F87E037FC0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78415-56E8-4FB4-AF58-6D483F66FE9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070959-295A-416D-B762-A3B3C81C2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7FA4-B4C8-426B-ABBD-62A26A32DF6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ACBC3A-FA0C-4D62-95C6-2087175DB31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04B70-A54A-45D3-AAA7-BA85CCCAD37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51CABA-68C0-49E4-9604-3955CA23B39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AD7C82-C44F-4E7A-A4FC-6208AAEC818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C476F6-E2C8-4D60-A0CF-A1B37127302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44414A-1C3F-47B7-9978-9E248DF99AA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D1E41-A29C-43DA-9CFE-4BA8E34EC31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0F8A63-67A4-45EA-B36C-60F988A467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AB1E4-CFB5-4E77-BDB2-00CE634F2D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22410-7CC4-46D4-A76E-65BFAFE4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C19D-8568-4A26-A54A-6A277726FC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63CB1-B14E-4F7F-A1E8-B8214A8A257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61400D-275F-4E50-A843-81AA0291D55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CC1AE-7237-438F-98F8-77A16B0A7D4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BDF48-FB19-4F83-B9EF-A9DFEBF957E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48981-28AF-4D00-B378-38278BEF93E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CC58D-9A3A-419C-BC4F-FF0B7EF7DDB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17E459-17D5-4E49-B1C6-EAD3021BA1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D7C3C-9190-4987-958D-E98477EDEE9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0AD90-9EA9-4B53-AC02-B1B234DD364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01A8D-A71A-43B4-91DB-12A03133F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B7C30-1DCC-4A77-9A29-9EDE1D02DE6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7D6D7-30AA-4064-908D-ED78F668DB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C4C43-FD35-4009-A859-4E70890734F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63540-AD44-4565-A563-0A47D9DAAEE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7AE4-E683-43D6-B70C-7C226EB700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6C46-C541-4ECB-B376-4E85D52FD40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682F-F955-4C49-B0AD-135EAB159B5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A1BE7-D3F6-4915-88C4-8C6F2B110C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5D85-70C8-41C0-B2A2-65463DCBD6D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28CD-F871-4CE6-B6ED-DEE7BC51EFF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A0456-52E2-4FBF-8412-72B751BB4D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F799-BCCA-4E5E-9CB7-7C5993A067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6E8EE-9391-4538-83B3-590C1695971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21D8-7621-45DD-BAE1-65259FC02D7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1742-A81B-45E9-9CA6-AA7E3A965F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B854A-A68F-46E6-B4C0-91B81AAA33B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6E0A-5C98-4CB8-A70C-39154387DC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CA70-3017-459C-B40B-5BE1AEA623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490FE-FE21-4D42-920A-A6D701E9F6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D441-7F5C-404A-B3F1-C0100FA74D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51EF-FE40-464A-BB93-DE69F6F9F5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B7DD-DBCD-4458-8F05-49E22495F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9604-63D1-4000-8322-3ACEDB8F1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16D7-6EEA-4765-878D-92A0B3649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ADAB-1F4B-4C56-8C8E-92CB0DAC59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B2E46-0F27-4FCB-8DFF-6AA7BCB106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84F3-186B-4045-9355-805A046A14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1B10A-87CD-4E47-8F4A-ADBE0AE89C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394-2C3F-4732-8915-63891DC327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D43-7E38-4EF1-BDCD-A2CBA98C38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424-C7FD-4981-B26A-54BFA16173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609-38F2-4FF6-8FB8-39A3EACBCB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3C8A-627F-47E8-BBDF-D03B4FEBD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0A60-59D5-4609-A468-12B5A60157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5B1-0591-4F65-8115-843659CFD5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2DC-55D2-423A-9ED4-AF6B491F69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FAF-4C4B-4D8A-AE9B-728CAB9019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674-B1C4-4CE9-BE79-2518E7DD56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64A-B2C8-48D0-834A-1FBD523200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A0F-BECD-478B-A0FD-A4B5C4D04D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54C-109F-4258-8E95-D27B436A76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53101-890F-4B8B-9BAC-2B417A6C39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12187-9958-4BB1-B39B-3C4A0920D28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7A121-E365-4231-85E1-C77BB7D51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54A3-1236-46B6-910D-87AD82177F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A5A27-2A8B-42DD-8AF3-B415C33CEB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E5F2E-C935-46D5-88BC-B8D2CAB6C2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1AFE9-47B9-43BF-A548-9B02AD3CAC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8B5E4-EFA1-4070-987A-0650AC5825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0B91BF-ACCB-4282-BB43-F2AE555140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4282E-C727-444D-BF04-4D32F65E20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4A010-A292-4BB1-B8E5-1C970D833F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232F7-05C7-41DB-8E82-CBCC1F3095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F8C51-2E21-4DFA-BE83-CBCD5044299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94F24-F207-47B4-82D7-C17CF0302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2C15-1D9D-4E86-B985-E264D4F660D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1200A-E537-413B-A70F-E0FD8F9DEB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FFDBF-AF10-4669-B9B5-5430DB825DD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DD9A-2873-4DA9-A541-7681F787F6F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1F6FC-DA07-46AD-A468-87CEE216E3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5FFD2-7A8C-4231-8568-AD7065FCAFC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860DD-4CC0-456D-ABD0-36B0B233A7A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AA58D-4C3A-4D54-93FA-9C101E6017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9DA8C8-6252-4187-836D-DFE1823318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D741C-DC8E-40DF-ADAF-BD0D08B3F5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9033-714D-44EA-8393-120549948B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1672-AC94-4F35-9B1F-0C033CDB82D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7D921-60CF-4DA6-978E-41E650CD057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455F-2B3B-4023-87F4-EAEEA518B2F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2EF1-5FFF-4285-B1AB-F0E9AE5FB3F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1FB5-6B5B-4792-B4AA-1E00F81A52E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7EC1-E302-4684-9A33-BDF3BA44E0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1BD-2A34-4B1C-8EE8-35B4463C7D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519E-BD40-430B-A6CA-503A119258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A67A-BDAE-49BD-8F7E-C57C6C3FD4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EACB-6902-467C-81C4-C57A24D2DE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0432-7FF3-475B-ABE6-779012EAD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85CD-A94D-4444-86BF-A8B1F202B9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0FE-CC74-41B8-AB49-F90EBBCA61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55BA-07C2-44FD-9FED-1E7E91D152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42CF-6578-401C-B2FB-5B7CE7F673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B19A5-280B-4A96-A61D-58C298295F2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E3262-CC4F-4945-AD67-3D833A83E26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2CA6B-6338-4EF3-9585-D480F5E58D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34D33-DACE-4590-97CD-EEF661B0FA4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3C94A-560B-44E4-BD17-6EC27C99062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519E82-5984-4FB0-877C-FA3251DBF72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17B57-22F3-48CA-AE38-9E4F0F70C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B88C-DE53-4455-9B78-B8F991438D6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52F15-5D58-4764-ABD4-8C7394AE4AA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0F1D13-B716-4A4D-9740-6DAFE18A54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24FF7C-6FEB-4CF6-A17D-5C1840F85E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84219-B9E3-4DEE-8330-EC87DDD8D7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F2D0C5-1287-4EA4-9E14-C3C194ECC0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C3E3-9A27-4A02-969C-86C122D3FB7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E48BD-CB00-4396-B810-81953658452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5E7CD-A12E-47EB-8E30-CFA4AD49EF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680C1-B378-42DC-BCDC-E632718FACC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2BC6E-DA13-4C60-980B-889F0BDD8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5C4B-7EA9-4D7D-9EAB-FA9E55EBFA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0DFE3-E853-486C-8EC0-81E00E83608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3B719-748F-4146-B5BB-E824017D52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B0A34-A592-4510-A7AD-A8D8E0E2EDE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FA30-4E4E-4206-A2C9-795D76DC00E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99832-2D8B-4ED3-BBF5-6A5DF671896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6C363-31AB-452C-B4DD-574DB27881C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E132B-BD74-43B9-9F97-D91D9DFD1E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33F12-A0D8-48A0-BA69-D1ADAF91CFD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4073-96EA-412C-B2F5-E6CA6FB1537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B2334-A36A-4990-BC79-6BE4F3096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D40C-C3FE-4F7D-8068-B8FB7FD0260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1AD1-49DC-4B34-A62B-C06160B95D4B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F6C-755F-4472-8302-02438D17370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38BE-2C94-4C69-AF02-4BBD4575BE4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1BFE-6ED2-4638-89C6-93D3F23351D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48F2-49D5-439A-BF09-EACA1286202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B848-2C48-48D3-BE9E-4382E22657BF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D309-5950-4734-97CA-8EF5EB15776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0BD3-82E1-43FD-80AD-FE6109CCCEBD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14E4-5015-4E13-8F0B-E5BB43AA417E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5F9F-2779-4688-BE47-4184FBF68C5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CDB2-A76A-497C-870B-2E61C086E58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351-942B-412D-9980-D8F982A662D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301788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420840" y="1479600"/>
            <a:ext cx="81500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JCTVC-I0392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: Segment Based Weak Filtering Deci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"/>
          <p:cNvSpPr/>
          <p:nvPr/>
        </p:nvSpPr>
        <p:spPr>
          <a:xfrm>
            <a:off x="2514600" y="37339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1447920" y="3371760"/>
            <a:ext cx="60958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, Geneva.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April 2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 - May 7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 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765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DLF decisions are segment-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eak filtering, the decision on whether to filter the first samples on either side of the 4-sample-edge is line-b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king this weak filtering decision segment-based, we will simplify the DLF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8CED-DB23-48A1-8E27-2ED97151488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4E9C-AEEF-4F23-B582-9BE8E5C50567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M 6.0 Weak Filtering Decis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38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2960640" y="4003560"/>
            <a:ext cx="1724040" cy="173844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9"/>
          <p:cNvSpPr/>
          <p:nvPr/>
        </p:nvSpPr>
        <p:spPr>
          <a:xfrm>
            <a:off x="457200" y="1219320"/>
            <a:ext cx="845820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of q0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0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taken based on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ed for </a:t>
            </a:r>
            <a:r>
              <a:rPr b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0*t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</a:t>
            </a:r>
            <a:r>
              <a:rPr b="0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ing the same for all 4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e-based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Filtering of q1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1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ch line, if 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0</a:t>
            </a:r>
            <a:r>
              <a:rPr b="1" i="1" lang="en-CA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filtered,</a:t>
            </a:r>
            <a:r>
              <a:rPr b="1" lang="en-CA" sz="1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e-based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decision is taken based on the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q and dp values that are the same for the 4 lines  </a:t>
            </a:r>
            <a:r>
              <a:rPr b="1" lang="en-CA" sz="16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1" lang="en-C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16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57"/>
          <p:cNvCxnSpPr/>
          <p:nvPr/>
        </p:nvCxnSpPr>
        <p:spPr>
          <a:xfrm flipV="1">
            <a:off x="2461680" y="4257000"/>
            <a:ext cx="623160" cy="17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4" name="Straight Arrow Connector 58"/>
          <p:cNvCxnSpPr/>
          <p:nvPr/>
        </p:nvCxnSpPr>
        <p:spPr>
          <a:xfrm flipV="1">
            <a:off x="2831760" y="5138280"/>
            <a:ext cx="253080" cy="79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5" name="TextBox 59"/>
          <p:cNvSpPr/>
          <p:nvPr/>
        </p:nvSpPr>
        <p:spPr>
          <a:xfrm>
            <a:off x="2362320" y="5934240"/>
            <a:ext cx="2921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LINES US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C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Straight Arrow Connector 66"/>
          <p:cNvCxnSpPr/>
          <p:nvPr/>
        </p:nvCxnSpPr>
        <p:spPr>
          <a:xfrm flipV="1">
            <a:off x="2641680" y="4674600"/>
            <a:ext cx="443520" cy="12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7" name="Straight Arrow Connector 74"/>
          <p:cNvCxnSpPr/>
          <p:nvPr/>
        </p:nvCxnSpPr>
        <p:spPr>
          <a:xfrm flipV="1">
            <a:off x="2986200" y="5573160"/>
            <a:ext cx="9576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8" name="TextBox 76"/>
          <p:cNvSpPr/>
          <p:nvPr/>
        </p:nvSpPr>
        <p:spPr>
          <a:xfrm>
            <a:off x="5486400" y="3505320"/>
            <a:ext cx="214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E-BASED DEC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Straight Arrow Connector 22"/>
          <p:cNvCxnSpPr/>
          <p:nvPr/>
        </p:nvCxnSpPr>
        <p:spPr>
          <a:xfrm>
            <a:off x="6513120" y="3745080"/>
            <a:ext cx="10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0" name="Straight Arrow Connector 23"/>
          <p:cNvCxnSpPr/>
          <p:nvPr/>
        </p:nvCxnSpPr>
        <p:spPr>
          <a:xfrm>
            <a:off x="6208200" y="3745080"/>
            <a:ext cx="10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11" name="Picture 1" descr=""/>
          <p:cNvPicPr/>
          <p:nvPr/>
        </p:nvPicPr>
        <p:blipFill>
          <a:blip r:embed="rId2"/>
          <a:stretch/>
        </p:blipFill>
        <p:spPr>
          <a:xfrm>
            <a:off x="5638680" y="4054320"/>
            <a:ext cx="1481400" cy="1636920"/>
          </a:xfrm>
          <a:prstGeom prst="rect">
            <a:avLst/>
          </a:prstGeom>
          <a:ln w="0">
            <a:noFill/>
          </a:ln>
        </p:spPr>
      </p:pic>
      <p:cxnSp>
        <p:nvCxnSpPr>
          <p:cNvPr id="512" name="Straight Arrow Connector 25"/>
          <p:cNvCxnSpPr/>
          <p:nvPr/>
        </p:nvCxnSpPr>
        <p:spPr>
          <a:xfrm flipH="1" flipV="1">
            <a:off x="5790960" y="5690520"/>
            <a:ext cx="29736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3" name="Straight Arrow Connector 26"/>
          <p:cNvCxnSpPr/>
          <p:nvPr/>
        </p:nvCxnSpPr>
        <p:spPr>
          <a:xfrm flipV="1">
            <a:off x="6678720" y="5690520"/>
            <a:ext cx="25596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4" name="TextBox 76"/>
          <p:cNvSpPr/>
          <p:nvPr/>
        </p:nvSpPr>
        <p:spPr>
          <a:xfrm>
            <a:off x="4495680" y="5910120"/>
            <a:ext cx="4106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NE-BASED DECISION  </a:t>
            </a:r>
            <a:r>
              <a:rPr b="1" lang="en-CA" sz="11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&amp;&amp;</a:t>
            </a:r>
            <a:r>
              <a:rPr b="1" lang="en-C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11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</a:t>
            </a:r>
            <a:r>
              <a:rPr b="1" lang="en-CA" sz="11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07B8-5AC7-44BF-8275-F82E7BB263B6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51000"/>
            <a:ext cx="83059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Weak Filtering Decision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9"/>
          <p:cNvSpPr/>
          <p:nvPr/>
        </p:nvSpPr>
        <p:spPr>
          <a:xfrm>
            <a:off x="457200" y="1182600"/>
            <a:ext cx="8305920" cy="25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eak filtering deci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 of q0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0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taken based on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and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alculated using samples from the first and fourth l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verage of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and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to 10*t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</a:t>
            </a:r>
            <a:r>
              <a:rPr b="0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ending on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same for </a:t>
            </a:r>
            <a:r>
              <a:rPr b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4 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62673"/>
                </a:solidFill>
                <a:latin typeface="Wingdings"/>
                <a:ea typeface="Wingdings"/>
              </a:rPr>
              <a:t></a:t>
            </a:r>
            <a:r>
              <a:rPr b="1" lang="en-CA" sz="1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1" lang="en-CA" sz="1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Filtering of q1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1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ch segment, if 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0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p0</a:t>
            </a:r>
            <a:r>
              <a:rPr b="1" i="1" lang="en-CA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filtered,</a:t>
            </a:r>
            <a:r>
              <a:rPr b="1" lang="en-CA" sz="1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CA" sz="14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CA" sz="1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ther decision is taken based on the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q and dp values that are the same for the 4 line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</a:t>
            </a:r>
            <a:r>
              <a:rPr b="1" lang="en-CA" sz="1400" spc="-1" strike="noStrike">
                <a:solidFill>
                  <a:srgbClr val="222268"/>
                </a:solidFill>
                <a:latin typeface="Wingdings"/>
                <a:ea typeface="Wingdings"/>
              </a:rPr>
              <a:t></a:t>
            </a:r>
            <a:r>
              <a:rPr b="1" lang="en-C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CA" sz="1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Straight Arrow Connector 57"/>
          <p:cNvCxnSpPr/>
          <p:nvPr/>
        </p:nvCxnSpPr>
        <p:spPr>
          <a:xfrm flipV="1">
            <a:off x="2733480" y="4571280"/>
            <a:ext cx="5115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0" name="TextBox 59"/>
          <p:cNvSpPr/>
          <p:nvPr/>
        </p:nvSpPr>
        <p:spPr>
          <a:xfrm>
            <a:off x="1612800" y="4957920"/>
            <a:ext cx="323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LINES US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C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Straight Arrow Connector 74"/>
          <p:cNvCxnSpPr/>
          <p:nvPr/>
        </p:nvCxnSpPr>
        <p:spPr>
          <a:xfrm>
            <a:off x="2733840" y="5295960"/>
            <a:ext cx="57636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244680" y="4152960"/>
            <a:ext cx="1613160" cy="1792080"/>
          </a:xfrm>
          <a:prstGeom prst="rect">
            <a:avLst/>
          </a:prstGeom>
          <a:ln w="0">
            <a:noFill/>
          </a:ln>
        </p:spPr>
      </p:pic>
      <p:cxnSp>
        <p:nvCxnSpPr>
          <p:cNvPr id="523" name="Straight Arrow Connector 24"/>
          <p:cNvCxnSpPr/>
          <p:nvPr/>
        </p:nvCxnSpPr>
        <p:spPr>
          <a:xfrm flipH="1">
            <a:off x="5550840" y="3938400"/>
            <a:ext cx="1594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4" name="Straight Arrow Connector 25"/>
          <p:cNvCxnSpPr/>
          <p:nvPr/>
        </p:nvCxnSpPr>
        <p:spPr>
          <a:xfrm>
            <a:off x="6300720" y="3938400"/>
            <a:ext cx="18000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Straight Arrow Connector 26"/>
          <p:cNvCxnSpPr/>
          <p:nvPr/>
        </p:nvCxnSpPr>
        <p:spPr>
          <a:xfrm>
            <a:off x="6179760" y="3938760"/>
            <a:ext cx="10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6" name="Straight Arrow Connector 27"/>
          <p:cNvCxnSpPr/>
          <p:nvPr/>
        </p:nvCxnSpPr>
        <p:spPr>
          <a:xfrm>
            <a:off x="5874840" y="3938760"/>
            <a:ext cx="108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7" name="TextBox 36"/>
          <p:cNvSpPr/>
          <p:nvPr/>
        </p:nvSpPr>
        <p:spPr>
          <a:xfrm>
            <a:off x="4948200" y="3684600"/>
            <a:ext cx="214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SEGMENT-BASED DEC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9" descr=""/>
          <p:cNvPicPr/>
          <p:nvPr/>
        </p:nvPicPr>
        <p:blipFill>
          <a:blip r:embed="rId2"/>
          <a:stretch/>
        </p:blipFill>
        <p:spPr>
          <a:xfrm>
            <a:off x="5299200" y="4264200"/>
            <a:ext cx="1441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Arial"/>
              </a:rPr>
              <a:t>Simulation Results for Main Configur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D534-03A6-4EB1-B46E-8642179F4C9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762120" y="3733920"/>
          <a:ext cx="3429000" cy="1758960"/>
        </p:xfrm>
        <a:graphic>
          <a:graphicData uri="http://schemas.openxmlformats.org/drawingml/2006/table">
            <a:tbl>
              <a:tblPr/>
              <a:tblGrid>
                <a:gridCol w="993600"/>
                <a:gridCol w="812880"/>
                <a:gridCol w="811080"/>
                <a:gridCol w="811440"/>
              </a:tblGrid>
              <a:tr h="1918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952880" y="3733920"/>
          <a:ext cx="3429000" cy="1758960"/>
        </p:xfrm>
        <a:graphic>
          <a:graphicData uri="http://schemas.openxmlformats.org/drawingml/2006/table">
            <a:tbl>
              <a:tblPr/>
              <a:tblGrid>
                <a:gridCol w="993960"/>
                <a:gridCol w="812880"/>
                <a:gridCol w="811080"/>
                <a:gridCol w="811080"/>
              </a:tblGrid>
              <a:tr h="1918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762120" y="1371600"/>
          <a:ext cx="3429000" cy="1811160"/>
        </p:xfrm>
        <a:graphic>
          <a:graphicData uri="http://schemas.openxmlformats.org/drawingml/2006/table">
            <a:tbl>
              <a:tblPr/>
              <a:tblGrid>
                <a:gridCol w="993600"/>
                <a:gridCol w="812880"/>
                <a:gridCol w="811080"/>
                <a:gridCol w="811440"/>
              </a:tblGrid>
              <a:tr h="24444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M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2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3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048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4952880" y="1447920"/>
          <a:ext cx="3429000" cy="1800000"/>
        </p:xfrm>
        <a:graphic>
          <a:graphicData uri="http://schemas.openxmlformats.org/drawingml/2006/table">
            <a:tbl>
              <a:tblPr/>
              <a:tblGrid>
                <a:gridCol w="993960"/>
                <a:gridCol w="812880"/>
                <a:gridCol w="811080"/>
                <a:gridCol w="811080"/>
              </a:tblGrid>
              <a:tr h="24912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1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0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90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500" spc="-1" strike="noStrike">
                <a:solidFill>
                  <a:srgbClr val="000000"/>
                </a:solidFill>
                <a:latin typeface="Arial"/>
              </a:rPr>
              <a:t>Simulation Results for HE_10 Configur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EE73-3E06-41E1-AB4C-A4FA04397B3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219320" y="1905120"/>
          <a:ext cx="6553080" cy="2859120"/>
        </p:xfrm>
        <a:graphic>
          <a:graphicData uri="http://schemas.openxmlformats.org/drawingml/2006/table">
            <a:tbl>
              <a:tblPr/>
              <a:tblGrid>
                <a:gridCol w="1900080"/>
                <a:gridCol w="1550880"/>
                <a:gridCol w="1551240"/>
                <a:gridCol w="1550880"/>
              </a:tblGrid>
              <a:tr h="3124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_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4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3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2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553-8D30-4011-85B9-24634E0A891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jective Evaluation: Conditions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533520" y="152388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and room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2”, 1080p, Viera-class Panasonic plasma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jects sat 2 to 4 feet from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ing angle never exceeded 45 deg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rkened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sequences w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side-by-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in a randomized single blind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ed at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yed twice in immediate succession with five-to-ten second pauses between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590B-DB93-4045-903D-1EAC7742D39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ctive Quality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663480" y="1219320"/>
          <a:ext cx="7947000" cy="4800600"/>
        </p:xfrm>
        <a:graphic>
          <a:graphicData uri="http://schemas.openxmlformats.org/drawingml/2006/table">
            <a:tbl>
              <a:tblPr/>
              <a:tblGrid>
                <a:gridCol w="1241640"/>
                <a:gridCol w="850680"/>
                <a:gridCol w="1179720"/>
                <a:gridCol w="1177920"/>
                <a:gridCol w="947520"/>
                <a:gridCol w="2549520"/>
              </a:tblGrid>
              <a:tr h="5522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ew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M-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</a:tr>
              <a:tr h="209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viewers noted that the proposed version is slightly better or the same as the ancho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ve viewers noted that the proposed version is slightly better or the same as the anch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8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ur Peo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ve viewers noted that the proposed version is slightly better or the same as the anch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x viewers noted that the proposed version is slightly better or the same as the ancho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eHorse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d2d8a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viewers noted that the anchor is slightly worse than the proposed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2d8a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, 73% either preferred the proposed version or expressed no clear preferen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E99C-0695-4E3C-8393-F43C66A8C731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LF decision process all segment-b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ity relative to HM 6.0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coding efficienc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ing the deci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in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subjective overall qu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Hassoun</dc:creator>
  <dc:description/>
  <dc:language>en-US</dc:language>
  <cp:lastModifiedBy>ebrisk</cp:lastModifiedBy>
  <cp:lastPrinted>2009-04-22T19:24:48Z</cp:lastPrinted>
  <dcterms:modified xsi:type="dcterms:W3CDTF">2012-04-27T23:09:58Z</dcterms:modified>
  <cp:revision>2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