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5C835A-A44E-4F33-8E0F-6B5EAF869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337678-7BD0-4FE5-AB83-8D1B7D0F7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5284FA-D149-41AD-A8F3-C95183BBA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7E16C8-DE18-43F1-872A-3F35B2F16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0829-4F07-44C4-A8C6-B6261FBF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51BD-5E21-477B-81E7-20E56E1D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9E8A-0B52-4B4E-9A7B-1724C7D3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473C-45E1-436E-95C7-24C5024C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0C49-BD5B-4D33-8CA1-77C2B2BE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849-0FA2-4E42-AA4C-ECBE8A9F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7DE-0ACA-4A86-A2CE-7DF0DA82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F58-431F-4BD9-BA70-55A823E6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A480-8B3E-40CB-8A6D-2A51BA8A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679B-5123-4B47-A71A-9C03CD93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25BC-2D31-4087-9FFE-4ADCF75B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EE1-3BC9-4DDD-9D74-CB5C3FAB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06A5-49F1-4099-A4A7-A97DDC2B24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4.png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CTVC-I0341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ed CABAC for lossless com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ng-Hwan Kim, Andrew Seg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E40C-B667-45D7-8538-CF53A29A89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952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ossless coding mode was included in CD at last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fficient CABAC for lossless 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Residual sample (not transformed and quantized coefficient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We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굴림"/>
              </a:rPr>
              <a:t>Minimum changes in existing CABAC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굴림"/>
              </a:rPr>
              <a:t>Improved coding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굴림"/>
              </a:rPr>
              <a:t>Simplified context selection (increased throughp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48E1-883E-4312-95DF-C559F03B0C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26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Inv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9144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굴림"/>
              </a:rPr>
              <a:t>Remove frequency (scanning position) dependent contexts for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굴림"/>
              </a:rPr>
              <a:t>Significance ma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굴림"/>
              </a:rPr>
              <a:t>Greater_than_1 fla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176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176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굴림"/>
              </a:rPr>
              <a:t>Benefit: Simplified context derivation for lossless coding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굴림"/>
              </a:rPr>
              <a:t>Improved throughpu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굴림"/>
              </a:rPr>
              <a:t>Context reduction (for all lossless application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Slide Number Placeholder 1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898D-77AA-4667-A8A9-9AEF2DCB936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272268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d the number of contex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380880" y="114300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r propo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371600" y="3809880"/>
          <a:ext cx="6324480" cy="1494000"/>
        </p:xfrm>
        <a:graphic>
          <a:graphicData uri="http://schemas.openxmlformats.org/drawingml/2006/table">
            <a:tbl>
              <a:tblPr/>
              <a:tblGrid>
                <a:gridCol w="2743200"/>
                <a:gridCol w="887400"/>
                <a:gridCol w="898560"/>
                <a:gridCol w="896760"/>
                <a:gridCol w="898560"/>
              </a:tblGrid>
              <a:tr h="2440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ntax 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_S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/B S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6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o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6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o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44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nt_coeff_f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244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_abs_level_greater1_f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ext Sav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.1% Sa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560" y="1143000"/>
            <a:ext cx="4228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proposed method into HM 6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est : Lossless test condition (QP=0 for Main, QP=-12 for HE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mproved coding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I: -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RA: -.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D: -.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369E-15AD-4A53-A50A-D67F43B6A9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48320" y="1066680"/>
          <a:ext cx="4141800" cy="5029200"/>
        </p:xfrm>
        <a:graphic>
          <a:graphicData uri="http://schemas.openxmlformats.org/drawingml/2006/table">
            <a:tbl>
              <a:tblPr/>
              <a:tblGrid>
                <a:gridCol w="253800"/>
                <a:gridCol w="658800"/>
                <a:gridCol w="538200"/>
                <a:gridCol w="538200"/>
                <a:gridCol w="538200"/>
                <a:gridCol w="538200"/>
                <a:gridCol w="538200"/>
                <a:gridCol w="538200"/>
              </a:tblGrid>
              <a:tr h="1224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Mai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9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ion rat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saving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ion rat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saving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(w/o 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(w/ 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c4bd97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c4bd97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c4bd97"/>
                          </a:solidFill>
                          <a:latin typeface="Arial"/>
                        </a:rPr>
                        <a:t>-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Mai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ion rat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saving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ion rat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saving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(w/o 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(w/ 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Mai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ion rat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saving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ion rat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saving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(w/o 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(w/ 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CABAC for lossles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frequency dependent context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implified context selection (improved through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ding efficiency improvemen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-0.2% ~ -0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ntext reduction (for lossless only appl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0080" indent="-1278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90.1% context reduction for 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nificance map and greater_than_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8F98-A5C4-458F-8060-A4C6F9D4E5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20:05:40Z</dcterms:created>
  <dc:creator>lkerofsky</dc:creator>
  <dc:description/>
  <dc:language>en-US</dc:language>
  <cp:lastModifiedBy>Segall, Andrew</cp:lastModifiedBy>
  <dcterms:modified xsi:type="dcterms:W3CDTF">2012-04-29T07:44:02Z</dcterms:modified>
  <cp:revision>980</cp:revision>
  <dc:subject/>
  <dc:title>Slide 1</dc:title>
</cp:coreProperties>
</file>