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2F40C6-CE34-4637-AE3A-74968E70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8CA72-E87F-4705-BAE9-A4340EE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8358D4-C937-4D5A-9969-741D3F9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F7A92-3CA1-4A72-9E96-667B5C2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72A58-0075-4B8C-840E-E47580FF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10DE8-7DD2-463E-8654-88D5B61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51874-F0C2-4CD4-8698-9D8088B2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DFA454-69A4-4FEC-921F-45E1BDA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D4C26-A43C-4E6A-8964-45BAF82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1DD495-DB77-46CF-8CA1-40D7DB63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77060-0330-4C11-865C-7DA55400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518DC6-4BC1-4C5E-B1E0-F33D9014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3CC-3C9F-4794-BE32-C6530E72980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93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E13-51BE-44DD-9EC0-2A79E8B69BB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37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D3F-F202-46FB-B431-C106C9D1312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Isosceles Triangle 10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41F-B83D-4A68-9D62-0BFD3748811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23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EA8C-6F27-4CCB-8043-56ECA6CD27F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66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769C-81C1-4483-A1F9-6E3911209C8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86C0-C282-4483-858C-F5A24F74CA6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10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5"/>
          </p:nvPr>
        </p:nvSpPr>
        <p:spPr>
          <a:xfrm>
            <a:off x="301320" y="6665760"/>
            <a:ext cx="338436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JCTVC-I0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37D-A452-4731-B066-0EDF333270B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53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16"/>
          </p:nvPr>
        </p:nvSpPr>
        <p:spPr>
          <a:xfrm>
            <a:off x="301320" y="6659280"/>
            <a:ext cx="3384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695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F17D-A695-4457-828F-3AA131AD7D0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1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38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128-F224-441C-8F12-2D51B2F90FD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1" descr="Template-No-ba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81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9539-1C56-4368-ADD0-364F58DF20B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1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AC7-9ADA-4AB2-9464-3ED3F5602CA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825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2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67A3-E52E-4047-9C4D-E41284FF6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-title.png"/>
          <p:cNvPicPr/>
          <p:nvPr/>
        </p:nvPicPr>
        <p:blipFill>
          <a:blip r:embed="rId3"/>
          <a:stretch/>
        </p:blipFill>
        <p:spPr>
          <a:xfrm>
            <a:off x="236520" y="5210280"/>
            <a:ext cx="161280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hadow.png"/>
          <p:cNvPicPr/>
          <p:nvPr/>
        </p:nvPicPr>
        <p:blipFill>
          <a:blip r:embed="rId3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hadow.png"/>
          <p:cNvPicPr/>
          <p:nvPr/>
        </p:nvPicPr>
        <p:blipFill>
          <a:blip r:embed="rId4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17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0CC-456B-4D40-8FE3-9882E33585A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21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0BB-9624-4D93-957D-8B4C82D0844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6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shadow.png"/>
          <p:cNvPicPr/>
          <p:nvPr/>
        </p:nvPicPr>
        <p:blipFill>
          <a:blip r:embed="rId3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hadow.png"/>
          <p:cNvPicPr/>
          <p:nvPr/>
        </p:nvPicPr>
        <p:blipFill>
          <a:blip r:embed="rId4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A30B-A9B5-4411-9123-D4E742B9F51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30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EF5-0578-404A-AB99-D7D90FA6907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49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85F-2ABE-4FED-B343-E33AFE75E7A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4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Restricting Slice Boundaries to LCU Granulari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JCTVC-I0313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022640" y="4930560"/>
            <a:ext cx="467856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86a9"/>
                </a:solidFill>
                <a:latin typeface="Arial"/>
              </a:rPr>
              <a:t>Tim Hellman and Wade W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22640" y="5667120"/>
            <a:ext cx="46864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roadcom Corpor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ice Granularity Complex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3760" y="1370160"/>
            <a:ext cx="84582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xt allows slices to a 16x16 granularit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roduces very complicated slice pattern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ven worse when upper-row availability is added i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Object 1"/>
          <p:cNvGraphicFramePr/>
          <p:nvPr/>
        </p:nvGraphicFramePr>
        <p:xfrm>
          <a:off x="228600" y="2057400"/>
          <a:ext cx="863280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6328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rtunity fo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83760" y="1370160"/>
            <a:ext cx="8458200" cy="52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iagonal availability above &amp; below (SAO/ALF filter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Upper-row availability calculation is complicate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ffects vector generation, spatial prediction, CABAC, filter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lter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F has to pad all these boundaries!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3 pages of text to describe this padding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block can have different offsets for every on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any, many corner cas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Interoperabilty nightma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7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we have i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3760" y="1370160"/>
            <a:ext cx="8458200" cy="57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TU size matching (1500 bytes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dded: March 201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ason: allows closer matching of packet size to MTU size, for single slice/packe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How much does this really gain us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64x64 LCU: 5-8% loss of packing efficiency w/o fine-grain (E02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s means: 5-8% more packets would be generate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acket Header Overhea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TP = 82 bytes.  Round up to 100 bytes: 7% of an MTU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8% more packets with 7% overhead = 0.56% bit-rate increa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s is dwarfed by the loss of putting one slice/packet (~5%)!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s this a good complexity tradeoff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pplication could just use a smaller LCU siz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im Hellman</dc:creator>
  <dc:description/>
  <dc:language>en-US</dc:language>
  <cp:lastModifiedBy>Tim Hellman</cp:lastModifiedBy>
  <dcterms:modified xsi:type="dcterms:W3CDTF">2012-04-29T08:10:22Z</dcterms:modified>
  <cp:revision>50</cp:revision>
  <dc:subject/>
  <dc:title>Slide 1</dc:title>
</cp:coreProperties>
</file>